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265B-635F-4753-A561-A66F58C4F2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8EB8-6142-455B-B926-A3D39D37DD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7B1F-25B4-452E-8499-64AEA21A76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102B-D828-4F96-9C2E-D9D95151EC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F169-C5E7-43E2-AAB2-5C0199B862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4E31-F2E5-4596-BBA4-E61218CB032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4A5C-5267-432F-8D96-36B8E36C1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3C53-1096-4941-96E2-1426D612B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C88F-F910-4D4E-A280-F77DD4068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127D-CAAA-4715-948B-917CAC107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0B02-6361-4C9C-B5CA-0D3A7BB466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3AFE-7F4C-43D8-B1E1-198B218D7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BD06-A145-45BE-A35B-9291D1193E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055C-3386-41AC-912E-4A8EA8C806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7451-10D9-49ED-AEF8-89EF1688BC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C394-E8E7-45BF-B166-6C1836514F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6555-3E5A-42EB-861C-BEC32467E2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6F5-AE40-4CF5-AC62-2DC1D3FC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B9E-4B41-4021-A614-14B8201C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2A4-EA22-4DA6-AC3F-AC369D29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261-D840-48C2-A0A8-86887D5C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E83-E5D0-44CB-9C6E-E474E6F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0EA-53F0-4734-AF96-10ADE727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AC9-DA65-44CA-957D-9C65AF60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FD8-AB81-492E-8DA3-8077BDB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473-72DC-4D14-9268-17598BE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F1E-3310-48F5-A437-FB274AC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D64-3174-4736-B82D-78EE3682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96C-42F5-4FE5-A7CF-741A47C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3DA8-7CEA-4F9D-95A8-39D362517D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A8FE-3310-48B3-A351-A3E71EA107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Line 2"/>
          <p:cNvSpPr/>
          <p:nvPr/>
        </p:nvSpPr>
        <p:spPr>
          <a:xfrm>
            <a:off x="1366920" y="1728720"/>
            <a:ext cx="775152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5560" y="44280"/>
            <a:ext cx="2044440" cy="1695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590920" y="609480"/>
            <a:ext cx="4495680" cy="109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2- Viru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966840" y="2286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PTER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3F16-7D94-4A2B-BBA8-A49A37E515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28600" y="672840"/>
            <a:ext cx="5029200" cy="54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226440" y="6431040"/>
            <a:ext cx="1969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ig. 18.2d Page 3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49920" y="76320"/>
            <a:ext cx="3241800" cy="67053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B24-B909-41BC-9D49-852774BD22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2133720" y="914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371600" y="763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6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04920" y="4122720"/>
            <a:ext cx="861048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ath of the h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y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33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4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4EDD-7AFB-48AA-981F-57913FD923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151560" y="640080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4, Page 3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58" name="AutoShape 6"/>
            <p:cNvSpPr/>
            <p:nvPr/>
          </p:nvSpPr>
          <p:spPr>
            <a:xfrm>
              <a:off x="3321360" y="3050280"/>
              <a:ext cx="214920" cy="6951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5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68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1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4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79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2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86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5B79-BD3A-4591-959A-9D58F54C04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6320" y="1254240"/>
            <a:ext cx="861048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e immediately turn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3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7148160" y="3385800"/>
              <a:ext cx="1816200" cy="65232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4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20"/>
          <p:cNvSpPr/>
          <p:nvPr/>
        </p:nvSpPr>
        <p:spPr>
          <a:xfrm>
            <a:off x="695160" y="457200"/>
            <a:ext cx="79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31B4-35BC-4242-BAA9-14D553D60D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983D-2379-4690-8562-4EA350FB72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457200" y="6186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D: Chapter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15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>
              <a:off x="6581520" y="2573280"/>
              <a:ext cx="2028600" cy="65268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5257800" y="41292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فيروس غير ممي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29" name="AutoShape 24"/>
            <p:cNvSpPr/>
            <p:nvPr/>
          </p:nvSpPr>
          <p:spPr>
            <a:xfrm>
              <a:off x="2379960" y="2062080"/>
              <a:ext cx="268920" cy="76608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36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39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2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45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0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53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3"/>
          <p:cNvSpPr/>
          <p:nvPr/>
        </p:nvSpPr>
        <p:spPr>
          <a:xfrm>
            <a:off x="1405080" y="3824280"/>
            <a:ext cx="20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4"/>
          <p:cNvSpPr/>
          <p:nvPr/>
        </p:nvSpPr>
        <p:spPr>
          <a:xfrm>
            <a:off x="1555920" y="40528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6"/>
          <p:cNvSpPr/>
          <p:nvPr/>
        </p:nvSpPr>
        <p:spPr>
          <a:xfrm>
            <a:off x="1290600" y="4788000"/>
            <a:ext cx="22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7"/>
          <p:cNvSpPr/>
          <p:nvPr/>
        </p:nvSpPr>
        <p:spPr>
          <a:xfrm>
            <a:off x="5323320" y="4788000"/>
            <a:ext cx="27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6DD0-B3C7-45D7-BE41-25CD6CA586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70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1" descr=""/>
          <p:cNvPicPr/>
          <p:nvPr/>
        </p:nvPicPr>
        <p:blipFill>
          <a:blip r:embed="rId4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2" descr=""/>
          <p:cNvPicPr/>
          <p:nvPr/>
        </p:nvPicPr>
        <p:blipFill>
          <a:blip r:embed="rId5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B03F-D6C3-4A9F-A827-EC19C6CFB2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28600" y="158724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al membrane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أغشية داخلي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artmentalize 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أعضاء وظيفي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unctions of a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76320" y="6477120"/>
            <a:ext cx="100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F1D3-ADD8-42A5-BB88-BCE679103E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3581280" y="99072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2666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1523880" y="3763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5715000" y="3687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6"/>
          <p:cNvGrpSpPr/>
          <p:nvPr/>
        </p:nvGrpSpPr>
        <p:grpSpPr>
          <a:xfrm>
            <a:off x="2743200" y="2286000"/>
            <a:ext cx="3962520" cy="1401120"/>
            <a:chOff x="2743200" y="2286000"/>
            <a:chExt cx="3962520" cy="1401120"/>
          </a:xfrm>
        </p:grpSpPr>
        <p:sp>
          <p:nvSpPr>
            <p:cNvPr id="484" name="Line 7"/>
            <p:cNvSpPr/>
            <p:nvPr/>
          </p:nvSpPr>
          <p:spPr>
            <a:xfrm>
              <a:off x="4648320" y="22860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8"/>
            <p:cNvSpPr/>
            <p:nvPr/>
          </p:nvSpPr>
          <p:spPr>
            <a:xfrm>
              <a:off x="2743200" y="30866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9"/>
            <p:cNvSpPr/>
            <p:nvPr/>
          </p:nvSpPr>
          <p:spPr>
            <a:xfrm flipH="1">
              <a:off x="2743200" y="30866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0"/>
            <p:cNvSpPr/>
            <p:nvPr/>
          </p:nvSpPr>
          <p:spPr>
            <a:xfrm flipH="1">
              <a:off x="6692760" y="30866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Oval 11"/>
          <p:cNvSpPr/>
          <p:nvPr/>
        </p:nvSpPr>
        <p:spPr>
          <a:xfrm>
            <a:off x="3429000" y="914400"/>
            <a:ext cx="2514600" cy="1066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304920" y="6415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ge 114 - 1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76320" y="55166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228600" y="4983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2DEA-AA00-48B4-B82B-DF9E509FC1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228600"/>
            <a:ext cx="8858520" cy="581328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4"/>
          <p:cNvSpPr/>
          <p:nvPr/>
        </p:nvSpPr>
        <p:spPr>
          <a:xfrm>
            <a:off x="74160" y="64771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7,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886200" y="5334120"/>
            <a:ext cx="9907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685800" y="1219320"/>
            <a:ext cx="9907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5791320" y="4800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6781680" y="44197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6781680" y="39625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7162920" y="32767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838080" y="57913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3733920" y="5638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457200" y="2438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533520" y="1523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1676520" y="152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0"/>
          <p:cNvSpPr/>
          <p:nvPr/>
        </p:nvSpPr>
        <p:spPr>
          <a:xfrm>
            <a:off x="7112160" y="723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5435640" y="101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2"/>
          <p:cNvSpPr/>
          <p:nvPr/>
        </p:nvSpPr>
        <p:spPr>
          <a:xfrm>
            <a:off x="6400800" y="533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3"/>
          <p:cNvSpPr/>
          <p:nvPr/>
        </p:nvSpPr>
        <p:spPr>
          <a:xfrm>
            <a:off x="5702400" y="927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533520" y="4540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F9CB-43FE-4012-B1EB-EB574D3C28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5258880" y="6324480"/>
            <a:ext cx="2058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g. 18.1, Page 32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80160" y="3886200"/>
            <a:ext cx="395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32560" y="12193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e is about 20nm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5853-1888-49D9-A336-7D58B1BC21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4"/>
          <p:cNvSpPr/>
          <p:nvPr/>
        </p:nvSpPr>
        <p:spPr>
          <a:xfrm>
            <a:off x="74160" y="64771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8,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51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Text Box 11"/>
          <p:cNvSpPr/>
          <p:nvPr/>
        </p:nvSpPr>
        <p:spPr>
          <a:xfrm>
            <a:off x="69343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7010280" y="499104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4267080" y="591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1143000" y="52578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DF96-092A-48B9-98E8-DDE099B9B7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C081-7726-47D9-A7D4-205B9743A2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685800" y="34290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457200" y="1905120"/>
            <a:ext cx="2133360" cy="1752480"/>
            <a:chOff x="457200" y="1905120"/>
            <a:chExt cx="2133360" cy="1752480"/>
          </a:xfrm>
        </p:grpSpPr>
        <p:sp>
          <p:nvSpPr>
            <p:cNvPr id="66" name="Text Box 18"/>
            <p:cNvSpPr/>
            <p:nvPr/>
          </p:nvSpPr>
          <p:spPr>
            <a:xfrm>
              <a:off x="457200" y="19051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D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1310400" y="2286000"/>
              <a:ext cx="85284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4"/>
          <p:cNvGrpSpPr/>
          <p:nvPr/>
        </p:nvGrpSpPr>
        <p:grpSpPr>
          <a:xfrm>
            <a:off x="457200" y="4495320"/>
            <a:ext cx="3200400" cy="993240"/>
            <a:chOff x="457200" y="4495320"/>
            <a:chExt cx="3200400" cy="993240"/>
          </a:xfrm>
        </p:grpSpPr>
        <p:sp>
          <p:nvSpPr>
            <p:cNvPr id="69" name="Text Box 16"/>
            <p:cNvSpPr/>
            <p:nvPr/>
          </p:nvSpPr>
          <p:spPr>
            <a:xfrm>
              <a:off x="457200" y="50288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0"/>
            <p:cNvSpPr/>
            <p:nvPr/>
          </p:nvSpPr>
          <p:spPr>
            <a:xfrm flipH="1" flipV="1">
              <a:off x="1904760" y="44953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23"/>
          <p:cNvSpPr/>
          <p:nvPr/>
        </p:nvSpPr>
        <p:spPr>
          <a:xfrm>
            <a:off x="45720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 is a genome enclosed in a protective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457200" y="3200400"/>
            <a:ext cx="3048120" cy="1295280"/>
          </a:xfrm>
          <a:prstGeom prst="roundRect">
            <a:avLst>
              <a:gd name="adj" fmla="val 16667"/>
            </a:avLst>
          </a:prstGeom>
          <a:solidFill>
            <a:srgbClr val="0000ff">
              <a:alpha val="51000"/>
            </a:srgbClr>
          </a:solidFill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4865760" y="1066680"/>
            <a:ext cx="3978360" cy="5578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6"/>
          <p:cNvSpPr/>
          <p:nvPr/>
        </p:nvSpPr>
        <p:spPr>
          <a:xfrm>
            <a:off x="2880" y="6477120"/>
            <a:ext cx="23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18.2a &amp; b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ge 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9A38-4AA0-4231-BF44-DC53B5A56F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2320" y="83880"/>
            <a:ext cx="670536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63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64911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ge 329, 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1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0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4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83"/>
          <p:cNvSpPr/>
          <p:nvPr/>
        </p:nvSpPr>
        <p:spPr>
          <a:xfrm>
            <a:off x="1219320" y="541008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x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58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36F6-1F80-43DE-9057-D905C663F8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960" y="1266840"/>
            <a:ext cx="5257800" cy="42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y also have some viral proteins and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glycoprotein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rcRect l="48002" t="0" r="23499" b="4174"/>
          <a:stretch/>
        </p:blipFill>
        <p:spPr>
          <a:xfrm>
            <a:off x="5257800" y="152280"/>
            <a:ext cx="3551400" cy="6629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49760" y="6384960"/>
            <a:ext cx="1988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g. 18.2c, Page 3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881D-62F0-405F-8C7E-C2B13DC8CC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6320" y="6324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0492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Viral Genome: (</a:t>
            </a: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Hereditary material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6320" y="1297080"/>
            <a:ext cx="8381880" cy="43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depending on the specific type of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our ge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veral hund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08CB-8F50-4248-A9D3-2CFAFE68A9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04920" y="8380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DNA enclosed in a protein coat (membranous envelo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80880" y="14479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52280" y="76320"/>
            <a:ext cx="50292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304920" y="43434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Reproduced only within a living host ce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0880" y="32004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y lack enzymes for metabol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04920" y="3733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Have no ribosomes for making their own prote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920" y="22096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Each type of virus infects a limited range of host cell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host ra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304920" y="516564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irus binds only to certain white bloo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9EFA-32A5-4D2D-B3EC-5FD3B7BDA1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52280"/>
            <a:ext cx="556236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1219320"/>
            <a:ext cx="3581280" cy="426708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080"/>
              <a:gd name="textAreaBottom" fmla="*/ 4092480 h 4267080"/>
            </a:gdLst>
            <a:ahLst/>
            <a:rect l="textAreaLeft" t="textAreaTop" r="textAreaRight" b="textAreaBottom"/>
            <a:pathLst>
              <a:path w="21600" h="25736">
                <a:moveTo>
                  <a:pt x="3600" y="0"/>
                </a:moveTo>
                <a:arcTo wR="3600" hR="3600" stAng="16200000" swAng="-5400000"/>
                <a:lnTo>
                  <a:pt x="0" y="22136"/>
                </a:lnTo>
                <a:arcTo wR="3600" hR="3600" stAng="10800000" swAng="-5400000"/>
                <a:lnTo>
                  <a:pt x="18000" y="257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39680"/>
            <a:ext cx="901440" cy="927000"/>
            <a:chOff x="6248520" y="13968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21600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39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216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330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39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482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635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774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851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216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7491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330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4572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609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851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90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91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368280"/>
              <a:ext cx="466560" cy="457200"/>
              <a:chOff x="6467400" y="36828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36828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41256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80880" y="16905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 the cell and releases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1816200"/>
            <a:ext cx="901440" cy="927000"/>
            <a:chOff x="6248520" y="181620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18162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1892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2006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1816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21592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2311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24512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2527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18925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24256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2006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2133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22860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25275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2578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25909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2057400"/>
            <a:ext cx="466200" cy="457200"/>
            <a:chOff x="6477120" y="205740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205740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210168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2666880"/>
            <a:ext cx="466200" cy="457200"/>
            <a:chOff x="5562720" y="266688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266688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271116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533520" y="25588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ion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2666880"/>
            <a:ext cx="432000" cy="412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533520" y="3549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tion of new capsids protein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37339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4191120"/>
            <a:ext cx="749520" cy="761760"/>
            <a:chOff x="7467480" y="419112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4343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44956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43560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41911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44956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4648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4724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43560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46353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4800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4356000"/>
            <a:ext cx="901440" cy="927000"/>
            <a:chOff x="6248520" y="435600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44323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4356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4432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4546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4356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4699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4851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4991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5067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4432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49654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4546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4673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48258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5067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5118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51307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4584600"/>
              <a:ext cx="466560" cy="457200"/>
              <a:chOff x="6467400" y="458460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458460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462888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4343400"/>
            <a:ext cx="901440" cy="927000"/>
            <a:chOff x="6248520" y="434340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4419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4343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4419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4343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4686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4838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4978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5054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44197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49528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46609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48132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5054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5105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51181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4572000"/>
              <a:ext cx="466560" cy="457200"/>
              <a:chOff x="6467400" y="457200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457200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461628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4343400"/>
            <a:ext cx="901440" cy="927000"/>
            <a:chOff x="6248520" y="434340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4419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4343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4419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4343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4686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4838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4978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5054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44197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49528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46609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48132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5054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5105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51181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4572000"/>
              <a:ext cx="466560" cy="457200"/>
              <a:chOff x="6467400" y="457200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457200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461628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4343400"/>
            <a:ext cx="901440" cy="927000"/>
            <a:chOff x="6248520" y="434340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4419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4343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4419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4343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4686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4838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4978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5054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44197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49528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46609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48132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5054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5105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51181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4572000"/>
              <a:ext cx="466560" cy="457200"/>
              <a:chOff x="6467400" y="457200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457200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461628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61"/>
          <p:cNvSpPr/>
          <p:nvPr/>
        </p:nvSpPr>
        <p:spPr>
          <a:xfrm>
            <a:off x="304920" y="6324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331 (Fig. 18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64"/>
          <p:cNvGrpSpPr/>
          <p:nvPr/>
        </p:nvGrpSpPr>
        <p:grpSpPr>
          <a:xfrm>
            <a:off x="7848720" y="152280"/>
            <a:ext cx="1218960" cy="1143000"/>
            <a:chOff x="7848720" y="152280"/>
            <a:chExt cx="1218960" cy="1143000"/>
          </a:xfrm>
        </p:grpSpPr>
        <p:sp>
          <p:nvSpPr>
            <p:cNvPr id="327" name="Text Box 162"/>
            <p:cNvSpPr/>
            <p:nvPr/>
          </p:nvSpPr>
          <p:spPr>
            <a:xfrm>
              <a:off x="7848720" y="15228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3"/>
            <p:cNvSpPr/>
            <p:nvPr/>
          </p:nvSpPr>
          <p:spPr>
            <a:xfrm flipH="1">
              <a:off x="7924680" y="68580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165"/>
          <p:cNvSpPr/>
          <p:nvPr/>
        </p:nvSpPr>
        <p:spPr>
          <a:xfrm>
            <a:off x="6553080" y="32907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6"/>
          <p:cNvSpPr/>
          <p:nvPr/>
        </p:nvSpPr>
        <p:spPr>
          <a:xfrm>
            <a:off x="7315200" y="490536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7"/>
          <p:cNvSpPr/>
          <p:nvPr/>
        </p:nvSpPr>
        <p:spPr>
          <a:xfrm>
            <a:off x="717480" y="68580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170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18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18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0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1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4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44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265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27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27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9361-0EAF-4DBF-BFF3-A444B4EA17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37440" y="647712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3, Page 3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Ahmed</cp:lastModifiedBy>
  <dcterms:modified xsi:type="dcterms:W3CDTF">2009-03-03T11:02:58Z</dcterms:modified>
  <cp:revision>4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