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D803-49F7-437D-8D32-568A35257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F1C0-6AEC-4ED2-8273-9A5583ACA5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C787-3B50-4263-84A7-713A35E08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91A3-5D8F-4485-A8B9-070FECDE1E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AE75-C62D-4657-8F97-9335C7CED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2BFB-5052-4093-9372-49698C00FE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3E35-E176-4FC8-8F04-ACE1DFC27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1ED2-48A3-4394-90A3-C39A8D2B4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5BE7-238B-4B86-B06E-EB6E3BAC9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7CF3-6A2E-48F9-83AD-6DF320AE12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1D5A-2C09-4AC8-8DB6-15768A3F4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6BAA-DBB9-4A5C-8A9B-7D5D7C042B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B0D5-3AA3-4DA2-A6A9-8153037024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49D-893B-4EDC-B840-99C3F19B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11D-631E-4D6B-B747-24DCC268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C9A-338F-47EB-A966-1E7B5354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F62-2A61-4EED-A9FE-56284055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F11-B503-464A-A257-9F1DBC7F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173-ABAD-4971-B61A-989E1F2C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F06-F1A0-44A1-AEFA-43581770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A7B-1DB9-45BA-8E1F-A101C63A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788-4A6A-4971-B4C3-51008BE2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36C-5CAC-477D-8734-1393EEB8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A0A-0138-4D2C-8BA5-995EE65B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E7E-54F7-49A8-AC69-80EC526E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D8B6-144A-4772-9214-84A2A1DDB8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D4AA-6CEA-42D2-AFC6-E2460BFE63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5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14300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828800" y="7452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APTER 15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6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9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60" name="Picture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0F67-217E-404B-9231-35693882CB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320" y="304560"/>
            <a:ext cx="90676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)-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neuploid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ى غير التام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240" y="656100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5.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1295280" y="2971800"/>
            <a:ext cx="7010280" cy="3503520"/>
            <a:chOff x="1295280" y="2971800"/>
            <a:chExt cx="7010280" cy="3503520"/>
          </a:xfrm>
        </p:grpSpPr>
        <p:pic>
          <p:nvPicPr>
            <p:cNvPr id="106" name="Picture 3" descr=""/>
            <p:cNvPicPr/>
            <p:nvPr/>
          </p:nvPicPr>
          <p:blipFill>
            <a:blip r:embed="rId1"/>
            <a:stretch/>
          </p:blipFill>
          <p:spPr>
            <a:xfrm>
              <a:off x="1295280" y="2971800"/>
              <a:ext cx="7010280" cy="35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Oval 5"/>
            <p:cNvSpPr/>
            <p:nvPr/>
          </p:nvSpPr>
          <p:spPr>
            <a:xfrm>
              <a:off x="3555720" y="5918040"/>
              <a:ext cx="457200" cy="304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676C-8270-49C0-AE81-3A5B653C0F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248760"/>
            <a:ext cx="8839440" cy="22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ases of Down syndrome result from nondisjunction             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دم الإنفصال الكامل للكروموسومات أثناء الإنقسام الميوز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gamete production in on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quenc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ِكرا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Down syndrome correlates with the age of the m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may be linked to some age-dependent abnormality in the spindle checkpoint dur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iosis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leading to nondisj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6320" y="2819520"/>
            <a:ext cx="89154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trisomy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Y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nd to somewhat tall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X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)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0622-9C82-43D4-9CC5-224C6AFD14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325080"/>
            <a:ext cx="8763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B)- Chromosoma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structure-alte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small head with unusual facial features, and a cry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28600" y="4567320"/>
            <a:ext cx="8610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yelogenous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Caused by chromosomal translocations since a fragment of chromosome 22 switches places with a small fragment from the tip of chromosome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9799-ABCB-4370-9920-BCD6B9978A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3808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52280" y="281952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6320" y="485460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75481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5.8, Page 27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Ahmed\Desktop\Picture1.jpg"/>
          <p:cNvPicPr/>
          <p:nvPr/>
        </p:nvPicPr>
        <p:blipFill>
          <a:blip r:embed="rId1"/>
          <a:stretch/>
        </p:blipFill>
        <p:spPr>
          <a:xfrm>
            <a:off x="5410080" y="914400"/>
            <a:ext cx="3297240" cy="56466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9730-F90C-4512-8DF4-33C1C4587E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6966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7B3F-502C-4A7C-9A1F-47F337CF7A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2860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rcRect l="0" t="0" r="0" b="7360"/>
          <a:stretch/>
        </p:blipFill>
        <p:spPr>
          <a:xfrm>
            <a:off x="609480" y="4114800"/>
            <a:ext cx="8001000" cy="2460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4320" y="65530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5.9, Page 27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4952880" y="1184400"/>
            <a:ext cx="4114800" cy="2625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400F-15B1-4314-BB9B-F5233ECC54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04920" y="63324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4920" y="37339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A814-F17A-41D4-AE7E-3DCC6DEDC8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228600" y="76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99072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ه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44484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1" lang="ar-EG" sz="1800" spc="-1" strike="noStrike">
                <a:solidFill>
                  <a:srgbClr val="0000ff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9C37-4850-4332-B914-3D456F5382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"/>
          <p:cNvGrpSpPr/>
          <p:nvPr/>
        </p:nvGrpSpPr>
        <p:grpSpPr>
          <a:xfrm>
            <a:off x="0" y="304920"/>
            <a:ext cx="8991360" cy="3374640"/>
            <a:chOff x="0" y="30492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30492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30492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6854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52280" y="3352680"/>
            <a:ext cx="8839440" cy="30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female mammal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ثديي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                                                       tw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romosomes, only o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romosome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males and females have the same effective dose (one copy ) of genes o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uring female development, one X chromosome per cell condenses into a compact object, 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arr bod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جسم بار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in somatic cel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is inactivates most of its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densed Barr body chromosome is reactivated in ovarian cells that produce o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1305-1449-4BCB-BC02-D35BF56163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914400"/>
            <a:ext cx="9067680" cy="59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52280" y="763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شذوذ الكروموسوم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22860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002C-2B13-4CFE-B6DA-1FFA1DC2EF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564840"/>
            <a:ext cx="8686800" cy="59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serious human disorders are due to these alteration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غيي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chromosome number and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he frequenc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حدُث مرار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euploid zygotes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لاقح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ـمتعددة الكروموس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quite high in humans, most of these alterations result in abor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جها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time before   bir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بل الولا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developmental problems results from an imbalance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م تواز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ng gen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ain aneuploid conditions decrease the imbalance effect, leading to survival to bir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ولو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ut these individuals have a set of symptom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عراض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syndromes) characteristic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مَيـِز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 the type of aneuploidy as following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Ahmed</cp:lastModifiedBy>
  <dcterms:modified xsi:type="dcterms:W3CDTF">2009-05-08T15:41:33Z</dcterms:modified>
  <cp:revision>86</cp:revision>
  <dc:subject/>
  <dc:title>Slide 1</dc:title>
</cp:coreProperties>
</file>