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2280-B007-496C-B815-8FAD763E81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551E-3155-4706-84B9-CECAE6058F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C042-DF35-4E86-AD00-1CD118FFFF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2356-0C6E-413F-85FA-81111B7D34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CF08-179B-4743-B114-9C286CD19F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7DBE-D2FE-4D20-ACAE-9C318ADEE7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6553-5736-4AC7-B6EE-65DE47C099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5EBA-689A-437C-A658-D327CD325C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8051-5A99-4BAB-AF0D-69A0D57410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CACD-B3B6-4F33-8919-A273A7E174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5E33-EC81-49B2-97AF-B4011E561C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5129-5447-4AB1-9B30-8D0BDF78FE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D90D-C5B3-4412-B90A-1E37E89576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80D2-F56D-476F-A6E6-BF6019CB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44F-010F-4FE9-AB9C-C9E746C7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8369-F8A0-431C-946F-04C3799B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A5EE-D1AD-41CA-985C-03981512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2087-8CA6-4791-8259-AE52DC84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850-E690-4968-93C2-B0DE1975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6656-754A-4B90-8B25-54F8FACB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97E9-A7B7-47E7-B8EC-726A3A27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56F2-8786-4C42-9A5B-1FA2CFAD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1FB-1C31-4C66-A6C5-596E7CBB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4FC-4DDD-4CD6-9510-AFFBA742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3AB-6849-430A-A2DB-155F77EB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D59E-0CA4-4997-9D7C-2A06D0DCBE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0B87-35FD-4049-A7D5-B8189FBB27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50000">
                <a:srgbClr val="bbe0e3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560" y="30240"/>
            <a:ext cx="1752480" cy="13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1143000" y="1676520"/>
            <a:ext cx="685800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tion B: Sex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828800" y="7452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APTER 15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ROMOSOMAL BASI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9"/>
          <p:cNvGrpSpPr/>
          <p:nvPr/>
        </p:nvGrpSpPr>
        <p:grpSpPr>
          <a:xfrm>
            <a:off x="812880" y="2457360"/>
            <a:ext cx="7569000" cy="2876760"/>
            <a:chOff x="812880" y="2457360"/>
            <a:chExt cx="7569000" cy="2876760"/>
          </a:xfrm>
        </p:grpSpPr>
        <p:grpSp>
          <p:nvGrpSpPr>
            <p:cNvPr id="56" name="Group 15"/>
            <p:cNvGrpSpPr/>
            <p:nvPr/>
          </p:nvGrpSpPr>
          <p:grpSpPr>
            <a:xfrm>
              <a:off x="812880" y="2457360"/>
              <a:ext cx="7569000" cy="2876760"/>
              <a:chOff x="812880" y="2457360"/>
              <a:chExt cx="7569000" cy="287676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812880" y="2457360"/>
                <a:ext cx="7569000" cy="2876760"/>
              </a:xfrm>
              <a:prstGeom prst="rect">
                <a:avLst/>
              </a:prstGeom>
              <a:solidFill>
                <a:srgbClr val="bbe0e3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" name="Group 14"/>
              <p:cNvGrpSpPr/>
              <p:nvPr/>
            </p:nvGrpSpPr>
            <p:grpSpPr>
              <a:xfrm>
                <a:off x="982440" y="2541600"/>
                <a:ext cx="7277400" cy="2674440"/>
                <a:chOff x="982440" y="2541600"/>
                <a:chExt cx="7277400" cy="2674440"/>
              </a:xfrm>
            </p:grpSpPr>
            <p:pic>
              <p:nvPicPr>
                <p:cNvPr id="59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510640" y="2541600"/>
                  <a:ext cx="5749200" cy="26564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60" name="Picture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82440" y="2563920"/>
                  <a:ext cx="5021280" cy="2652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1" name="Rectangle 16"/>
            <p:cNvSpPr/>
            <p:nvPr/>
          </p:nvSpPr>
          <p:spPr>
            <a:xfrm>
              <a:off x="6004080" y="2507760"/>
              <a:ext cx="14544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7"/>
            <p:cNvSpPr/>
            <p:nvPr/>
          </p:nvSpPr>
          <p:spPr>
            <a:xfrm>
              <a:off x="3457080" y="2507760"/>
              <a:ext cx="72720" cy="2758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8"/>
            <p:cNvSpPr/>
            <p:nvPr/>
          </p:nvSpPr>
          <p:spPr>
            <a:xfrm>
              <a:off x="910080" y="2496600"/>
              <a:ext cx="5094000" cy="66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20"/>
          <p:cNvSpPr/>
          <p:nvPr/>
        </p:nvSpPr>
        <p:spPr>
          <a:xfrm>
            <a:off x="228600" y="5470560"/>
            <a:ext cx="8763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0935-F2AB-4E9C-A190-66450D21CE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320" y="304560"/>
            <a:ext cx="906768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)-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neuploid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al  duplication)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عدد الكروموسومى غير التام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- Down syndrom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somy in autoso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ue to three copies of chromosome 21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som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مجموعات كروموسومية ثلاث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chromosome 21 is the smallest human chromosome, it severely alter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غ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ndividual’s phenotype in specific way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240" y="656100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5.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6"/>
          <p:cNvGrpSpPr/>
          <p:nvPr/>
        </p:nvGrpSpPr>
        <p:grpSpPr>
          <a:xfrm>
            <a:off x="1295280" y="2971800"/>
            <a:ext cx="7010280" cy="3503520"/>
            <a:chOff x="1295280" y="2971800"/>
            <a:chExt cx="7010280" cy="3503520"/>
          </a:xfrm>
        </p:grpSpPr>
        <p:pic>
          <p:nvPicPr>
            <p:cNvPr id="106" name="Picture 3" descr=""/>
            <p:cNvPicPr/>
            <p:nvPr/>
          </p:nvPicPr>
          <p:blipFill>
            <a:blip r:embed="rId1"/>
            <a:stretch/>
          </p:blipFill>
          <p:spPr>
            <a:xfrm>
              <a:off x="1295280" y="2971800"/>
              <a:ext cx="7010280" cy="35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Oval 5"/>
            <p:cNvSpPr/>
            <p:nvPr/>
          </p:nvSpPr>
          <p:spPr>
            <a:xfrm>
              <a:off x="3555720" y="5918040"/>
              <a:ext cx="457200" cy="304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851C-667A-430D-8234-3BE5F75775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2280" y="248760"/>
            <a:ext cx="8839440" cy="22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ases of Down syndrome result from nondisjunction             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دم الإنفصال الكامل للكروموسومات أثناء الإنقسام الميوز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gamete production in one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quenc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ِكرا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Down syndrome correlates with the age of the m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may be linked to some age-dependent abnormality in the spindle checkpoint dur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eiosis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leading to nondisj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6320" y="2819520"/>
            <a:ext cx="89154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- Klinefelter’s syndr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ploidy (2n + 1), trisomy in sex chromoso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a)-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X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m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ccurs once in every 2000 live bir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se individuals have male sex organs, but are ster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e may be feminine characteristic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له صفات أنثوي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but their intelligence is norm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b)-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Y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male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end to somewhat taller than 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(c)- A trisomy female (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XXX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)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occurs once in every 2000 live births, produces healthy fem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- Turner’s syndrome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 monosomy fema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occurs once in every 5000 births, produces phenotypic, but immature fema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غير ناضجة جنس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39DC-2A04-40E1-BDE6-A0A55DF51B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325080"/>
            <a:ext cx="87631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B)- Chromosomal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structure-alter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an also cause human disor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ز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ven in a heterozygous state, cause severe physical and ment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ri-du-chat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ارض مواء الق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results from a specific deletion in chromosom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are mentally retarded, have a small head with unusual facial features, and a cry like the mewing of a distressed 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yndrome is fatal in infa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طفو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28600" y="4567320"/>
            <a:ext cx="86104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yelogenous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leukemia (CML)]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Caused by chromosomal translocations since a fragment of chromosome 22 switches places with a small fragment from the tip of chromosome 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83ED-9F73-4F5E-BD87-280C75B7AB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1920" y="914040"/>
            <a:ext cx="52578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 and other mammals, there are two varieties of sex chromosomes,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800" spc="-1" strike="noStrike">
                <a:solidFill>
                  <a:srgbClr val="f63f1b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 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s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dividual who inherits a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X and a 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romosome usually develops as 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The chromosomal basis of sex varies with th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3808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152280" y="281952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X-Y system of mammals is not the only chromosomal mechanism of determining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options include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X-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oc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system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-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i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and the haplo-diploid system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be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6320" y="4854600"/>
            <a:ext cx="541008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Human,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-determining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ion of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) modifies embryonic gonads into tes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s lack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, thus, the embryonic gonads develop into ova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75481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5.8, Page 27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Ahmed\Desktop\Picture1.jpg"/>
          <p:cNvPicPr/>
          <p:nvPr/>
        </p:nvPicPr>
        <p:blipFill>
          <a:blip r:embed="rId1"/>
          <a:stretch/>
        </p:blipFill>
        <p:spPr>
          <a:xfrm>
            <a:off x="5410080" y="914400"/>
            <a:ext cx="3297240" cy="56466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CDBE-F517-40AB-9D39-715219EAA93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04920" y="696600"/>
            <a:ext cx="85341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X-Y system, Y and X chromosomes behave as homologous chromosomes during mei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reality, they are only partially homologous and rarely undergo crossing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both testes (XY) and ovaries (XX), the two sex chromosomes segregate during meiosis and each gamete receives 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egg receives an X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f the sperm receive an X chromosome and half receive a Y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, each conception has about a fifty-fifty chance of producing a particular 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2EC7-C61A-4C95-A7AE-1DDC7DDD4A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51920" y="1066320"/>
            <a:ext cx="4876920" cy="32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x chromosomes, especially the          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hromosome, have genes for many characters unrelated to s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x-link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ينات مرتبطة بالجن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e same pattern of inheritance       as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ite-ey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us i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ex-linked trait is due to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llele, a female have this phenotype only i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m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females will be carri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Sex-linked genes have unique pattern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2860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rcRect l="0" t="0" r="0" b="7360"/>
          <a:stretch/>
        </p:blipFill>
        <p:spPr>
          <a:xfrm>
            <a:off x="609480" y="4114800"/>
            <a:ext cx="8001000" cy="2460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6"/>
          <p:cNvSpPr/>
          <p:nvPr/>
        </p:nvSpPr>
        <p:spPr>
          <a:xfrm>
            <a:off x="4320" y="65530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5.9, Page 27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4952880" y="1184400"/>
            <a:ext cx="4114800" cy="26254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3ACF-0DD9-4E67-B609-A89741A9CF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304920" y="633240"/>
            <a:ext cx="83818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males have only one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any male receiving the recessive allele from his mother will express the tra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males are far more likely to inherit sex-linked recessive disord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ر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are fem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4920" y="3733920"/>
            <a:ext cx="853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الصفات المرتبطة بالجنس تورث للأبناء الذكور من الأم فقط لأنهم يرثون منها الكروموسوم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الحامل لهذا النوع من الـﭼـينات، حيث إن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ar-EG" sz="3600" spc="-1" strike="noStrike">
                <a:solidFill>
                  <a:srgbClr val="ff0000"/>
                </a:solidFill>
                <a:latin typeface="Arial"/>
              </a:rPr>
              <a:t> لا يحمل شى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37E9-7646-4958-AD7C-F7A1C5E6AC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228600" y="763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x-linked disorders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أمراض المرتبطة بالجنس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n human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6320" y="990720"/>
            <a:ext cx="8686800" cy="23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uchenne muscular dystroph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هن العضل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s one in 3,500 males born in the United St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ffected individuals rarely live past their early 20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isorder is due to the absence of an X-linked gene for a key muscle protein, call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ystroph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ease is characterized by a weakening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ضع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muscles and loss of coordinatio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فـقـْد التواز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6320" y="3444840"/>
            <a:ext cx="876276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phili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زيف الدمو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sex-linked recessive trait defined by the absence of one or mo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lotting 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وامل تجل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proteins normally slow and then stop blee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with hemophilia have prolonged blee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نزيف مستم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a firm clo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جل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s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viduals can be treated with intravenous injections of the missing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gene is transmitted to offspr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moth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us, Sons borne from hemophilic woman should be exemp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يُستثنى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rom circumcision </a:t>
            </a:r>
            <a:r>
              <a:rPr b="1" lang="ar-EG" sz="1800" spc="-1" strike="noStrike">
                <a:solidFill>
                  <a:srgbClr val="0000ff"/>
                </a:solidFill>
                <a:latin typeface="Arial"/>
                <a:cs typeface="Arial"/>
              </a:rPr>
              <a:t>الختان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22860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A57D-1449-4A1F-98E3-60D5363B96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"/>
          <p:cNvGrpSpPr/>
          <p:nvPr/>
        </p:nvGrpSpPr>
        <p:grpSpPr>
          <a:xfrm>
            <a:off x="0" y="304920"/>
            <a:ext cx="8991360" cy="3374640"/>
            <a:chOff x="0" y="304920"/>
            <a:chExt cx="8991360" cy="3374640"/>
          </a:xfrm>
        </p:grpSpPr>
        <p:pic>
          <p:nvPicPr>
            <p:cNvPr id="92" name="Picture 3" descr=""/>
            <p:cNvPicPr/>
            <p:nvPr/>
          </p:nvPicPr>
          <p:blipFill>
            <a:blip r:embed="rId1"/>
            <a:srcRect l="0" t="0" r="0" b="7360"/>
            <a:stretch/>
          </p:blipFill>
          <p:spPr>
            <a:xfrm>
              <a:off x="0" y="304920"/>
              <a:ext cx="8991360" cy="33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4"/>
            <p:cNvSpPr/>
            <p:nvPr/>
          </p:nvSpPr>
          <p:spPr>
            <a:xfrm>
              <a:off x="85320" y="304920"/>
              <a:ext cx="5994360" cy="334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320" y="6854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olor blindne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ى الألوا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disorder inherited as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cessive sex-linked charac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ffect both males and fem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lor blind female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may be born to a color blind father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a carrier mother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52280" y="3352680"/>
            <a:ext cx="8839440" cy="30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female mammal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ثديي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                                                       two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romosomes, only on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romosome i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fore, males and females have the same effective dose (one copy ) of genes o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uring female development, one X chromosome per cell condenses into a compact object, a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arr body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</a:t>
            </a:r>
            <a:r>
              <a:rPr b="0" lang="ar-EG" sz="2000" spc="-1" strike="noStrike" u="sng">
                <a:solidFill>
                  <a:srgbClr val="000000"/>
                </a:solidFill>
                <a:uFillTx/>
                <a:latin typeface="Arial"/>
                <a:cs typeface="Arial"/>
              </a:rPr>
              <a:t>جسم بار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(in somatic cell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is inactivates most of its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densed Barr body chromosome is reactivated in ovarian cells that produce o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D3F4-FA7F-41E0-998E-933FA7B794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914400"/>
            <a:ext cx="9067680" cy="59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omm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شائ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eiosis and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eletions/translo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نقص أو فقد جز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ologous chromatids ma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break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ـَنكسر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rejo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و تلتحم مرة أخر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incorrect places, thus, one chromatid will loose more genes than it rece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hromosomal du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تضاعُ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olyploidy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تعدد الكروموسوم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112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ult from nondisjun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دم الإنفصال الكامل للكروموسومات أثناء الإنقسام الميوز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ing gamete production in one pa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ploid embryo that is homozygous for a large deletion or male with a large deletion to its singl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ome is usually missing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فتق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essential genes and this leads to a lethal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مُمِي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plications and translocation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غيير أماكن الأجزاء المقطوع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very harm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location or inversion can alter phenotype because a gene’s expression is influenced by its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52280" y="7632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hromosomal aberration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شذوذ الكروموسوم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22860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C4F6-F404-4601-9D2E-828CBCE059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2280" y="564840"/>
            <a:ext cx="8686800" cy="599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serious human disorders are due to these alteration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غيي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chromosome number and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the frequenc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َحدُث مرار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neuploid zygotes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لاقح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ـمتعددة الكروموسوم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be quite high in humans, most of these alterations result in abor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جها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time before   bir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قبل الولا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developmental problems results from an imbalance     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م تواز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ong gene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ain aneuploid conditions decrease the imbalance effect, leading to survival to bir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ولو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ut these individuals have a set of symptom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أعراض</a:t>
            </a:r>
            <a:r>
              <a:rPr b="1" lang="ar-EG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syndromes) characteristic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مَيـِز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f the type of aneuploidy as following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7:27:32Z</dcterms:created>
  <dc:creator>User</dc:creator>
  <dc:description/>
  <dc:language>en-US</dc:language>
  <cp:lastModifiedBy>Ahmed</cp:lastModifiedBy>
  <dcterms:modified xsi:type="dcterms:W3CDTF">2009-05-08T15:41:33Z</dcterms:modified>
  <cp:revision>86</cp:revision>
  <dc:subject/>
  <dc:title>Slide 1</dc:title>
</cp:coreProperties>
</file>