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3FDA-94B4-4730-8679-A897771CE9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EED0-718C-4D39-B7F1-17087593F2C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D8EE-CA01-4779-BFB0-F3F54C7C88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615-8A5A-4AF0-BFA4-E205533C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4A2-1917-4F4E-B94B-AA8076D7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BD4-6545-4D32-88D4-CCB4AB8E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AB7-B992-4117-BF1F-51BE9ABD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E04-3EF0-409E-AC85-0371BB3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370-52C9-4AB2-89A5-ECA1F8AF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82E-89D8-4417-9581-28968837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103-BEC1-4932-B247-A381DD3B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A38-C347-485E-9FBB-3E31685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929-BF3A-4111-B174-2C06B10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98C-F2DD-4D72-AF74-CA0F1726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C68-182B-4699-B6C0-2A75E24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D2B4-23D0-4070-A259-E9A4B3481D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808-4C39-45A0-9B01-1F71DC79C054}" type="slidenum">
              <a:t>1</a:t>
            </a:fld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5F9-5EEB-455F-BD86-EEBA46581ACE}" type="slidenum">
              <a:t>10</a:t>
            </a:fld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2280" y="140760"/>
            <a:ext cx="8839440" cy="32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020-FCD6-4220-A993-9E92991AACA6}" type="slidenum">
              <a:t>11</a:t>
            </a:fld>
          </a:p>
        </p:txBody>
      </p:sp>
    </p:spTree>
  </p:cSld>
  <p:transition spd="med">
    <p:comb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AD0-7620-43D4-832F-C9FC5872482B}" type="slidenum">
              <a:t>12</a:t>
            </a:fld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0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1" name="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DAA-992C-4032-992B-DDF6F003DDD1}" type="slidenum">
              <a:t>13</a:t>
            </a:fld>
          </a:p>
        </p:txBody>
      </p:sp>
    </p:spTree>
  </p:cSld>
  <p:transition spd="med"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A96-E116-418E-8FC6-4173B3E5C715}" type="slidenum">
              <a:t>14</a:t>
            </a:fld>
          </a:p>
        </p:txBody>
      </p:sp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B66-F443-4A1C-B8C8-20D4BB137760}" type="slidenum">
              <a:t>15</a:t>
            </a:fld>
          </a:p>
        </p:txBody>
      </p:sp>
    </p:spTree>
  </p:cSld>
  <p:transition spd="med"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986-E201-4CA9-A0C9-3D21FBD4FB5D}" type="slidenum">
              <a:t>16</a:t>
            </a:fld>
          </a:p>
        </p:txBody>
      </p:sp>
    </p:spTree>
  </p:cSld>
  <p:transition spd="med"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4952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ingu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ex chromoso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كروموسوم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جنسي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utosom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كروموسومات الجسد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ole of sex chromosomes in sex deter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an X- or Y-linked gene affects the inheritance of tra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ffect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rossing-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عبو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inheritance of genes in linkage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D63-0942-4B57-A15C-36306F3EB569}" type="slidenum">
              <a:t>2</a:t>
            </a:fld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D1E-9296-415A-8DA2-557A6F450D58}" type="slidenum">
              <a:t>3</a:t>
            </a:fld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696600"/>
            <a:ext cx="8534160" cy="50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C88-C9E6-4D68-BEAC-17FBA32D5254}" type="slidenum">
              <a:t>4</a:t>
            </a:fld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882-FE60-4FD0-B0D9-5BF04F6D3FA8}" type="slidenum">
              <a:t>5</a:t>
            </a:fld>
          </a:p>
        </p:txBody>
      </p:sp>
    </p:spTree>
  </p:cSld>
  <p:transition spd="med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3324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7339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C46-A604-4FFF-B0F4-08B02543A644}" type="slidenum">
              <a:t>6</a:t>
            </a:fld>
          </a:p>
        </p:txBody>
      </p:sp>
    </p:spTree>
  </p:cSld>
  <p:transition spd="med"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AFA-03D5-4C27-91E4-F4405536A5DE}" type="slidenum">
              <a:t>7</a:t>
            </a:fld>
          </a:p>
        </p:txBody>
      </p:sp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FAB-F8A1-4B39-9B3F-A324900BFA52}" type="slidenum">
              <a:t>8</a:t>
            </a:fld>
          </a:p>
        </p:txBody>
      </p:sp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BFB-CE8C-4E46-BDF1-8C4C6694EC01}" type="slidenum">
              <a:t>9</a:t>
            </a:fld>
          </a:p>
        </p:txBody>
      </p:sp>
    </p:spTree>
  </p:cSld>
  <p:transition spd="med">
    <p:comb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كلية العوم</cp:lastModifiedBy>
  <dcterms:modified xsi:type="dcterms:W3CDTF">2013-01-20T10:04:04Z</dcterms:modified>
  <cp:revision>111</cp:revision>
  <dc:subject/>
  <dc:title>Slide 1</dc:title>
</cp:coreProperties>
</file>