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EF00-DC18-4583-B7F5-95AD0C0F78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E170-CBF9-4072-B5B9-7251992E0B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C9D-E875-4482-B349-43D43AA46C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F6C-A7C9-4C6E-A08B-EB9FF45F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F74-3BF0-4617-B27C-16563B97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25D-E1B1-42A0-8547-134082D8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8A4-6EB3-4191-BBF3-A1C2E595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264-F3BE-42AE-8406-A3F73727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861-552F-4375-B8C4-A42FC05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8AF-6617-4643-8602-4ADA1FD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BE0-EEB3-4969-AA4A-81304C30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AA8-2927-4895-8004-9832E66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DF9-4579-417B-AC3C-64C2296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890-2111-4A51-8814-98B3B9C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276-BDF2-43E0-AF49-236C5D2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4D9A-1977-4FF4-80CE-726D323382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6B0-83CB-4F63-AF78-0A24CD7FA539}" type="slidenum">
              <a:t>1</a:t>
            </a:fld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C08-E4E0-4317-B6D6-967BDBB87539}" type="slidenum">
              <a:t>10</a:t>
            </a:fld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280" y="140760"/>
            <a:ext cx="883944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0FA-B218-485B-BCB3-8F62B60E7FA3}" type="slidenum">
              <a:t>11</a:t>
            </a:fld>
          </a:p>
        </p:txBody>
      </p:sp>
    </p:spTree>
  </p:cSld>
  <p:transition spd="med"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EFD-16A6-453E-A275-693E0138DAB4}" type="slidenum">
              <a:t>12</a:t>
            </a:fld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0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1" name="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038-A78F-480D-8A6B-4C4381D56E9F}" type="slidenum">
              <a:t>13</a:t>
            </a:fld>
          </a:p>
        </p:txBody>
      </p:sp>
    </p:spTree>
  </p:cSld>
  <p:transition spd="med"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BBA-60C7-4ED1-9FCF-329899C7044F}" type="slidenum">
              <a:t>14</a:t>
            </a:fld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545-1CEA-4FF5-9B4B-B6594F07D399}" type="slidenum">
              <a:t>15</a:t>
            </a:fld>
          </a:p>
        </p:txBody>
      </p:sp>
    </p:spTree>
  </p:cSld>
  <p:transition spd="med"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229-9F97-4D69-9F77-F7CC3999DFA2}" type="slidenum">
              <a:t>16</a:t>
            </a:fld>
          </a:p>
        </p:txBody>
      </p:sp>
    </p:spTree>
  </p:cSld>
  <p:transition spd="med"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4952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كروموسوم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جنسي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utosom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كروموسومات الجسد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ole of sex chromosomes in sex deter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an X- or Y-linked gene affects the inheritance of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ffect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rossing-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عبو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inheritance of genes in linkag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0AD-88F4-4C65-823A-7100B059655A}" type="slidenum">
              <a:t>2</a:t>
            </a:fld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56F-708E-4338-8FA3-4560A268538F}" type="slidenum">
              <a:t>3</a:t>
            </a:fld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D98-B795-4D15-BB3C-1966755FA8C9}" type="slidenum">
              <a:t>4</a:t>
            </a:fld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266-1B81-414C-B62E-3B7898C59D14}" type="slidenum">
              <a:t>5</a:t>
            </a:fld>
          </a:p>
        </p:txBody>
      </p:sp>
    </p:spTree>
  </p:cSld>
  <p:transition spd="med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EB1-CFF7-45E1-BE09-7007271D4F72}" type="slidenum">
              <a:t>6</a:t>
            </a:fld>
          </a:p>
        </p:txBody>
      </p:sp>
    </p:spTree>
  </p:cSld>
  <p:transition spd="med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753-A91A-41CF-BC53-E11DCA70E8D4}" type="slidenum">
              <a:t>7</a:t>
            </a:fld>
          </a:p>
        </p:txBody>
      </p:sp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BC6-67ED-4B99-B89E-D6E01BCACF44}" type="slidenum">
              <a:t>8</a:t>
            </a:fld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479-699D-45D9-B61A-18672D146476}" type="slidenum">
              <a:t>9</a:t>
            </a:fld>
          </a:p>
        </p:txBody>
      </p:sp>
    </p:spTree>
  </p:cSld>
  <p:transition spd="med"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كلية العوم</cp:lastModifiedBy>
  <dcterms:modified xsi:type="dcterms:W3CDTF">2013-01-20T10:04:04Z</dcterms:modified>
  <cp:revision>111</cp:revision>
  <dc:subject/>
  <dc:title>Slide 1</dc:title>
</cp:coreProperties>
</file>