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1488-4110-442B-A8BA-3B9026B53AD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031"/>
          <p:cNvSpPr/>
          <p:nvPr/>
        </p:nvSpPr>
        <p:spPr>
          <a:xfrm>
            <a:off x="3876840" y="8694720"/>
            <a:ext cx="2981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1B239770-6867-4B18-9A18-D53635315B1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30400" y="6746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893880" y="4346640"/>
            <a:ext cx="5070240" cy="41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2EF1-582D-4010-BAA6-2A7B210D9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A6B6-CF73-45AC-AFEC-DB4CB40C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B8F9-73D1-4B7B-9980-D8E89D62E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B90C-BB91-4330-9B44-3394F12A8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0B50-6F86-4361-8336-FAF30864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585E-916F-49CA-8E5C-412AB1B9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75EC-4E54-42B6-BB14-5A26C701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54B6-16F5-4CDA-85F3-9379F182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8960-31F6-45C2-8842-8A5B58CC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8F0D-C7D3-4F5C-AB92-C8A38A65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BBA1-2649-4DBA-B25A-57E953C4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168D-03DC-42DB-A652-23AB34E8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4D65-1C27-4BAB-86FD-696F530E4A2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00ffcc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990720" y="1600200"/>
            <a:ext cx="70866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onnection Between Genes and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905120" y="5335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GENE TO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2" descr=""/>
          <p:cNvPicPr/>
          <p:nvPr/>
        </p:nvPicPr>
        <p:blipFill>
          <a:blip r:embed="rId2"/>
          <a:srcRect l="0" t="0" r="0" b="5427"/>
          <a:stretch/>
        </p:blipFill>
        <p:spPr>
          <a:xfrm>
            <a:off x="457200" y="2286000"/>
            <a:ext cx="8115480" cy="358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11"/>
          <p:cNvSpPr/>
          <p:nvPr/>
        </p:nvSpPr>
        <p:spPr>
          <a:xfrm>
            <a:off x="-34200" y="5943600"/>
            <a:ext cx="91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http://highered.mcgraw-hill.com/sites/9834092339/student_view0/chapter15/mrna_synthesis__transcription_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1301400" y="6248520"/>
            <a:ext cx="561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www.sinauer.com/cooper5e/animation070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4" descr=""/>
          <p:cNvPicPr/>
          <p:nvPr/>
        </p:nvPicPr>
        <p:blipFill>
          <a:blip r:embed="rId3"/>
          <a:srcRect l="18590" t="8064" r="4054" b="0"/>
          <a:stretch/>
        </p:blipFill>
        <p:spPr>
          <a:xfrm>
            <a:off x="22320" y="42840"/>
            <a:ext cx="1209600" cy="13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320" y="259920"/>
            <a:ext cx="8610480" cy="59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RNA polymerase moves along the DNA, it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ntwis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ouble helix, 10 to 20 bases at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zyme add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otides to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’ end of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ing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hind the poin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RNA synthesis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ouble helix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-forms and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NA molecu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es a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 proceeds                                                                           until after the RNA                                                                             polymerase transcribes                                                                              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ermina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quence                                                                                    in the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3505320" y="914400"/>
            <a:ext cx="544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52280" y="1398600"/>
            <a:ext cx="8686800" cy="369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in the eukaryotic nucleus modify pre-mRNA before the genetic messages are dispatched to the cytopla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5’ end of the pre-mRNA molecule, a modified form of guanine is added,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’ cap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ch function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 mRNA from hydrolyt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حل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anslation start point for riboso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 the 3’ end, an enzyme adds 50 to 250 adenine nucleotides, the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poly(A) ta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oly(A) tail facilitate the export of mRNA from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914400" y="304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ukaryotic cells modify RNA after tra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rcRect l="0" t="0" r="0" b="10964"/>
          <a:stretch/>
        </p:blipFill>
        <p:spPr>
          <a:xfrm>
            <a:off x="0" y="5129280"/>
            <a:ext cx="9067680" cy="1728720"/>
          </a:xfrm>
          <a:prstGeom prst="rect">
            <a:avLst/>
          </a:prstGeom>
          <a:ln w="0">
            <a:noFill/>
          </a:ln>
        </p:spPr>
      </p:pic>
      <p:sp>
        <p:nvSpPr>
          <p:cNvPr id="10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0102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Summary of RNA Transcription Mechanism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1430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Transcription begins when the enzyme RNA polymerase binds to DNA at a promoter reg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The enzyme separates the DNA strands by breaking the hydrogen bonds, and then uses one strand of DNA as a template from which nucleotides are assembled into a strand of R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RNA polymerase pairs up free floating RNA nucleotides with DNA template and joins the nucleotides together to form the backbone of the new mRNA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 When mRNA hits a termination sequence, it separates from the 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) mRNA editing occurs in the nucleus: before the mRNA leaves the nucleus, it is called pre-mRNA and it gets “edited.”  Parts of the pre-mRNA that are not involved in coding for proteins are calle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tr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re cut out.  The remaining mRNA pieces are calle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x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because they are expressed) and are spliced (combine) back together to form the m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) Then the final mRNA leaves the nucleus through the nuclear pores and enters the cytoplasm headed to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ibos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852120" y="2013120"/>
            <a:ext cx="6831000" cy="2243880"/>
            <a:chOff x="852120" y="2013120"/>
            <a:chExt cx="6831000" cy="2243880"/>
          </a:xfrm>
        </p:grpSpPr>
        <p:grpSp>
          <p:nvGrpSpPr>
            <p:cNvPr id="112" name="Group 3"/>
            <p:cNvGrpSpPr/>
            <p:nvPr/>
          </p:nvGrpSpPr>
          <p:grpSpPr>
            <a:xfrm>
              <a:off x="869760" y="3616200"/>
              <a:ext cx="6724080" cy="640800"/>
              <a:chOff x="869760" y="3616200"/>
              <a:chExt cx="6724080" cy="640800"/>
            </a:xfrm>
          </p:grpSpPr>
          <p:sp>
            <p:nvSpPr>
              <p:cNvPr id="113" name="Rectangle 4"/>
              <p:cNvSpPr/>
              <p:nvPr/>
            </p:nvSpPr>
            <p:spPr>
              <a:xfrm rot="1867800">
                <a:off x="867960" y="3828600"/>
                <a:ext cx="820800" cy="2221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" name="Group 5"/>
              <p:cNvGrpSpPr/>
              <p:nvPr/>
            </p:nvGrpSpPr>
            <p:grpSpPr>
              <a:xfrm>
                <a:off x="3137040" y="3641400"/>
                <a:ext cx="380880" cy="533160"/>
                <a:chOff x="3137040" y="3641400"/>
                <a:chExt cx="380880" cy="533160"/>
              </a:xfrm>
            </p:grpSpPr>
            <p:sp>
              <p:nvSpPr>
                <p:cNvPr id="115" name="AutoShape 6"/>
                <p:cNvSpPr/>
                <p:nvPr/>
              </p:nvSpPr>
              <p:spPr>
                <a:xfrm rot="16200000">
                  <a:off x="3048120" y="3755520"/>
                  <a:ext cx="53316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Text Box 7"/>
                <p:cNvSpPr/>
                <p:nvPr/>
              </p:nvSpPr>
              <p:spPr>
                <a:xfrm>
                  <a:off x="3137040" y="36543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8"/>
              <p:cNvGrpSpPr/>
              <p:nvPr/>
            </p:nvGrpSpPr>
            <p:grpSpPr>
              <a:xfrm>
                <a:off x="4724280" y="3641400"/>
                <a:ext cx="381240" cy="533160"/>
                <a:chOff x="4724280" y="3641400"/>
                <a:chExt cx="381240" cy="533160"/>
              </a:xfrm>
            </p:grpSpPr>
            <p:sp>
              <p:nvSpPr>
                <p:cNvPr id="118" name="AutoShape 9"/>
                <p:cNvSpPr/>
                <p:nvPr/>
              </p:nvSpPr>
              <p:spPr>
                <a:xfrm flipV="1" rot="16200000">
                  <a:off x="4647960" y="3755160"/>
                  <a:ext cx="53316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Text Box 10"/>
                <p:cNvSpPr/>
                <p:nvPr/>
              </p:nvSpPr>
              <p:spPr>
                <a:xfrm>
                  <a:off x="4724280" y="371772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11"/>
              <p:cNvGrpSpPr/>
              <p:nvPr/>
            </p:nvGrpSpPr>
            <p:grpSpPr>
              <a:xfrm>
                <a:off x="5486400" y="3628800"/>
                <a:ext cx="380880" cy="533520"/>
                <a:chOff x="5486400" y="3628800"/>
                <a:chExt cx="380880" cy="533520"/>
              </a:xfrm>
            </p:grpSpPr>
            <p:sp>
              <p:nvSpPr>
                <p:cNvPr id="121" name="AutoShape 12"/>
                <p:cNvSpPr/>
                <p:nvPr/>
              </p:nvSpPr>
              <p:spPr>
                <a:xfrm rot="5400000">
                  <a:off x="5397480" y="374328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0 h 304560"/>
                    <a:gd name="textAreaBottom" fmla="*/ 30492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Text Box 13"/>
                <p:cNvSpPr/>
                <p:nvPr/>
              </p:nvSpPr>
              <p:spPr>
                <a:xfrm>
                  <a:off x="5486400" y="371772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Group 14"/>
              <p:cNvGrpSpPr/>
              <p:nvPr/>
            </p:nvGrpSpPr>
            <p:grpSpPr>
              <a:xfrm>
                <a:off x="1625760" y="3616200"/>
                <a:ext cx="380880" cy="533520"/>
                <a:chOff x="1625760" y="3616200"/>
                <a:chExt cx="380880" cy="533520"/>
              </a:xfrm>
            </p:grpSpPr>
            <p:sp>
              <p:nvSpPr>
                <p:cNvPr id="124" name="AutoShape 15"/>
                <p:cNvSpPr/>
                <p:nvPr/>
              </p:nvSpPr>
              <p:spPr>
                <a:xfrm rot="16200000">
                  <a:off x="1523880" y="3730320"/>
                  <a:ext cx="533520" cy="30492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0 h 304920"/>
                    <a:gd name="textAreaBottom" fmla="*/ 30528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Text Box 16"/>
                <p:cNvSpPr/>
                <p:nvPr/>
              </p:nvSpPr>
              <p:spPr>
                <a:xfrm>
                  <a:off x="1625760" y="36417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17"/>
              <p:cNvGrpSpPr/>
              <p:nvPr/>
            </p:nvGrpSpPr>
            <p:grpSpPr>
              <a:xfrm>
                <a:off x="3949560" y="3616200"/>
                <a:ext cx="381240" cy="533520"/>
                <a:chOff x="3949560" y="3616200"/>
                <a:chExt cx="381240" cy="533520"/>
              </a:xfrm>
            </p:grpSpPr>
            <p:sp>
              <p:nvSpPr>
                <p:cNvPr id="127" name="AutoShape 18"/>
                <p:cNvSpPr/>
                <p:nvPr/>
              </p:nvSpPr>
              <p:spPr>
                <a:xfrm flipV="1" rot="16200000">
                  <a:off x="3848040" y="373068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Text Box 19"/>
                <p:cNvSpPr/>
                <p:nvPr/>
              </p:nvSpPr>
              <p:spPr>
                <a:xfrm>
                  <a:off x="3949560" y="367992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20"/>
              <p:cNvGrpSpPr/>
              <p:nvPr/>
            </p:nvGrpSpPr>
            <p:grpSpPr>
              <a:xfrm>
                <a:off x="2362320" y="3641040"/>
                <a:ext cx="380880" cy="571320"/>
                <a:chOff x="2362320" y="3641040"/>
                <a:chExt cx="380880" cy="571320"/>
              </a:xfrm>
            </p:grpSpPr>
            <p:sp>
              <p:nvSpPr>
                <p:cNvPr id="130" name="AutoShape 21"/>
                <p:cNvSpPr/>
                <p:nvPr/>
              </p:nvSpPr>
              <p:spPr>
                <a:xfrm flipV="1" rot="5400000">
                  <a:off x="2228760" y="3773880"/>
                  <a:ext cx="571320" cy="304560"/>
                </a:xfrm>
                <a:custGeom>
                  <a:avLst/>
                  <a:gdLst>
                    <a:gd name="textAreaLeft" fmla="*/ 0 w 571320"/>
                    <a:gd name="textAreaRight" fmla="*/ 571680 w 5713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Text Box 22"/>
                <p:cNvSpPr/>
                <p:nvPr/>
              </p:nvSpPr>
              <p:spPr>
                <a:xfrm>
                  <a:off x="2362320" y="373068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Group 23"/>
              <p:cNvGrpSpPr/>
              <p:nvPr/>
            </p:nvGrpSpPr>
            <p:grpSpPr>
              <a:xfrm>
                <a:off x="6324480" y="3641400"/>
                <a:ext cx="381240" cy="533160"/>
                <a:chOff x="6324480" y="3641400"/>
                <a:chExt cx="381240" cy="533160"/>
              </a:xfrm>
            </p:grpSpPr>
            <p:sp>
              <p:nvSpPr>
                <p:cNvPr id="133" name="AutoShape 24"/>
                <p:cNvSpPr/>
                <p:nvPr/>
              </p:nvSpPr>
              <p:spPr>
                <a:xfrm rot="16200000">
                  <a:off x="6235920" y="3755520"/>
                  <a:ext cx="53316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Text Box 25"/>
                <p:cNvSpPr/>
                <p:nvPr/>
              </p:nvSpPr>
              <p:spPr>
                <a:xfrm>
                  <a:off x="6324480" y="36417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" name="Rectangle 26"/>
              <p:cNvSpPr/>
              <p:nvPr/>
            </p:nvSpPr>
            <p:spPr>
              <a:xfrm rot="19542600">
                <a:off x="6808680" y="3833280"/>
                <a:ext cx="792360" cy="21924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27"/>
              <p:cNvSpPr/>
              <p:nvPr/>
            </p:nvSpPr>
            <p:spPr>
              <a:xfrm>
                <a:off x="1523880" y="4022640"/>
                <a:ext cx="541044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Group 28"/>
            <p:cNvGrpSpPr/>
            <p:nvPr/>
          </p:nvGrpSpPr>
          <p:grpSpPr>
            <a:xfrm>
              <a:off x="852120" y="2013120"/>
              <a:ext cx="6831000" cy="742680"/>
              <a:chOff x="852120" y="2013120"/>
              <a:chExt cx="6831000" cy="742680"/>
            </a:xfrm>
          </p:grpSpPr>
          <p:sp>
            <p:nvSpPr>
              <p:cNvPr id="138" name="Rectangle 29"/>
              <p:cNvSpPr/>
              <p:nvPr/>
            </p:nvSpPr>
            <p:spPr>
              <a:xfrm rot="19320600">
                <a:off x="825480" y="2270160"/>
                <a:ext cx="91440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Group 30"/>
              <p:cNvGrpSpPr/>
              <p:nvPr/>
            </p:nvGrpSpPr>
            <p:grpSpPr>
              <a:xfrm>
                <a:off x="4699080" y="2193840"/>
                <a:ext cx="380880" cy="533520"/>
                <a:chOff x="4699080" y="2193840"/>
                <a:chExt cx="380880" cy="533520"/>
              </a:xfrm>
            </p:grpSpPr>
            <p:sp>
              <p:nvSpPr>
                <p:cNvPr id="140" name="AutoShape 31"/>
                <p:cNvSpPr/>
                <p:nvPr/>
              </p:nvSpPr>
              <p:spPr>
                <a:xfrm flipV="1" rot="5400000">
                  <a:off x="4635360" y="2307960"/>
                  <a:ext cx="53352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Text Box 32"/>
                <p:cNvSpPr/>
                <p:nvPr/>
              </p:nvSpPr>
              <p:spPr>
                <a:xfrm>
                  <a:off x="4699080" y="22953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Group 33"/>
              <p:cNvGrpSpPr/>
              <p:nvPr/>
            </p:nvGrpSpPr>
            <p:grpSpPr>
              <a:xfrm>
                <a:off x="1600200" y="2104560"/>
                <a:ext cx="380880" cy="609480"/>
                <a:chOff x="1600200" y="2104560"/>
                <a:chExt cx="380880" cy="609480"/>
              </a:xfrm>
            </p:grpSpPr>
            <p:sp>
              <p:nvSpPr>
                <p:cNvPr id="143" name="AutoShape 34"/>
                <p:cNvSpPr/>
                <p:nvPr/>
              </p:nvSpPr>
              <p:spPr>
                <a:xfrm rot="16200000">
                  <a:off x="1486080" y="2256840"/>
                  <a:ext cx="609480" cy="304920"/>
                </a:xfrm>
                <a:custGeom>
                  <a:avLst/>
                  <a:gdLst>
                    <a:gd name="textAreaLeft" fmla="*/ 0 w 609480"/>
                    <a:gd name="textAreaRight" fmla="*/ 609840 w 609480"/>
                    <a:gd name="textAreaTop" fmla="*/ 0 h 304920"/>
                    <a:gd name="textAreaBottom" fmla="*/ 30528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Text Box 35"/>
                <p:cNvSpPr/>
                <p:nvPr/>
              </p:nvSpPr>
              <p:spPr>
                <a:xfrm>
                  <a:off x="1600200" y="22701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Group 36"/>
              <p:cNvGrpSpPr/>
              <p:nvPr/>
            </p:nvGrpSpPr>
            <p:grpSpPr>
              <a:xfrm>
                <a:off x="5486400" y="2206440"/>
                <a:ext cx="380880" cy="533520"/>
                <a:chOff x="5486400" y="2206440"/>
                <a:chExt cx="380880" cy="533520"/>
              </a:xfrm>
            </p:grpSpPr>
            <p:sp>
              <p:nvSpPr>
                <p:cNvPr id="146" name="AutoShape 37"/>
                <p:cNvSpPr/>
                <p:nvPr/>
              </p:nvSpPr>
              <p:spPr>
                <a:xfrm flipV="1" rot="5400000">
                  <a:off x="5397480" y="232092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Text Box 38"/>
                <p:cNvSpPr/>
                <p:nvPr/>
              </p:nvSpPr>
              <p:spPr>
                <a:xfrm>
                  <a:off x="5486400" y="22701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Group 39"/>
              <p:cNvGrpSpPr/>
              <p:nvPr/>
            </p:nvGrpSpPr>
            <p:grpSpPr>
              <a:xfrm>
                <a:off x="3949560" y="2155680"/>
                <a:ext cx="381240" cy="571680"/>
                <a:chOff x="3949560" y="2155680"/>
                <a:chExt cx="381240" cy="571680"/>
              </a:xfrm>
            </p:grpSpPr>
            <p:sp>
              <p:nvSpPr>
                <p:cNvPr id="149" name="AutoShape 40"/>
                <p:cNvSpPr/>
                <p:nvPr/>
              </p:nvSpPr>
              <p:spPr>
                <a:xfrm rot="16200000">
                  <a:off x="3828960" y="2289240"/>
                  <a:ext cx="571680" cy="304560"/>
                </a:xfrm>
                <a:custGeom>
                  <a:avLst/>
                  <a:gdLst>
                    <a:gd name="textAreaLeft" fmla="*/ 0 w 571680"/>
                    <a:gd name="textAreaRight" fmla="*/ 572040 w 571680"/>
                    <a:gd name="textAreaTop" fmla="*/ 0 h 304560"/>
                    <a:gd name="textAreaBottom" fmla="*/ 30492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Text Box 41"/>
                <p:cNvSpPr/>
                <p:nvPr/>
              </p:nvSpPr>
              <p:spPr>
                <a:xfrm>
                  <a:off x="3949560" y="22701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Group 42"/>
              <p:cNvGrpSpPr/>
              <p:nvPr/>
            </p:nvGrpSpPr>
            <p:grpSpPr>
              <a:xfrm>
                <a:off x="2349360" y="2257200"/>
                <a:ext cx="381240" cy="470160"/>
                <a:chOff x="2349360" y="2257200"/>
                <a:chExt cx="381240" cy="470160"/>
              </a:xfrm>
            </p:grpSpPr>
            <p:sp>
              <p:nvSpPr>
                <p:cNvPr id="152" name="AutoShape 43"/>
                <p:cNvSpPr/>
                <p:nvPr/>
              </p:nvSpPr>
              <p:spPr>
                <a:xfrm flipV="1" rot="5400000">
                  <a:off x="2279520" y="2340000"/>
                  <a:ext cx="470160" cy="304560"/>
                </a:xfrm>
                <a:custGeom>
                  <a:avLst/>
                  <a:gdLst>
                    <a:gd name="textAreaLeft" fmla="*/ 0 w 470160"/>
                    <a:gd name="textAreaRight" fmla="*/ 470520 w 47016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Text Box 44"/>
                <p:cNvSpPr/>
                <p:nvPr/>
              </p:nvSpPr>
              <p:spPr>
                <a:xfrm>
                  <a:off x="2349360" y="22701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Group 45"/>
              <p:cNvGrpSpPr/>
              <p:nvPr/>
            </p:nvGrpSpPr>
            <p:grpSpPr>
              <a:xfrm>
                <a:off x="6324480" y="2193840"/>
                <a:ext cx="381240" cy="533520"/>
                <a:chOff x="6324480" y="2193840"/>
                <a:chExt cx="381240" cy="533520"/>
              </a:xfrm>
            </p:grpSpPr>
            <p:sp>
              <p:nvSpPr>
                <p:cNvPr id="155" name="AutoShape 46"/>
                <p:cNvSpPr/>
                <p:nvPr/>
              </p:nvSpPr>
              <p:spPr>
                <a:xfrm rot="5400000">
                  <a:off x="6235200" y="2307960"/>
                  <a:ext cx="53352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Text Box 47"/>
                <p:cNvSpPr/>
                <p:nvPr/>
              </p:nvSpPr>
              <p:spPr>
                <a:xfrm>
                  <a:off x="6324480" y="22701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Group 48"/>
              <p:cNvGrpSpPr/>
              <p:nvPr/>
            </p:nvGrpSpPr>
            <p:grpSpPr>
              <a:xfrm>
                <a:off x="3137040" y="2193840"/>
                <a:ext cx="380880" cy="533520"/>
                <a:chOff x="3137040" y="2193840"/>
                <a:chExt cx="380880" cy="533520"/>
              </a:xfrm>
            </p:grpSpPr>
            <p:sp>
              <p:nvSpPr>
                <p:cNvPr id="158" name="AutoShape 49"/>
                <p:cNvSpPr/>
                <p:nvPr/>
              </p:nvSpPr>
              <p:spPr>
                <a:xfrm rot="5400000">
                  <a:off x="3047400" y="2307960"/>
                  <a:ext cx="53352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Text Box 50"/>
                <p:cNvSpPr/>
                <p:nvPr/>
              </p:nvSpPr>
              <p:spPr>
                <a:xfrm>
                  <a:off x="3137040" y="230832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Rectangle 51"/>
              <p:cNvSpPr/>
              <p:nvPr/>
            </p:nvSpPr>
            <p:spPr>
              <a:xfrm rot="1935600">
                <a:off x="6737400" y="2250720"/>
                <a:ext cx="952560" cy="2491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52"/>
              <p:cNvSpPr/>
              <p:nvPr/>
            </p:nvSpPr>
            <p:spPr>
              <a:xfrm>
                <a:off x="1523880" y="2041560"/>
                <a:ext cx="541044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2" name="Group 53"/>
          <p:cNvGrpSpPr/>
          <p:nvPr/>
        </p:nvGrpSpPr>
        <p:grpSpPr>
          <a:xfrm>
            <a:off x="7467480" y="2498760"/>
            <a:ext cx="1676520" cy="1371600"/>
            <a:chOff x="7467480" y="2498760"/>
            <a:chExt cx="1676520" cy="1371600"/>
          </a:xfrm>
        </p:grpSpPr>
        <p:grpSp>
          <p:nvGrpSpPr>
            <p:cNvPr id="163" name="Group 54"/>
            <p:cNvGrpSpPr/>
            <p:nvPr/>
          </p:nvGrpSpPr>
          <p:grpSpPr>
            <a:xfrm>
              <a:off x="8229600" y="3184200"/>
              <a:ext cx="380880" cy="583560"/>
              <a:chOff x="8229600" y="3184200"/>
              <a:chExt cx="380880" cy="583560"/>
            </a:xfrm>
          </p:grpSpPr>
          <p:sp>
            <p:nvSpPr>
              <p:cNvPr id="164" name="AutoShape 55"/>
              <p:cNvSpPr/>
              <p:nvPr/>
            </p:nvSpPr>
            <p:spPr>
              <a:xfrm rot="16200000">
                <a:off x="8115480" y="3323520"/>
                <a:ext cx="5835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56"/>
              <p:cNvSpPr/>
              <p:nvPr/>
            </p:nvSpPr>
            <p:spPr>
              <a:xfrm>
                <a:off x="8229600" y="31982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57"/>
            <p:cNvGrpSpPr/>
            <p:nvPr/>
          </p:nvGrpSpPr>
          <p:grpSpPr>
            <a:xfrm>
              <a:off x="8229600" y="2676600"/>
              <a:ext cx="380880" cy="533160"/>
              <a:chOff x="8229600" y="2676600"/>
              <a:chExt cx="380880" cy="533160"/>
            </a:xfrm>
          </p:grpSpPr>
          <p:sp>
            <p:nvSpPr>
              <p:cNvPr id="167" name="AutoShape 58"/>
              <p:cNvSpPr/>
              <p:nvPr/>
            </p:nvSpPr>
            <p:spPr>
              <a:xfrm rot="5400000">
                <a:off x="8140320" y="2790720"/>
                <a:ext cx="53316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9"/>
              <p:cNvSpPr/>
              <p:nvPr/>
            </p:nvSpPr>
            <p:spPr>
              <a:xfrm>
                <a:off x="8229600" y="27907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60"/>
            <p:cNvGrpSpPr/>
            <p:nvPr/>
          </p:nvGrpSpPr>
          <p:grpSpPr>
            <a:xfrm>
              <a:off x="8763120" y="3184560"/>
              <a:ext cx="380880" cy="609120"/>
              <a:chOff x="8763120" y="3184560"/>
              <a:chExt cx="380880" cy="609120"/>
            </a:xfrm>
          </p:grpSpPr>
          <p:sp>
            <p:nvSpPr>
              <p:cNvPr id="170" name="AutoShape 61"/>
              <p:cNvSpPr/>
              <p:nvPr/>
            </p:nvSpPr>
            <p:spPr>
              <a:xfrm flipV="1" rot="16200000">
                <a:off x="8622720" y="3336840"/>
                <a:ext cx="609120" cy="304200"/>
              </a:xfrm>
              <a:custGeom>
                <a:avLst/>
                <a:gdLst>
                  <a:gd name="textAreaLeft" fmla="*/ 0 w 609120"/>
                  <a:gd name="textAreaRight" fmla="*/ 609480 w 60912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62"/>
              <p:cNvSpPr/>
              <p:nvPr/>
            </p:nvSpPr>
            <p:spPr>
              <a:xfrm>
                <a:off x="8763120" y="3257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63"/>
            <p:cNvGrpSpPr/>
            <p:nvPr/>
          </p:nvGrpSpPr>
          <p:grpSpPr>
            <a:xfrm>
              <a:off x="8763120" y="2574720"/>
              <a:ext cx="380880" cy="685440"/>
              <a:chOff x="8763120" y="2574720"/>
              <a:chExt cx="380880" cy="685440"/>
            </a:xfrm>
          </p:grpSpPr>
          <p:sp>
            <p:nvSpPr>
              <p:cNvPr id="173" name="AutoShape 64"/>
              <p:cNvSpPr/>
              <p:nvPr/>
            </p:nvSpPr>
            <p:spPr>
              <a:xfrm rot="16200000">
                <a:off x="8584920" y="2765160"/>
                <a:ext cx="685440" cy="30420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65"/>
              <p:cNvSpPr/>
              <p:nvPr/>
            </p:nvSpPr>
            <p:spPr>
              <a:xfrm>
                <a:off x="8763120" y="27118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66"/>
            <p:cNvGrpSpPr/>
            <p:nvPr/>
          </p:nvGrpSpPr>
          <p:grpSpPr>
            <a:xfrm>
              <a:off x="7785000" y="3196440"/>
              <a:ext cx="380880" cy="571320"/>
              <a:chOff x="7785000" y="3196440"/>
              <a:chExt cx="380880" cy="571320"/>
            </a:xfrm>
          </p:grpSpPr>
          <p:sp>
            <p:nvSpPr>
              <p:cNvPr id="176" name="AutoShape 67"/>
              <p:cNvSpPr/>
              <p:nvPr/>
            </p:nvSpPr>
            <p:spPr>
              <a:xfrm flipV="1" rot="5400000">
                <a:off x="7651440" y="3329280"/>
                <a:ext cx="571320" cy="304560"/>
              </a:xfrm>
              <a:custGeom>
                <a:avLst/>
                <a:gdLst>
                  <a:gd name="textAreaLeft" fmla="*/ 0 w 571320"/>
                  <a:gd name="textAreaRight" fmla="*/ 571680 w 5713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68"/>
              <p:cNvSpPr/>
              <p:nvPr/>
            </p:nvSpPr>
            <p:spPr>
              <a:xfrm>
                <a:off x="7785000" y="3286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69"/>
            <p:cNvGrpSpPr/>
            <p:nvPr/>
          </p:nvGrpSpPr>
          <p:grpSpPr>
            <a:xfrm>
              <a:off x="7772400" y="2727360"/>
              <a:ext cx="380880" cy="532800"/>
              <a:chOff x="7772400" y="2727360"/>
              <a:chExt cx="380880" cy="532800"/>
            </a:xfrm>
          </p:grpSpPr>
          <p:sp>
            <p:nvSpPr>
              <p:cNvPr id="179" name="AutoShape 70"/>
              <p:cNvSpPr/>
              <p:nvPr/>
            </p:nvSpPr>
            <p:spPr>
              <a:xfrm flipV="1" rot="5400000">
                <a:off x="7670520" y="2841480"/>
                <a:ext cx="532800" cy="304200"/>
              </a:xfrm>
              <a:custGeom>
                <a:avLst/>
                <a:gdLst>
                  <a:gd name="textAreaLeft" fmla="*/ 0 w 532800"/>
                  <a:gd name="textAreaRight" fmla="*/ 533160 w 53280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71"/>
              <p:cNvSpPr/>
              <p:nvPr/>
            </p:nvSpPr>
            <p:spPr>
              <a:xfrm>
                <a:off x="7772400" y="27417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Rectangle 72"/>
            <p:cNvSpPr/>
            <p:nvPr/>
          </p:nvSpPr>
          <p:spPr>
            <a:xfrm>
              <a:off x="7543800" y="2498760"/>
              <a:ext cx="160020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73"/>
            <p:cNvSpPr/>
            <p:nvPr/>
          </p:nvSpPr>
          <p:spPr>
            <a:xfrm>
              <a:off x="7467480" y="3641760"/>
              <a:ext cx="167652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74"/>
          <p:cNvGrpSpPr/>
          <p:nvPr/>
        </p:nvGrpSpPr>
        <p:grpSpPr>
          <a:xfrm>
            <a:off x="0" y="2498760"/>
            <a:ext cx="1066680" cy="1384200"/>
            <a:chOff x="0" y="2498760"/>
            <a:chExt cx="1066680" cy="1384200"/>
          </a:xfrm>
        </p:grpSpPr>
        <p:grpSp>
          <p:nvGrpSpPr>
            <p:cNvPr id="184" name="Group 75"/>
            <p:cNvGrpSpPr/>
            <p:nvPr/>
          </p:nvGrpSpPr>
          <p:grpSpPr>
            <a:xfrm>
              <a:off x="0" y="3196800"/>
              <a:ext cx="380880" cy="533160"/>
              <a:chOff x="0" y="3196800"/>
              <a:chExt cx="380880" cy="533160"/>
            </a:xfrm>
          </p:grpSpPr>
          <p:sp>
            <p:nvSpPr>
              <p:cNvPr id="185" name="AutoShape 76"/>
              <p:cNvSpPr/>
              <p:nvPr/>
            </p:nvSpPr>
            <p:spPr>
              <a:xfrm rot="16200000">
                <a:off x="-88560" y="3310920"/>
                <a:ext cx="5331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77"/>
              <p:cNvSpPr/>
              <p:nvPr/>
            </p:nvSpPr>
            <p:spPr>
              <a:xfrm>
                <a:off x="0" y="32097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78"/>
            <p:cNvGrpSpPr/>
            <p:nvPr/>
          </p:nvGrpSpPr>
          <p:grpSpPr>
            <a:xfrm>
              <a:off x="0" y="2663640"/>
              <a:ext cx="380880" cy="533520"/>
              <a:chOff x="0" y="2663640"/>
              <a:chExt cx="380880" cy="533520"/>
            </a:xfrm>
          </p:grpSpPr>
          <p:sp>
            <p:nvSpPr>
              <p:cNvPr id="188" name="AutoShape 79"/>
              <p:cNvSpPr/>
              <p:nvPr/>
            </p:nvSpPr>
            <p:spPr>
              <a:xfrm rot="5400000">
                <a:off x="-89280" y="2777760"/>
                <a:ext cx="53352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0"/>
              <p:cNvSpPr/>
              <p:nvPr/>
            </p:nvSpPr>
            <p:spPr>
              <a:xfrm>
                <a:off x="0" y="27781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81"/>
            <p:cNvGrpSpPr/>
            <p:nvPr/>
          </p:nvGrpSpPr>
          <p:grpSpPr>
            <a:xfrm>
              <a:off x="533520" y="3146400"/>
              <a:ext cx="380880" cy="647280"/>
              <a:chOff x="533520" y="3146400"/>
              <a:chExt cx="380880" cy="647280"/>
            </a:xfrm>
          </p:grpSpPr>
          <p:sp>
            <p:nvSpPr>
              <p:cNvPr id="191" name="AutoShape 82"/>
              <p:cNvSpPr/>
              <p:nvPr/>
            </p:nvSpPr>
            <p:spPr>
              <a:xfrm flipV="1" rot="16200000">
                <a:off x="374040" y="3317760"/>
                <a:ext cx="647280" cy="30420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83"/>
              <p:cNvSpPr/>
              <p:nvPr/>
            </p:nvSpPr>
            <p:spPr>
              <a:xfrm>
                <a:off x="533520" y="32234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84"/>
            <p:cNvGrpSpPr/>
            <p:nvPr/>
          </p:nvGrpSpPr>
          <p:grpSpPr>
            <a:xfrm>
              <a:off x="533520" y="2562120"/>
              <a:ext cx="380880" cy="660240"/>
              <a:chOff x="533520" y="2562120"/>
              <a:chExt cx="380880" cy="660240"/>
            </a:xfrm>
          </p:grpSpPr>
          <p:sp>
            <p:nvSpPr>
              <p:cNvPr id="194" name="AutoShape 85"/>
              <p:cNvSpPr/>
              <p:nvPr/>
            </p:nvSpPr>
            <p:spPr>
              <a:xfrm rot="16200000">
                <a:off x="367920" y="2739960"/>
                <a:ext cx="660240" cy="304200"/>
              </a:xfrm>
              <a:custGeom>
                <a:avLst/>
                <a:gdLst>
                  <a:gd name="textAreaLeft" fmla="*/ 0 w 660240"/>
                  <a:gd name="textAreaRight" fmla="*/ 660240 w 6602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86"/>
              <p:cNvSpPr/>
              <p:nvPr/>
            </p:nvSpPr>
            <p:spPr>
              <a:xfrm>
                <a:off x="533520" y="26942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Rectangle 87"/>
            <p:cNvSpPr/>
            <p:nvPr/>
          </p:nvSpPr>
          <p:spPr>
            <a:xfrm>
              <a:off x="0" y="2498760"/>
              <a:ext cx="10666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88"/>
            <p:cNvSpPr/>
            <p:nvPr/>
          </p:nvSpPr>
          <p:spPr>
            <a:xfrm>
              <a:off x="0" y="3654360"/>
              <a:ext cx="10666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89"/>
          <p:cNvGrpSpPr/>
          <p:nvPr/>
        </p:nvGrpSpPr>
        <p:grpSpPr>
          <a:xfrm>
            <a:off x="1523520" y="822240"/>
            <a:ext cx="5334120" cy="1066680"/>
            <a:chOff x="1523520" y="822240"/>
            <a:chExt cx="5334120" cy="1066680"/>
          </a:xfrm>
        </p:grpSpPr>
        <p:sp>
          <p:nvSpPr>
            <p:cNvPr id="199" name="Text Box 90"/>
            <p:cNvSpPr/>
            <p:nvPr/>
          </p:nvSpPr>
          <p:spPr>
            <a:xfrm>
              <a:off x="3352680" y="822240"/>
              <a:ext cx="16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Bubb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91"/>
            <p:cNvSpPr/>
            <p:nvPr/>
          </p:nvSpPr>
          <p:spPr>
            <a:xfrm rot="5400000">
              <a:off x="3885840" y="-1082880"/>
              <a:ext cx="609480" cy="533412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138960 h 5334120"/>
                <a:gd name="textAreaBottom" fmla="*/ 5195160 h 533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92"/>
          <p:cNvGrpSpPr/>
          <p:nvPr/>
        </p:nvGrpSpPr>
        <p:grpSpPr>
          <a:xfrm>
            <a:off x="1371600" y="2651040"/>
            <a:ext cx="5410080" cy="685800"/>
            <a:chOff x="1371600" y="2651040"/>
            <a:chExt cx="5410080" cy="685800"/>
          </a:xfrm>
        </p:grpSpPr>
        <p:grpSp>
          <p:nvGrpSpPr>
            <p:cNvPr id="202" name="Group 93"/>
            <p:cNvGrpSpPr/>
            <p:nvPr/>
          </p:nvGrpSpPr>
          <p:grpSpPr>
            <a:xfrm>
              <a:off x="3137040" y="2689200"/>
              <a:ext cx="380880" cy="609120"/>
              <a:chOff x="3137040" y="2689200"/>
              <a:chExt cx="380880" cy="609120"/>
            </a:xfrm>
          </p:grpSpPr>
          <p:sp>
            <p:nvSpPr>
              <p:cNvPr id="203" name="AutoShape 94"/>
              <p:cNvSpPr/>
              <p:nvPr/>
            </p:nvSpPr>
            <p:spPr>
              <a:xfrm rot="16200000">
                <a:off x="3009960" y="2841120"/>
                <a:ext cx="6091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95"/>
              <p:cNvSpPr/>
              <p:nvPr/>
            </p:nvSpPr>
            <p:spPr>
              <a:xfrm>
                <a:off x="3137040" y="2703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Group 96"/>
            <p:cNvGrpSpPr/>
            <p:nvPr/>
          </p:nvGrpSpPr>
          <p:grpSpPr>
            <a:xfrm>
              <a:off x="4711680" y="2663280"/>
              <a:ext cx="380880" cy="609480"/>
              <a:chOff x="4711680" y="2663280"/>
              <a:chExt cx="380880" cy="609480"/>
            </a:xfrm>
          </p:grpSpPr>
          <p:sp>
            <p:nvSpPr>
              <p:cNvPr id="206" name="AutoShape 97"/>
              <p:cNvSpPr/>
              <p:nvPr/>
            </p:nvSpPr>
            <p:spPr>
              <a:xfrm flipV="1" rot="16200000">
                <a:off x="4596840" y="2815200"/>
                <a:ext cx="609480" cy="304560"/>
              </a:xfrm>
              <a:prstGeom prst="flowChartOnlineStorag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Text Box 98"/>
              <p:cNvSpPr/>
              <p:nvPr/>
            </p:nvSpPr>
            <p:spPr>
              <a:xfrm>
                <a:off x="4711680" y="27504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99"/>
            <p:cNvGrpSpPr/>
            <p:nvPr/>
          </p:nvGrpSpPr>
          <p:grpSpPr>
            <a:xfrm>
              <a:off x="5486400" y="2663640"/>
              <a:ext cx="380880" cy="672840"/>
              <a:chOff x="5486400" y="2663640"/>
              <a:chExt cx="380880" cy="672840"/>
            </a:xfrm>
          </p:grpSpPr>
          <p:sp>
            <p:nvSpPr>
              <p:cNvPr id="209" name="AutoShape 100"/>
              <p:cNvSpPr/>
              <p:nvPr/>
            </p:nvSpPr>
            <p:spPr>
              <a:xfrm rot="5400000">
                <a:off x="5327640" y="2847600"/>
                <a:ext cx="672840" cy="304560"/>
              </a:xfrm>
              <a:custGeom>
                <a:avLst/>
                <a:gdLst>
                  <a:gd name="textAreaLeft" fmla="*/ 0 w 672840"/>
                  <a:gd name="textAreaRight" fmla="*/ 672840 w 67284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Text Box 101"/>
              <p:cNvSpPr/>
              <p:nvPr/>
            </p:nvSpPr>
            <p:spPr>
              <a:xfrm>
                <a:off x="5486400" y="2775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102"/>
            <p:cNvGrpSpPr/>
            <p:nvPr/>
          </p:nvGrpSpPr>
          <p:grpSpPr>
            <a:xfrm>
              <a:off x="1625760" y="2651040"/>
              <a:ext cx="380880" cy="583920"/>
              <a:chOff x="1625760" y="2651040"/>
              <a:chExt cx="380880" cy="583920"/>
            </a:xfrm>
          </p:grpSpPr>
          <p:sp>
            <p:nvSpPr>
              <p:cNvPr id="212" name="AutoShape 103"/>
              <p:cNvSpPr/>
              <p:nvPr/>
            </p:nvSpPr>
            <p:spPr>
              <a:xfrm rot="16200000">
                <a:off x="1498680" y="2790360"/>
                <a:ext cx="583920" cy="304920"/>
              </a:xfrm>
              <a:custGeom>
                <a:avLst/>
                <a:gdLst>
                  <a:gd name="textAreaLeft" fmla="*/ 0 w 583920"/>
                  <a:gd name="textAreaRight" fmla="*/ 584280 w 58392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 Box 104"/>
              <p:cNvSpPr/>
              <p:nvPr/>
            </p:nvSpPr>
            <p:spPr>
              <a:xfrm>
                <a:off x="1625760" y="26787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105"/>
            <p:cNvGrpSpPr/>
            <p:nvPr/>
          </p:nvGrpSpPr>
          <p:grpSpPr>
            <a:xfrm>
              <a:off x="3949560" y="2651040"/>
              <a:ext cx="381240" cy="583920"/>
              <a:chOff x="3949560" y="2651040"/>
              <a:chExt cx="381240" cy="583920"/>
            </a:xfrm>
          </p:grpSpPr>
          <p:sp>
            <p:nvSpPr>
              <p:cNvPr id="215" name="AutoShape 106"/>
              <p:cNvSpPr/>
              <p:nvPr/>
            </p:nvSpPr>
            <p:spPr>
              <a:xfrm flipV="1" rot="16200000">
                <a:off x="3822840" y="2790720"/>
                <a:ext cx="583920" cy="304560"/>
              </a:xfrm>
              <a:custGeom>
                <a:avLst/>
                <a:gdLst>
                  <a:gd name="textAreaLeft" fmla="*/ 0 w 583920"/>
                  <a:gd name="textAreaRight" fmla="*/ 584280 w 5839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 Box 107"/>
              <p:cNvSpPr/>
              <p:nvPr/>
            </p:nvSpPr>
            <p:spPr>
              <a:xfrm>
                <a:off x="3949560" y="272052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Group 108"/>
            <p:cNvGrpSpPr/>
            <p:nvPr/>
          </p:nvGrpSpPr>
          <p:grpSpPr>
            <a:xfrm>
              <a:off x="2362320" y="2651040"/>
              <a:ext cx="380880" cy="647280"/>
              <a:chOff x="2362320" y="2651040"/>
              <a:chExt cx="380880" cy="647280"/>
            </a:xfrm>
          </p:grpSpPr>
          <p:sp>
            <p:nvSpPr>
              <p:cNvPr id="218" name="AutoShape 109"/>
              <p:cNvSpPr/>
              <p:nvPr/>
            </p:nvSpPr>
            <p:spPr>
              <a:xfrm flipV="1" rot="5400000">
                <a:off x="2190960" y="2822400"/>
                <a:ext cx="647280" cy="30456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Text Box 110"/>
              <p:cNvSpPr/>
              <p:nvPr/>
            </p:nvSpPr>
            <p:spPr>
              <a:xfrm>
                <a:off x="2362320" y="2751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111"/>
            <p:cNvGrpSpPr/>
            <p:nvPr/>
          </p:nvGrpSpPr>
          <p:grpSpPr>
            <a:xfrm>
              <a:off x="6324480" y="2688840"/>
              <a:ext cx="381240" cy="533160"/>
              <a:chOff x="6324480" y="2688840"/>
              <a:chExt cx="381240" cy="533160"/>
            </a:xfrm>
          </p:grpSpPr>
          <p:sp>
            <p:nvSpPr>
              <p:cNvPr id="221" name="AutoShape 112"/>
              <p:cNvSpPr/>
              <p:nvPr/>
            </p:nvSpPr>
            <p:spPr>
              <a:xfrm rot="16200000">
                <a:off x="6235920" y="2802960"/>
                <a:ext cx="5331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Text Box 113"/>
              <p:cNvSpPr/>
              <p:nvPr/>
            </p:nvSpPr>
            <p:spPr>
              <a:xfrm>
                <a:off x="6324480" y="268920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Rectangle 114"/>
            <p:cNvSpPr/>
            <p:nvPr/>
          </p:nvSpPr>
          <p:spPr>
            <a:xfrm>
              <a:off x="1371600" y="3108240"/>
              <a:ext cx="54100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115"/>
          <p:cNvSpPr/>
          <p:nvPr/>
        </p:nvSpPr>
        <p:spPr>
          <a:xfrm>
            <a:off x="0" y="20415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6"/>
          <p:cNvSpPr/>
          <p:nvPr/>
        </p:nvSpPr>
        <p:spPr>
          <a:xfrm>
            <a:off x="8610480" y="1889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17"/>
          <p:cNvSpPr/>
          <p:nvPr/>
        </p:nvSpPr>
        <p:spPr>
          <a:xfrm>
            <a:off x="1257480" y="3108240"/>
            <a:ext cx="266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118"/>
          <p:cNvGrpSpPr/>
          <p:nvPr/>
        </p:nvGrpSpPr>
        <p:grpSpPr>
          <a:xfrm>
            <a:off x="1066680" y="2498760"/>
            <a:ext cx="6553440" cy="1371600"/>
            <a:chOff x="1066680" y="2498760"/>
            <a:chExt cx="6553440" cy="1371600"/>
          </a:xfrm>
        </p:grpSpPr>
        <p:grpSp>
          <p:nvGrpSpPr>
            <p:cNvPr id="228" name="Group 119"/>
            <p:cNvGrpSpPr/>
            <p:nvPr/>
          </p:nvGrpSpPr>
          <p:grpSpPr>
            <a:xfrm>
              <a:off x="1143000" y="3184200"/>
              <a:ext cx="380880" cy="596520"/>
              <a:chOff x="1143000" y="3184200"/>
              <a:chExt cx="380880" cy="596520"/>
            </a:xfrm>
          </p:grpSpPr>
          <p:sp>
            <p:nvSpPr>
              <p:cNvPr id="229" name="AutoShape 120"/>
              <p:cNvSpPr/>
              <p:nvPr/>
            </p:nvSpPr>
            <p:spPr>
              <a:xfrm rot="16200000">
                <a:off x="1022400" y="3330000"/>
                <a:ext cx="5965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121"/>
              <p:cNvSpPr/>
              <p:nvPr/>
            </p:nvSpPr>
            <p:spPr>
              <a:xfrm>
                <a:off x="1143000" y="3198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122"/>
            <p:cNvGrpSpPr/>
            <p:nvPr/>
          </p:nvGrpSpPr>
          <p:grpSpPr>
            <a:xfrm>
              <a:off x="1828800" y="3184560"/>
              <a:ext cx="380880" cy="570960"/>
              <a:chOff x="1828800" y="3184560"/>
              <a:chExt cx="380880" cy="570960"/>
            </a:xfrm>
          </p:grpSpPr>
          <p:sp>
            <p:nvSpPr>
              <p:cNvPr id="232" name="AutoShape 123"/>
              <p:cNvSpPr/>
              <p:nvPr/>
            </p:nvSpPr>
            <p:spPr>
              <a:xfrm flipV="1" rot="16200000">
                <a:off x="1707480" y="3317760"/>
                <a:ext cx="570960" cy="304200"/>
              </a:xfrm>
              <a:custGeom>
                <a:avLst/>
                <a:gdLst>
                  <a:gd name="textAreaLeft" fmla="*/ 0 w 570960"/>
                  <a:gd name="textAreaRight" fmla="*/ 570960 w 5709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Text Box 124"/>
              <p:cNvSpPr/>
              <p:nvPr/>
            </p:nvSpPr>
            <p:spPr>
              <a:xfrm>
                <a:off x="1828800" y="3252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Group 125"/>
            <p:cNvGrpSpPr/>
            <p:nvPr/>
          </p:nvGrpSpPr>
          <p:grpSpPr>
            <a:xfrm>
              <a:off x="1828800" y="2599920"/>
              <a:ext cx="380880" cy="659880"/>
              <a:chOff x="1828800" y="2599920"/>
              <a:chExt cx="380880" cy="659880"/>
            </a:xfrm>
          </p:grpSpPr>
          <p:sp>
            <p:nvSpPr>
              <p:cNvPr id="235" name="AutoShape 126"/>
              <p:cNvSpPr/>
              <p:nvPr/>
            </p:nvSpPr>
            <p:spPr>
              <a:xfrm rot="16200000">
                <a:off x="1663560" y="2777760"/>
                <a:ext cx="659880" cy="304200"/>
              </a:xfrm>
              <a:custGeom>
                <a:avLst/>
                <a:gdLst>
                  <a:gd name="textAreaLeft" fmla="*/ 0 w 659880"/>
                  <a:gd name="textAreaRight" fmla="*/ 660240 w 6598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 Box 127"/>
              <p:cNvSpPr/>
              <p:nvPr/>
            </p:nvSpPr>
            <p:spPr>
              <a:xfrm>
                <a:off x="1828800" y="27324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128"/>
            <p:cNvGrpSpPr/>
            <p:nvPr/>
          </p:nvGrpSpPr>
          <p:grpSpPr>
            <a:xfrm>
              <a:off x="1143000" y="2612880"/>
              <a:ext cx="380880" cy="622080"/>
              <a:chOff x="1143000" y="2612880"/>
              <a:chExt cx="380880" cy="622080"/>
            </a:xfrm>
          </p:grpSpPr>
          <p:sp>
            <p:nvSpPr>
              <p:cNvPr id="238" name="AutoShape 129"/>
              <p:cNvSpPr/>
              <p:nvPr/>
            </p:nvSpPr>
            <p:spPr>
              <a:xfrm rot="5400000">
                <a:off x="1009080" y="2771280"/>
                <a:ext cx="62208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 Box 130"/>
              <p:cNvSpPr/>
              <p:nvPr/>
            </p:nvSpPr>
            <p:spPr>
              <a:xfrm>
                <a:off x="1143000" y="2746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131"/>
            <p:cNvGrpSpPr/>
            <p:nvPr/>
          </p:nvGrpSpPr>
          <p:grpSpPr>
            <a:xfrm>
              <a:off x="3975120" y="3184560"/>
              <a:ext cx="380880" cy="609120"/>
              <a:chOff x="3975120" y="3184560"/>
              <a:chExt cx="380880" cy="609120"/>
            </a:xfrm>
          </p:grpSpPr>
          <p:sp>
            <p:nvSpPr>
              <p:cNvPr id="241" name="AutoShape 132"/>
              <p:cNvSpPr/>
              <p:nvPr/>
            </p:nvSpPr>
            <p:spPr>
              <a:xfrm rot="16200000">
                <a:off x="3848040" y="3336480"/>
                <a:ext cx="6091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 Box 133"/>
              <p:cNvSpPr/>
              <p:nvPr/>
            </p:nvSpPr>
            <p:spPr>
              <a:xfrm>
                <a:off x="3975120" y="31989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134"/>
            <p:cNvGrpSpPr/>
            <p:nvPr/>
          </p:nvGrpSpPr>
          <p:grpSpPr>
            <a:xfrm>
              <a:off x="5562720" y="3184560"/>
              <a:ext cx="380880" cy="609120"/>
              <a:chOff x="5562720" y="3184560"/>
              <a:chExt cx="380880" cy="609120"/>
            </a:xfrm>
          </p:grpSpPr>
          <p:sp>
            <p:nvSpPr>
              <p:cNvPr id="244" name="AutoShape 135"/>
              <p:cNvSpPr/>
              <p:nvPr/>
            </p:nvSpPr>
            <p:spPr>
              <a:xfrm flipV="1" rot="16200000">
                <a:off x="5448240" y="3336840"/>
                <a:ext cx="609120" cy="30456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Text Box 136"/>
              <p:cNvSpPr/>
              <p:nvPr/>
            </p:nvSpPr>
            <p:spPr>
              <a:xfrm>
                <a:off x="5562720" y="32713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137"/>
            <p:cNvGrpSpPr/>
            <p:nvPr/>
          </p:nvGrpSpPr>
          <p:grpSpPr>
            <a:xfrm>
              <a:off x="6324480" y="3108240"/>
              <a:ext cx="380880" cy="672840"/>
              <a:chOff x="6324480" y="3108240"/>
              <a:chExt cx="380880" cy="672840"/>
            </a:xfrm>
          </p:grpSpPr>
          <p:sp>
            <p:nvSpPr>
              <p:cNvPr id="247" name="AutoShape 138"/>
              <p:cNvSpPr/>
              <p:nvPr/>
            </p:nvSpPr>
            <p:spPr>
              <a:xfrm rot="5400000">
                <a:off x="6165720" y="3292200"/>
                <a:ext cx="672840" cy="304560"/>
              </a:xfrm>
              <a:custGeom>
                <a:avLst/>
                <a:gdLst>
                  <a:gd name="textAreaLeft" fmla="*/ 0 w 672840"/>
                  <a:gd name="textAreaRight" fmla="*/ 672840 w 67284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139"/>
              <p:cNvSpPr/>
              <p:nvPr/>
            </p:nvSpPr>
            <p:spPr>
              <a:xfrm>
                <a:off x="6324480" y="32202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140"/>
            <p:cNvGrpSpPr/>
            <p:nvPr/>
          </p:nvGrpSpPr>
          <p:grpSpPr>
            <a:xfrm>
              <a:off x="2463840" y="3184200"/>
              <a:ext cx="380880" cy="583560"/>
              <a:chOff x="2463840" y="3184200"/>
              <a:chExt cx="380880" cy="583560"/>
            </a:xfrm>
          </p:grpSpPr>
          <p:sp>
            <p:nvSpPr>
              <p:cNvPr id="250" name="AutoShape 141"/>
              <p:cNvSpPr/>
              <p:nvPr/>
            </p:nvSpPr>
            <p:spPr>
              <a:xfrm rot="16200000">
                <a:off x="2337120" y="3323520"/>
                <a:ext cx="583560" cy="304920"/>
              </a:xfrm>
              <a:custGeom>
                <a:avLst/>
                <a:gdLst>
                  <a:gd name="textAreaLeft" fmla="*/ 0 w 583560"/>
                  <a:gd name="textAreaRight" fmla="*/ 583560 w 58356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 Box 142"/>
              <p:cNvSpPr/>
              <p:nvPr/>
            </p:nvSpPr>
            <p:spPr>
              <a:xfrm>
                <a:off x="2463840" y="3212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143"/>
            <p:cNvGrpSpPr/>
            <p:nvPr/>
          </p:nvGrpSpPr>
          <p:grpSpPr>
            <a:xfrm>
              <a:off x="4788000" y="3184200"/>
              <a:ext cx="380880" cy="583560"/>
              <a:chOff x="4788000" y="3184200"/>
              <a:chExt cx="380880" cy="583560"/>
            </a:xfrm>
          </p:grpSpPr>
          <p:sp>
            <p:nvSpPr>
              <p:cNvPr id="253" name="AutoShape 144"/>
              <p:cNvSpPr/>
              <p:nvPr/>
            </p:nvSpPr>
            <p:spPr>
              <a:xfrm flipV="1" rot="16200000">
                <a:off x="4660560" y="3323520"/>
                <a:ext cx="583560" cy="304200"/>
              </a:xfrm>
              <a:custGeom>
                <a:avLst/>
                <a:gdLst>
                  <a:gd name="textAreaLeft" fmla="*/ 0 w 583560"/>
                  <a:gd name="textAreaRight" fmla="*/ 583560 w 5835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 Box 145"/>
              <p:cNvSpPr/>
              <p:nvPr/>
            </p:nvSpPr>
            <p:spPr>
              <a:xfrm>
                <a:off x="4788000" y="32540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Group 146"/>
            <p:cNvGrpSpPr/>
            <p:nvPr/>
          </p:nvGrpSpPr>
          <p:grpSpPr>
            <a:xfrm>
              <a:off x="3200400" y="3184560"/>
              <a:ext cx="380880" cy="647280"/>
              <a:chOff x="3200400" y="3184560"/>
              <a:chExt cx="380880" cy="647280"/>
            </a:xfrm>
          </p:grpSpPr>
          <p:sp>
            <p:nvSpPr>
              <p:cNvPr id="256" name="AutoShape 147"/>
              <p:cNvSpPr/>
              <p:nvPr/>
            </p:nvSpPr>
            <p:spPr>
              <a:xfrm flipV="1" rot="5400000">
                <a:off x="3029040" y="3355920"/>
                <a:ext cx="647280" cy="30456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Text Box 148"/>
              <p:cNvSpPr/>
              <p:nvPr/>
            </p:nvSpPr>
            <p:spPr>
              <a:xfrm>
                <a:off x="3200400" y="32850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Group 149"/>
            <p:cNvGrpSpPr/>
            <p:nvPr/>
          </p:nvGrpSpPr>
          <p:grpSpPr>
            <a:xfrm>
              <a:off x="7162920" y="3260160"/>
              <a:ext cx="380880" cy="533160"/>
              <a:chOff x="7162920" y="3260160"/>
              <a:chExt cx="380880" cy="533160"/>
            </a:xfrm>
          </p:grpSpPr>
          <p:sp>
            <p:nvSpPr>
              <p:cNvPr id="259" name="AutoShape 150"/>
              <p:cNvSpPr/>
              <p:nvPr/>
            </p:nvSpPr>
            <p:spPr>
              <a:xfrm rot="16200000">
                <a:off x="7073640" y="3374280"/>
                <a:ext cx="533160" cy="30456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151"/>
              <p:cNvSpPr/>
              <p:nvPr/>
            </p:nvSpPr>
            <p:spPr>
              <a:xfrm>
                <a:off x="7162920" y="3260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Group 152"/>
            <p:cNvGrpSpPr/>
            <p:nvPr/>
          </p:nvGrpSpPr>
          <p:grpSpPr>
            <a:xfrm>
              <a:off x="5549760" y="2612160"/>
              <a:ext cx="380880" cy="609480"/>
              <a:chOff x="5549760" y="2612160"/>
              <a:chExt cx="380880" cy="609480"/>
            </a:xfrm>
          </p:grpSpPr>
          <p:sp>
            <p:nvSpPr>
              <p:cNvPr id="262" name="AutoShape 153"/>
              <p:cNvSpPr/>
              <p:nvPr/>
            </p:nvSpPr>
            <p:spPr>
              <a:xfrm flipV="1" rot="5400000">
                <a:off x="5448240" y="2764080"/>
                <a:ext cx="60948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Text Box 154"/>
              <p:cNvSpPr/>
              <p:nvPr/>
            </p:nvSpPr>
            <p:spPr>
              <a:xfrm>
                <a:off x="5549760" y="27288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155"/>
            <p:cNvGrpSpPr/>
            <p:nvPr/>
          </p:nvGrpSpPr>
          <p:grpSpPr>
            <a:xfrm>
              <a:off x="2438280" y="2561760"/>
              <a:ext cx="380880" cy="698040"/>
              <a:chOff x="2438280" y="2561760"/>
              <a:chExt cx="380880" cy="698040"/>
            </a:xfrm>
          </p:grpSpPr>
          <p:sp>
            <p:nvSpPr>
              <p:cNvPr id="265" name="AutoShape 156"/>
              <p:cNvSpPr/>
              <p:nvPr/>
            </p:nvSpPr>
            <p:spPr>
              <a:xfrm rot="16200000">
                <a:off x="2279880" y="2758320"/>
                <a:ext cx="698040" cy="304920"/>
              </a:xfrm>
              <a:custGeom>
                <a:avLst/>
                <a:gdLst>
                  <a:gd name="textAreaLeft" fmla="*/ 0 w 698040"/>
                  <a:gd name="textAreaRight" fmla="*/ 698400 w 69804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Text Box 157"/>
              <p:cNvSpPr/>
              <p:nvPr/>
            </p:nvSpPr>
            <p:spPr>
              <a:xfrm>
                <a:off x="2438280" y="27511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158"/>
            <p:cNvGrpSpPr/>
            <p:nvPr/>
          </p:nvGrpSpPr>
          <p:grpSpPr>
            <a:xfrm>
              <a:off x="6324480" y="2663640"/>
              <a:ext cx="380880" cy="533520"/>
              <a:chOff x="6324480" y="2663640"/>
              <a:chExt cx="380880" cy="533520"/>
            </a:xfrm>
          </p:grpSpPr>
          <p:sp>
            <p:nvSpPr>
              <p:cNvPr id="268" name="AutoShape 159"/>
              <p:cNvSpPr/>
              <p:nvPr/>
            </p:nvSpPr>
            <p:spPr>
              <a:xfrm flipV="1" rot="5400000">
                <a:off x="6235560" y="2778120"/>
                <a:ext cx="533520" cy="304560"/>
              </a:xfrm>
              <a:custGeom>
                <a:avLst/>
                <a:gdLst>
                  <a:gd name="textAreaLeft" fmla="*/ 0 w 533520"/>
                  <a:gd name="textAreaRight" fmla="*/ 533880 w 5335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160"/>
              <p:cNvSpPr/>
              <p:nvPr/>
            </p:nvSpPr>
            <p:spPr>
              <a:xfrm>
                <a:off x="6324480" y="27273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161"/>
            <p:cNvGrpSpPr/>
            <p:nvPr/>
          </p:nvGrpSpPr>
          <p:grpSpPr>
            <a:xfrm>
              <a:off x="4788000" y="2612880"/>
              <a:ext cx="380880" cy="647280"/>
              <a:chOff x="4788000" y="2612880"/>
              <a:chExt cx="380880" cy="647280"/>
            </a:xfrm>
          </p:grpSpPr>
          <p:sp>
            <p:nvSpPr>
              <p:cNvPr id="271" name="AutoShape 162"/>
              <p:cNvSpPr/>
              <p:nvPr/>
            </p:nvSpPr>
            <p:spPr>
              <a:xfrm rot="16200000">
                <a:off x="4628880" y="2784240"/>
                <a:ext cx="647280" cy="30420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Text Box 163"/>
              <p:cNvSpPr/>
              <p:nvPr/>
            </p:nvSpPr>
            <p:spPr>
              <a:xfrm>
                <a:off x="4788000" y="2742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164"/>
            <p:cNvGrpSpPr/>
            <p:nvPr/>
          </p:nvGrpSpPr>
          <p:grpSpPr>
            <a:xfrm>
              <a:off x="3187800" y="2714400"/>
              <a:ext cx="380880" cy="545760"/>
              <a:chOff x="3187800" y="2714400"/>
              <a:chExt cx="380880" cy="545760"/>
            </a:xfrm>
          </p:grpSpPr>
          <p:sp>
            <p:nvSpPr>
              <p:cNvPr id="274" name="AutoShape 165"/>
              <p:cNvSpPr/>
              <p:nvPr/>
            </p:nvSpPr>
            <p:spPr>
              <a:xfrm flipV="1" rot="5400000">
                <a:off x="3079440" y="2835000"/>
                <a:ext cx="545760" cy="304200"/>
              </a:xfrm>
              <a:custGeom>
                <a:avLst/>
                <a:gdLst>
                  <a:gd name="textAreaLeft" fmla="*/ 0 w 545760"/>
                  <a:gd name="textAreaRight" fmla="*/ 546120 w 5457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 Box 166"/>
              <p:cNvSpPr/>
              <p:nvPr/>
            </p:nvSpPr>
            <p:spPr>
              <a:xfrm>
                <a:off x="3187800" y="27291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167"/>
            <p:cNvGrpSpPr/>
            <p:nvPr/>
          </p:nvGrpSpPr>
          <p:grpSpPr>
            <a:xfrm>
              <a:off x="7162920" y="2651040"/>
              <a:ext cx="380880" cy="533520"/>
              <a:chOff x="7162920" y="2651040"/>
              <a:chExt cx="380880" cy="533520"/>
            </a:xfrm>
          </p:grpSpPr>
          <p:sp>
            <p:nvSpPr>
              <p:cNvPr id="277" name="AutoShape 168"/>
              <p:cNvSpPr/>
              <p:nvPr/>
            </p:nvSpPr>
            <p:spPr>
              <a:xfrm rot="5400000">
                <a:off x="7073640" y="2765520"/>
                <a:ext cx="533520" cy="30456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169"/>
              <p:cNvSpPr/>
              <p:nvPr/>
            </p:nvSpPr>
            <p:spPr>
              <a:xfrm>
                <a:off x="7162920" y="27273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170"/>
            <p:cNvGrpSpPr/>
            <p:nvPr/>
          </p:nvGrpSpPr>
          <p:grpSpPr>
            <a:xfrm>
              <a:off x="3975120" y="2689200"/>
              <a:ext cx="380880" cy="533520"/>
              <a:chOff x="3975120" y="2689200"/>
              <a:chExt cx="380880" cy="533520"/>
            </a:xfrm>
          </p:grpSpPr>
          <p:sp>
            <p:nvSpPr>
              <p:cNvPr id="280" name="AutoShape 171"/>
              <p:cNvSpPr/>
              <p:nvPr/>
            </p:nvSpPr>
            <p:spPr>
              <a:xfrm rot="5400000">
                <a:off x="3885480" y="2803320"/>
                <a:ext cx="53352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172"/>
              <p:cNvSpPr/>
              <p:nvPr/>
            </p:nvSpPr>
            <p:spPr>
              <a:xfrm>
                <a:off x="3975120" y="28036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Rectangle 173"/>
            <p:cNvSpPr/>
            <p:nvPr/>
          </p:nvSpPr>
          <p:spPr>
            <a:xfrm>
              <a:off x="1066680" y="3641760"/>
              <a:ext cx="655344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74"/>
            <p:cNvSpPr/>
            <p:nvPr/>
          </p:nvSpPr>
          <p:spPr>
            <a:xfrm>
              <a:off x="1066680" y="2498760"/>
              <a:ext cx="655344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Rectangle 175"/>
          <p:cNvSpPr/>
          <p:nvPr/>
        </p:nvSpPr>
        <p:spPr>
          <a:xfrm>
            <a:off x="304920" y="5318280"/>
            <a:ext cx="73911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176"/>
          <p:cNvGrpSpPr/>
          <p:nvPr/>
        </p:nvGrpSpPr>
        <p:grpSpPr>
          <a:xfrm>
            <a:off x="2470320" y="5282640"/>
            <a:ext cx="5225760" cy="1116360"/>
            <a:chOff x="2470320" y="5282640"/>
            <a:chExt cx="5225760" cy="1116360"/>
          </a:xfrm>
        </p:grpSpPr>
        <p:sp>
          <p:nvSpPr>
            <p:cNvPr id="286" name="Oval 177"/>
            <p:cNvSpPr/>
            <p:nvPr/>
          </p:nvSpPr>
          <p:spPr>
            <a:xfrm>
              <a:off x="6095880" y="60800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78"/>
            <p:cNvSpPr/>
            <p:nvPr/>
          </p:nvSpPr>
          <p:spPr>
            <a:xfrm>
              <a:off x="5638680" y="60800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79"/>
            <p:cNvSpPr/>
            <p:nvPr/>
          </p:nvSpPr>
          <p:spPr>
            <a:xfrm rot="1321200">
              <a:off x="5181120" y="600372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80"/>
            <p:cNvSpPr/>
            <p:nvPr/>
          </p:nvSpPr>
          <p:spPr>
            <a:xfrm rot="1162200">
              <a:off x="4800240" y="58510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81"/>
            <p:cNvSpPr/>
            <p:nvPr/>
          </p:nvSpPr>
          <p:spPr>
            <a:xfrm rot="20470800">
              <a:off x="4419000" y="58510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82"/>
            <p:cNvSpPr/>
            <p:nvPr/>
          </p:nvSpPr>
          <p:spPr>
            <a:xfrm>
              <a:off x="4038480" y="600372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83"/>
            <p:cNvSpPr/>
            <p:nvPr/>
          </p:nvSpPr>
          <p:spPr>
            <a:xfrm>
              <a:off x="3657600" y="600372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84"/>
            <p:cNvSpPr/>
            <p:nvPr/>
          </p:nvSpPr>
          <p:spPr>
            <a:xfrm>
              <a:off x="7238880" y="5699160"/>
              <a:ext cx="457200" cy="3045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85"/>
            <p:cNvSpPr/>
            <p:nvPr/>
          </p:nvSpPr>
          <p:spPr>
            <a:xfrm rot="2420400">
              <a:off x="2514240" y="53942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86"/>
            <p:cNvSpPr/>
            <p:nvPr/>
          </p:nvSpPr>
          <p:spPr>
            <a:xfrm rot="2347200">
              <a:off x="2895120" y="56224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87"/>
            <p:cNvSpPr/>
            <p:nvPr/>
          </p:nvSpPr>
          <p:spPr>
            <a:xfrm rot="1561200">
              <a:off x="3276000" y="58510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88"/>
            <p:cNvSpPr/>
            <p:nvPr/>
          </p:nvSpPr>
          <p:spPr>
            <a:xfrm rot="19894200">
              <a:off x="6476760" y="600336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9"/>
            <p:cNvSpPr/>
            <p:nvPr/>
          </p:nvSpPr>
          <p:spPr>
            <a:xfrm rot="19894200">
              <a:off x="6858000" y="577476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AutoShape 190"/>
          <p:cNvSpPr/>
          <p:nvPr/>
        </p:nvSpPr>
        <p:spPr>
          <a:xfrm>
            <a:off x="6629400" y="4708440"/>
            <a:ext cx="2133720" cy="1981440"/>
          </a:xfrm>
          <a:custGeom>
            <a:avLst/>
            <a:gdLst>
              <a:gd name="textAreaLeft" fmla="*/ 487080 w 2133720"/>
              <a:gd name="textAreaRight" fmla="*/ 1646640 w 2133720"/>
              <a:gd name="textAreaTop" fmla="*/ 452160 h 1981440"/>
              <a:gd name="textAreaBottom" fmla="*/ 152928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800080"/>
              </a:gs>
              <a:gs pos="100000">
                <a:srgbClr val="2500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ibo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91"/>
          <p:cNvSpPr/>
          <p:nvPr/>
        </p:nvSpPr>
        <p:spPr>
          <a:xfrm>
            <a:off x="7086600" y="6278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92"/>
          <p:cNvSpPr/>
          <p:nvPr/>
        </p:nvSpPr>
        <p:spPr>
          <a:xfrm>
            <a:off x="2139480" y="152280"/>
            <a:ext cx="549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RNA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transcription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&amp;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93"/>
          <p:cNvSpPr/>
          <p:nvPr/>
        </p:nvSpPr>
        <p:spPr>
          <a:xfrm rot="5400000">
            <a:off x="1219320" y="2955960"/>
            <a:ext cx="30456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162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194"/>
          <p:cNvSpPr/>
          <p:nvPr/>
        </p:nvSpPr>
        <p:spPr>
          <a:xfrm>
            <a:off x="1523880" y="2600280"/>
            <a:ext cx="1371600" cy="96516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7600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polumer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95"/>
          <p:cNvSpPr/>
          <p:nvPr/>
        </p:nvSpPr>
        <p:spPr>
          <a:xfrm>
            <a:off x="838080" y="3808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mo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6"/>
          <p:cNvSpPr/>
          <p:nvPr/>
        </p:nvSpPr>
        <p:spPr>
          <a:xfrm>
            <a:off x="533520" y="7621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19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625 0.0111 E">
                                      <p:cBhvr>
                                        <p:cTn id="219" dur="14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229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33333E-006 -2.82669E-006 L 0.00417 0.39481 E">
                                      <p:cBhvr>
                                        <p:cTn id="230" dur="3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7.04356E-007 L -0.71667 7.04356E-007 E">
                                      <p:cBhvr>
                                        <p:cTn id="234" dur="10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36" dur="10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10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" dur="7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9" nodeType="after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0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2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742840" y="380880"/>
            <a:ext cx="3048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5960" y="14475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do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ـشفرة الـﭽيني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iplet c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a block of three consecutiv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تال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cleotide bases that specif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د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articular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art cod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 codon that specifies the start of RNA tran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op codon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odon that specifies the end of RNA tran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 polymerase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NA transcription enzyme that first separates the DNA strands at the suitable point then start to add nucleotides to the 3’ end of the growing RNA polyme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until comple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Transcription unit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gene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)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 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cific sequences of nucleotides along the DNA that marks where RNA transcription begins and e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motor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َفـز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ecific short sequence on DNA at which RNA polymerase attaches and initiates transcription at the beginning of the transcription un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ermina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نطقة النها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ecific short sequence on DNA at whi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NA transcription ends (the end of the gen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3124080" y="228600"/>
            <a:ext cx="3911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736560" y="1219320"/>
            <a:ext cx="77724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380880" y="1143000"/>
            <a:ext cx="8458200" cy="4800600"/>
          </a:xfrm>
          <a:prstGeom prst="rect">
            <a:avLst/>
          </a:prstGeom>
          <a:solidFill>
            <a:srgbClr val="00ff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mRNA: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is the carrier of the genetic “message” from the DNA to the cytos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RNA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is the major component of riboso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RNA: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s th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arrier of specific amino acids from the cytosol to ribosimes thus help to form polypeptid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"/>
          <p:cNvSpPr/>
          <p:nvPr/>
        </p:nvSpPr>
        <p:spPr>
          <a:xfrm>
            <a:off x="2514600" y="228600"/>
            <a:ext cx="444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ypes of R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371600" y="237960"/>
            <a:ext cx="73152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NA transcrip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نسلاخ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d transl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رجمة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re the two main processing that link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en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152280" y="1295280"/>
            <a:ext cx="883944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formation content of DNA is in the form of specific sequences of nucleotides along the DNA str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NA inherited by an organism leads to specific traits by dictating the synthesis of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roteins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are the links between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genotyp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henotyp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xample, Mendel’s dwarf pea plants lack a functioning copy of the gene that specifies the synthesis of gibberellins (which stimulate the normal elongation of stem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s provide the instructions for making specific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ridge between DNA and protein synthesis is 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ecific sequence of hundreds or thousands of nucleotides in each gene carries the information for the primary structure of a protein, the linear order of the 20 possible amino ac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52280" y="361440"/>
            <a:ext cx="8839440" cy="584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N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crip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إنسلا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 DNA strand provides a template for the synthesis of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lementary 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 of a gene produces a messenger RNA (mRNA)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N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l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رجم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the information contained in the order of nucleotides in mRNA is used to determin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ـُحد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mino acid sequenc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رتي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 polypept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asic mechanics of transcription and translation are similar in eukaryotes and prokaryo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ause bacteria lack nuclei,                                                          transcription and translation                                                                             are coupled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ـُتلازما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 attach to the leading                                                                     end of a mRNA molecule while                                                        transcription is still in prog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rcRect l="0" t="0" r="0" b="65392"/>
          <a:stretch/>
        </p:blipFill>
        <p:spPr>
          <a:xfrm>
            <a:off x="4800600" y="3733920"/>
            <a:ext cx="42670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5960" y="228240"/>
            <a:ext cx="5181480" cy="31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 eukaryotic cell, all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crip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ccurs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cle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ccurs mainly a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ddition, before the primary transcript can leave the nucleus it is modified in various ways during RNA process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جهي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fore the finished mRNA  go to the cytoplas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rcRect l="6553" t="35546" r="9493" b="3357"/>
          <a:stretch/>
        </p:blipFill>
        <p:spPr>
          <a:xfrm>
            <a:off x="5486400" y="76320"/>
            <a:ext cx="3581280" cy="4572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76320" y="3673440"/>
            <a:ext cx="6019560" cy="13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summarize, genes program protein synthesi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enetic messenger 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olecular chain of command in a cell i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3581280" y="5562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6"/>
          <p:cNvGrpSpPr/>
          <p:nvPr/>
        </p:nvGrpSpPr>
        <p:grpSpPr>
          <a:xfrm>
            <a:off x="609480" y="5410080"/>
            <a:ext cx="2971800" cy="734040"/>
            <a:chOff x="609480" y="5410080"/>
            <a:chExt cx="2971800" cy="734040"/>
          </a:xfrm>
        </p:grpSpPr>
        <p:sp>
          <p:nvSpPr>
            <p:cNvPr id="72" name="Text Box 7"/>
            <p:cNvSpPr/>
            <p:nvPr/>
          </p:nvSpPr>
          <p:spPr>
            <a:xfrm>
              <a:off x="609480" y="5562720"/>
              <a:ext cx="190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DN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15"/>
            <p:cNvGrpSpPr/>
            <p:nvPr/>
          </p:nvGrpSpPr>
          <p:grpSpPr>
            <a:xfrm>
              <a:off x="1523880" y="5410080"/>
              <a:ext cx="2057400" cy="609840"/>
              <a:chOff x="1523880" y="5410080"/>
              <a:chExt cx="2057400" cy="609840"/>
            </a:xfrm>
          </p:grpSpPr>
          <p:sp>
            <p:nvSpPr>
              <p:cNvPr id="74" name="AutoShape 10"/>
              <p:cNvSpPr/>
              <p:nvPr/>
            </p:nvSpPr>
            <p:spPr>
              <a:xfrm>
                <a:off x="1676520" y="5715000"/>
                <a:ext cx="1904760" cy="304920"/>
              </a:xfrm>
              <a:prstGeom prst="rightArrow">
                <a:avLst>
                  <a:gd name="adj1" fmla="val 50000"/>
                  <a:gd name="adj2" fmla="val 156169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Text Box 12"/>
              <p:cNvSpPr/>
              <p:nvPr/>
            </p:nvSpPr>
            <p:spPr>
              <a:xfrm>
                <a:off x="1523880" y="5410080"/>
                <a:ext cx="175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ranscrip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" name="Group 17"/>
          <p:cNvGrpSpPr/>
          <p:nvPr/>
        </p:nvGrpSpPr>
        <p:grpSpPr>
          <a:xfrm>
            <a:off x="5016600" y="5435640"/>
            <a:ext cx="3593880" cy="708480"/>
            <a:chOff x="5016600" y="5435640"/>
            <a:chExt cx="3593880" cy="708480"/>
          </a:xfrm>
        </p:grpSpPr>
        <p:sp>
          <p:nvSpPr>
            <p:cNvPr id="77" name="Text Box 9"/>
            <p:cNvSpPr/>
            <p:nvPr/>
          </p:nvSpPr>
          <p:spPr>
            <a:xfrm>
              <a:off x="7010280" y="556272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Prote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14"/>
            <p:cNvGrpSpPr/>
            <p:nvPr/>
          </p:nvGrpSpPr>
          <p:grpSpPr>
            <a:xfrm>
              <a:off x="5016600" y="5435640"/>
              <a:ext cx="1917720" cy="584280"/>
              <a:chOff x="5016600" y="5435640"/>
              <a:chExt cx="1917720" cy="584280"/>
            </a:xfrm>
          </p:grpSpPr>
          <p:sp>
            <p:nvSpPr>
              <p:cNvPr id="79" name="AutoShape 11"/>
              <p:cNvSpPr/>
              <p:nvPr/>
            </p:nvSpPr>
            <p:spPr>
              <a:xfrm>
                <a:off x="5029200" y="5715000"/>
                <a:ext cx="1905120" cy="304920"/>
              </a:xfrm>
              <a:prstGeom prst="rightArrow">
                <a:avLst>
                  <a:gd name="adj1" fmla="val 50000"/>
                  <a:gd name="adj2" fmla="val 156198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 Box 13"/>
              <p:cNvSpPr/>
              <p:nvPr/>
            </p:nvSpPr>
            <p:spPr>
              <a:xfrm>
                <a:off x="5016600" y="5435640"/>
                <a:ext cx="15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ransl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6320" y="1218960"/>
            <a:ext cx="8991360" cy="15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plet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جموعات ثلاث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nucleotide bases are the smallest units that can code for all the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riplet co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 consecutiv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تال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s specif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د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enetic instructions for a polypeptide                                                                 chain are written in DNA as a series of                                                                          three-nucleotidewords (triplet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 the genetic cod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شفرة الـﭽينية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 nucleotide triple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ثلاث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pecify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257800" y="2209680"/>
            <a:ext cx="3762360" cy="40388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76320" y="2895480"/>
            <a:ext cx="4876560" cy="51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cription, one DNA strand (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mplate strand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RNA templ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mplementary RNA molecule                                                                    is synthesized according to                                                                                  base-pairing rules, except that                        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raci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complementary bas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aden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lation, block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hree nucleotide bas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d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شفر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      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شفرة عبارة عن مجموعة ثلاثية من القواع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re decod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فك الشفر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o a sequenc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تاب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mino acid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6320" y="228240"/>
            <a:ext cx="441936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lation, the codons are read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’-&gt;3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irection along the m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do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UU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ded for the amino aci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enylalan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do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U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ot only codes for the amino aci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ethion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ut also indicates the start of tran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ecific codon indicates a specific corresponding amino acid, but the amino acid may be the translation of several possible cod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ading frame and subsequent codons are read in groups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ree nucleotide bas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summary,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genetic information is encoded as a sequence of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base triplet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don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) which is translated into a specific amino acid during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572000" y="152280"/>
            <a:ext cx="4572000" cy="60962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5079960" y="4241880"/>
            <a:ext cx="45720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6845400" y="1346040"/>
            <a:ext cx="45720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6858000" y="1689120"/>
            <a:ext cx="45720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7746840" y="1359000"/>
            <a:ext cx="45720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1066680" y="304920"/>
            <a:ext cx="769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A)- The Transcription and Processing of mR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51920" y="1289160"/>
            <a:ext cx="8915400" cy="54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RNA is transcribed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نس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the template strand of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 polymer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parates the DNA strands at the suitable point and bond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رب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NA nucleotides as they base-pair along the DNA templ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ke DNA polymerases, RNA polymerases can add nucleotides only to the 3’ end of the growing polym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fic sequences of nucleotides along the DNA mark where gene transcription begins and e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NA polymerase attaches and initiates transcription at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romotor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َفـ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t the beginning of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ranscrip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uni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(gene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the D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ermina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نطقة النها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s the transcri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a have a single type of RNA polymerase that synthesizes all RNA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contrast, eukaryotes hav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ree RNA polymerases (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, I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, and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I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ir nucle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NA polymeras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for mRNA synthe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4758-5364-4A21-9560-19E19100BFF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4560" y="75960"/>
            <a:ext cx="2971800" cy="62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be separat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o three stages: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iti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بدء</a:t>
            </a:r>
            <a:r>
              <a:rPr b="1" lang="ar-EG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long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إستطال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rmin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إنتها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otor contains the starting point for the transcription of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otor also includes a binding site for RNA polymer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us, RNA- polymerase can recognize and bind directly to the promotor reg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352680" y="152280"/>
            <a:ext cx="57247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5T16:42:40Z</dcterms:created>
  <dc:creator>User</dc:creator>
  <dc:description/>
  <dc:language>en-US</dc:language>
  <cp:lastModifiedBy>HP</cp:lastModifiedBy>
  <dcterms:modified xsi:type="dcterms:W3CDTF">2014-01-07T17:02:30Z</dcterms:modified>
  <cp:revision>10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DF1E7ADC-ED45-4FB5-8645-741C441AD272</vt:lpwstr>
  </property>
  <property fmtid="{D5CDD505-2E9C-101B-9397-08002B2CF9AE}" pid="3" name="ArticulatePath">
    <vt:lpwstr>Lecture 20</vt:lpwstr>
  </property>
</Properties>
</file>