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EAE1-61EB-4F2F-868F-09850B9028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252FB9D-F797-4BCC-ADFD-C1013823E8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627-1CDA-4760-9202-ED7C7181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F4E-5DDF-48A7-906F-7D6BBC45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C31-B491-4E09-9B9E-10C9240A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63E-3B9B-4A52-964A-04C2DD98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8A8-5E2D-48A2-AB77-BDFE2DB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D56-371B-4A4D-A0A6-A4EA70F6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BC4-325E-4AD6-880B-70420B6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E8C-4E8C-45CD-907A-DB60068F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410-5616-4654-9552-3C6A889D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FF1-7686-41DB-AAD1-10613ED1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071-DC24-4D05-9B8F-E8CA259B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CF1-3820-47B1-81CC-666E9955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23D1-7A0A-4653-BB64-17A3A51954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1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2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4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7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0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3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6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29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2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7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39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2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5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8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1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4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7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2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3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6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69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2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5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8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3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4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7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0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3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8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1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2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5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8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1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4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7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0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7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8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1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4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7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0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3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6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49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2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5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8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1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4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7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0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3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6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79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5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cto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protein that can recognize the promotor region, especially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x, and bind to it, then, RNA polymerase attach to it in order to start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1600200" y="2286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52280"/>
            <a:ext cx="7823160" cy="64008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1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3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6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8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3EE8-76E2-474B-8AB1-064B98D28D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User</cp:lastModifiedBy>
  <dcterms:modified xsi:type="dcterms:W3CDTF">2014-01-04T10:10:41Z</dcterms:modified>
  <cp:revision>100</cp:revision>
  <dc:subject/>
  <dc:title>Slide 1</dc:title>
</cp:coreProperties>
</file>