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4C3-2B40-4F7F-A569-7D9E580608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A9F3961-FECD-406C-85FD-347B74AF88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E40-EA8D-4CD8-AFFA-5E83E64F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622-1DD9-4F67-BA8D-70E02BD3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404-3CB6-4F54-A3A6-7B30CEC7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D4A-590A-49A7-BC23-6E8FE934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E3A-39D8-4989-BD51-09B083A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49F-B5A6-4AF8-A4F6-C7634F59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F6F-62FB-4D5F-8D2D-4D2D41A1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087-17B2-471A-9EBE-44C5AC8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4FC-9669-4B9F-802D-B17FEEF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151-54F2-4C85-96EE-7B5CACF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B0F-A677-4288-9FA0-5475819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DF5-F99F-4EF7-A042-77F80A5A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EC8-E2A5-4BAC-A464-DF91B61CF2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1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2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4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7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0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3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6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29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2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7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39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2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5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8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1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4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7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2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3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6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69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2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5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8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3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4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7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0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3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8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1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2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5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8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1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4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7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0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7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8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1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4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7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0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3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6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49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2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5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8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1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4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7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0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3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6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79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5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protein that can recognize the promotor region, especiall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, and bind to it, then, RNA polymerase attach to it in order to start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1600200" y="2286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52280"/>
            <a:ext cx="7823160" cy="64008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1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3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6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8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E3BA-44B2-499A-8F31-A39585954D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User</cp:lastModifiedBy>
  <dcterms:modified xsi:type="dcterms:W3CDTF">2014-01-04T10:10:41Z</dcterms:modified>
  <cp:revision>100</cp:revision>
  <dc:subject/>
  <dc:title>Slide 1</dc:title>
</cp:coreProperties>
</file>