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9E27-F7CE-467A-AB81-67CFB8D268F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728D203A-D591-406A-9198-511ADC819E2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1FD-A458-4019-989D-A4AD698D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431-B048-4B9E-BC7A-54C38AFF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549-143F-4195-A942-9A3EFCF4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7B0-AD25-4C91-88AC-128826A9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4B7-EA08-4D0D-96CA-099A6FC2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B57-D66C-4D6B-AEFA-838FAD83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121-6DB5-4E9A-9AC7-C5305933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952-AF79-4457-A2D2-6F0F58D8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737-AEFE-4B56-9006-08E9A1C1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961-2B7B-467C-89B7-E6090F94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12F-57E3-453B-903F-5BD9BB91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986-FB05-4334-A142-E01674DD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4754-59E1-49ED-B699-2752DCC920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3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512928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2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3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5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8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1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4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7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0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3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8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0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3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6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49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2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5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8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3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4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7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0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3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6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79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4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5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8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1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4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199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2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3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6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09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2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5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8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1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8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29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2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5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8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1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4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7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0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3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6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59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2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5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8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1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4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7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0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6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9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228600"/>
            <a:ext cx="391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1143000"/>
            <a:ext cx="8458200" cy="4800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imes thus help to form polypept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51460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s of 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2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4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7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9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265B-2C16-43E2-BE0F-82D343125E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HP</cp:lastModifiedBy>
  <dcterms:modified xsi:type="dcterms:W3CDTF">2014-01-07T17:02:30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F1E7ADC-ED45-4FB5-8645-741C441AD272</vt:lpwstr>
  </property>
  <property fmtid="{D5CDD505-2E9C-101B-9397-08002B2CF9AE}" pid="3" name="ArticulatePath">
    <vt:lpwstr>Lecture 20</vt:lpwstr>
  </property>
</Properties>
</file>