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159E-B2E1-49D4-AD5B-06858C43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2D2D-1ADB-44D7-AC0E-19FC0A2D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BE84-9773-413E-A9FC-D00D74B6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17ED-3DF1-4CBE-BD8C-FF3ACB6B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ADC7-466D-4EC5-980E-6BFB075A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3EFC-51CF-4921-9004-1FC67F95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33E3-B3A4-49A4-B596-EF82E690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10E5-A809-44E8-B385-6EB7344E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2911-4953-41BD-8001-E12C0756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5C18-6B2D-4F8E-A971-DC607E88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9A66-7210-473E-A8AC-798AF72A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2F3C-BBBB-4E1D-8B1B-495E3EBD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C3C5-7A3C-40A9-A9FB-DEECB189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86E1-C5B0-4B50-B2EC-99B6B482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EC6B-9592-4B6A-9E39-EF4913EF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079F-B414-4326-8121-DD9BE6FD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F305-36CC-4ACA-AF26-61E9B1967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92670-6E76-4EBB-B526-E7EEE343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EC03C-80B9-48D1-A961-A9A641CC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61322-8C14-4778-A09B-73D5F733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E74BB-E854-4C80-8911-7C13ABF3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BB4EE-34F6-4996-92B6-B1E58ACE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7A14-F880-4A6B-B71E-7B4E4FBB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31462-979D-4822-A7FD-0E5082AA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50296-8E73-43C7-A326-57FD5FB0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9A794-D4DD-40C7-8373-414155E5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64160-CECA-42EC-8BE3-60F88BA8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3181F-3DD0-46FF-A35E-318A58D2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EAEEA-38AC-4DB8-8DA1-9B53024C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184C6-E89A-40CF-9025-9D744B63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A3A1F-5431-4060-AA1E-171DBCC1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67B22-1AB2-4136-927C-7A67105F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61192-F925-4050-8020-0A800F2C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A3DD-67CC-45C9-A723-27B5E3A0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0C750-BCB3-4BE7-AC9E-6FE5DECC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019B4-9415-452B-95E3-6D500ACB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8EBA8-9B14-468F-89D1-ABC47245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E6F0D-4267-4530-AED3-ACA02CEF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452DC-A8BD-4CD3-9C6E-B7911CBA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F53D3-1663-43F6-953F-5ED15835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0EDB3-D4F1-4DE2-BBC6-05A3B084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5AC81-681D-4884-8491-EBBBE764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090CD-3A69-466E-8CFD-F7E448D2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1A47-A5F1-4A62-A076-C6C33CF6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F72D-1814-46E8-A220-210514AE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4930-CF73-4B8C-A636-96FB0B1F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B1CF-0922-418F-8B21-F4D0BF31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0637-AB7B-494A-B2DD-A1C4F979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F62F-655A-46C6-B0CD-AF706AE360C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ACF4-5E89-4AA3-A372-EEA7D1F035E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695D-0F3F-4477-A97A-7462F169F0A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E793-0771-4684-88AC-54DE5D97613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60480" y="2017800"/>
            <a:ext cx="8327880" cy="2438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28240" y="5409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.Collin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JSH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-AP Biology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2362320" y="685800"/>
            <a:ext cx="3771720" cy="561960"/>
          </a:xfrm>
          <a:prstGeom prst="rect">
            <a:avLst/>
          </a:prstGeom>
          <a:solidFill>
            <a:srgbClr val="e9f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20: Anat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335268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Aquatic Gill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51920" y="1371600"/>
            <a:ext cx="5257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ater flows through the mouth then over the gills where oxygen is remov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rbon dioxide and water are then pumped out through the opercul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5" descr="sb4549f1"/>
          <p:cNvPicPr/>
          <p:nvPr/>
        </p:nvPicPr>
        <p:blipFill>
          <a:blip r:embed="rId1"/>
          <a:stretch/>
        </p:blipFill>
        <p:spPr>
          <a:xfrm>
            <a:off x="5648400" y="0"/>
            <a:ext cx="3495600" cy="455616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2"/>
          <p:cNvSpPr/>
          <p:nvPr/>
        </p:nvSpPr>
        <p:spPr>
          <a:xfrm>
            <a:off x="838080" y="1903320"/>
            <a:ext cx="1420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ection 33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bio_ch33_4550"/>
          <p:cNvPicPr/>
          <p:nvPr/>
        </p:nvPicPr>
        <p:blipFill>
          <a:blip r:embed="rId2"/>
          <a:stretch/>
        </p:blipFill>
        <p:spPr>
          <a:xfrm>
            <a:off x="579600" y="3733920"/>
            <a:ext cx="5795640" cy="283356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4"/>
          <p:cNvSpPr/>
          <p:nvPr/>
        </p:nvSpPr>
        <p:spPr>
          <a:xfrm>
            <a:off x="685800" y="658188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a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2438280" y="6581880"/>
            <a:ext cx="71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z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800600" y="6581880"/>
            <a:ext cx="7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g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3352680" y="658188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1015920" y="3733920"/>
            <a:ext cx="18795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strils, mouth, and thro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ir sa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380880" y="31240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Vertebrate Lu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Open circulatory system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0880" y="3505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lood is pumped through a system of vessels BUT is only partially contained in these vessels.  Most of the time the blood is pumped through open caviti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is system is beneficial to arthropods and mollusks because the blood comes into direct contact organs and tissu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380880" y="5334120"/>
            <a:ext cx="82296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closed system forces blood through vessels that extend throughout the body of the organism. Since the system is “closed”  the blood never leaves the vess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is system is beneficial to larger organisms because the blood is kept at a higher pressure which allows for more efficient circulation within the organis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457200" y="49528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Closed circulator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457200" y="1523880"/>
            <a:ext cx="82296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ertebrate circulatory system can range from a system where cells simply do diffusion to take in oxygen or systems with many hearts and even  systems with one hear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457200" y="819000"/>
            <a:ext cx="79246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Invertebrate Circulatory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bio_ch29_4282"/>
          <p:cNvPicPr/>
          <p:nvPr/>
        </p:nvPicPr>
        <p:blipFill>
          <a:blip r:embed="rId1"/>
          <a:stretch/>
        </p:blipFill>
        <p:spPr>
          <a:xfrm>
            <a:off x="444600" y="1809720"/>
            <a:ext cx="8254800" cy="28432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601560" y="5084640"/>
            <a:ext cx="334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ect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n Circulato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818240" y="5084640"/>
            <a:ext cx="372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sed Circulator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6763680" y="4537080"/>
            <a:ext cx="96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lik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7846200" y="4246560"/>
            <a:ext cx="7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o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6905520" y="1843200"/>
            <a:ext cx="166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like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6905520" y="2271600"/>
            <a:ext cx="22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 vessels in t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957960" y="3067200"/>
            <a:ext cx="7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o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1095480" y="190008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3408840" y="294012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2709720" y="3889440"/>
            <a:ext cx="107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us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r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66294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Circulatory System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7162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Vertebrate circulatory syste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371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hordate circulatory systems range from a single loop system (found in organisms with gills) to double loop system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1" name="Picture 3" descr="bio_ch33_4551"/>
          <p:cNvPicPr/>
          <p:nvPr/>
        </p:nvPicPr>
        <p:blipFill>
          <a:blip r:embed="rId1"/>
          <a:stretch/>
        </p:blipFill>
        <p:spPr>
          <a:xfrm>
            <a:off x="1523880" y="2514600"/>
            <a:ext cx="5975640" cy="386244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4"/>
          <p:cNvSpPr/>
          <p:nvPr/>
        </p:nvSpPr>
        <p:spPr>
          <a:xfrm>
            <a:off x="4127040" y="2209680"/>
            <a:ext cx="25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uble-Loop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1529280" y="2362320"/>
            <a:ext cx="157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gle-Loo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1676520" y="6324480"/>
            <a:ext cx="172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S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3657600" y="6477120"/>
            <a:ext cx="172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ST REPT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410080" y="6324480"/>
            <a:ext cx="2200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OCODILIANS, BIRDS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MAMM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693432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quatic Invertebrate excre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0880" y="1523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me aquatic invertebrates simply diffuse ammonia out their bodies into the surrounding water where it is diluted and carried awa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: sponges, cnidarians, and some round worm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ther aquatic invertebrates swell up with water, dilute the wastes and excrete the wastes through tiny pores in their sk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457200" y="4038480"/>
            <a:ext cx="7086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rrestrial Invertebrate excre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80880" y="4678200"/>
            <a:ext cx="822960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ny terrestrial invertebrates convert ammonia into u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rea is a simpler nitrogenous compound that is much less toxic than ammo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urea is eliminated from the body in u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bio_ch29_4283"/>
          <p:cNvPicPr/>
          <p:nvPr/>
        </p:nvPicPr>
        <p:blipFill>
          <a:blip r:embed="rId1"/>
          <a:stretch/>
        </p:blipFill>
        <p:spPr>
          <a:xfrm>
            <a:off x="1881360" y="1515960"/>
            <a:ext cx="5378400" cy="395604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4"/>
          <p:cNvSpPr/>
          <p:nvPr/>
        </p:nvSpPr>
        <p:spPr>
          <a:xfrm>
            <a:off x="2023920" y="492768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527720" y="549756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743880" y="152244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6073920" y="5218200"/>
            <a:ext cx="115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pighian tub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4464000" y="408780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3740040" y="386064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i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770040" y="247176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6777000" y="329076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tub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6777000" y="2736720"/>
            <a:ext cx="16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4734000" y="130824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4121280" y="1797120"/>
            <a:ext cx="107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4029120" y="2171880"/>
            <a:ext cx="138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phrost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856800"/>
            <a:ext cx="678204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Excretory Systems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ertebrate Excre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934640"/>
            <a:ext cx="5181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quatic vertebrates kidneys and rely on gill slits to release excretory wastes into surrounding water for dilu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restrial vertebrates rely on the kidney’s to filter out the ammonia and change it into urea and send it to be released in ur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8" name="Picture 5" descr="http://library.thinkquest.org/22016/excretion/kidney2.jpg"/>
          <p:cNvPicPr/>
          <p:nvPr/>
        </p:nvPicPr>
        <p:blipFill>
          <a:blip r:embed="rId1"/>
          <a:stretch/>
        </p:blipFill>
        <p:spPr>
          <a:xfrm>
            <a:off x="5943600" y="1695600"/>
            <a:ext cx="31240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rvous syst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ll animals respond to their environment through specialized cells called nerve cell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 most animals nerve cells hook together to form the nervous syste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ervous systems can range from fairly simple to extremely complex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arrangement of nerve cells from phylum to phylum can be dramatically differen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bio_ch29_4284"/>
          <p:cNvPicPr/>
          <p:nvPr/>
        </p:nvPicPr>
        <p:blipFill>
          <a:blip r:embed="rId1"/>
          <a:srcRect l="0" t="0" r="39547" b="0"/>
          <a:stretch/>
        </p:blipFill>
        <p:spPr>
          <a:xfrm>
            <a:off x="92160" y="1706400"/>
            <a:ext cx="5241960" cy="40086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4"/>
          <p:cNvSpPr/>
          <p:nvPr/>
        </p:nvSpPr>
        <p:spPr>
          <a:xfrm>
            <a:off x="4097520" y="267012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n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962280" y="288756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n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2213640" y="16146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3440880" y="35164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9880" y="1447920"/>
            <a:ext cx="11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3478320" y="5543640"/>
            <a:ext cx="117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79520" y="4881600"/>
            <a:ext cx="117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4572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Invertebrate Nervous System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1" name="Picture 19" descr="http://researcheshealthcenter.webs.com/250px-TE-Nervous_system_diagram.svg.png"/>
          <p:cNvPicPr/>
          <p:nvPr/>
        </p:nvPicPr>
        <p:blipFill>
          <a:blip r:embed="rId2"/>
          <a:stretch/>
        </p:blipFill>
        <p:spPr>
          <a:xfrm>
            <a:off x="5486400" y="1905120"/>
            <a:ext cx="3540240" cy="41623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13"/>
          <p:cNvSpPr/>
          <p:nvPr/>
        </p:nvSpPr>
        <p:spPr>
          <a:xfrm>
            <a:off x="4952880" y="83808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Vertebrate Nervous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6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4572000" y="1870200"/>
            <a:ext cx="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3633840" y="1297080"/>
            <a:ext cx="1876320" cy="736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2957400" y="2313000"/>
            <a:ext cx="324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1057320" y="4805280"/>
            <a:ext cx="704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105732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50472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222876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167652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340056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2"/>
          <p:cNvSpPr/>
          <p:nvPr/>
        </p:nvSpPr>
        <p:spPr>
          <a:xfrm>
            <a:off x="284796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457200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019400" y="5029200"/>
            <a:ext cx="110520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74344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6"/>
          <p:cNvSpPr/>
          <p:nvPr/>
        </p:nvSpPr>
        <p:spPr>
          <a:xfrm>
            <a:off x="519120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691524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8"/>
          <p:cNvSpPr/>
          <p:nvPr/>
        </p:nvSpPr>
        <p:spPr>
          <a:xfrm>
            <a:off x="636264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8086680" y="48052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0"/>
          <p:cNvSpPr/>
          <p:nvPr/>
        </p:nvSpPr>
        <p:spPr>
          <a:xfrm>
            <a:off x="7534440" y="502920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2687040" y="2433600"/>
            <a:ext cx="537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2"/>
          <p:cNvSpPr/>
          <p:nvPr/>
        </p:nvSpPr>
        <p:spPr>
          <a:xfrm>
            <a:off x="2403360" y="2908440"/>
            <a:ext cx="110484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363560" y="2433600"/>
            <a:ext cx="418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4"/>
          <p:cNvSpPr/>
          <p:nvPr/>
        </p:nvSpPr>
        <p:spPr>
          <a:xfrm>
            <a:off x="4019400" y="2908440"/>
            <a:ext cx="110520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295596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6"/>
          <p:cNvSpPr/>
          <p:nvPr/>
        </p:nvSpPr>
        <p:spPr>
          <a:xfrm>
            <a:off x="457200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7"/>
          <p:cNvSpPr/>
          <p:nvPr/>
        </p:nvSpPr>
        <p:spPr>
          <a:xfrm>
            <a:off x="6188040" y="23241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5777640" y="2433600"/>
            <a:ext cx="820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rry o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9"/>
          <p:cNvSpPr/>
          <p:nvPr/>
        </p:nvSpPr>
        <p:spPr>
          <a:xfrm>
            <a:off x="295596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0"/>
          <p:cNvSpPr/>
          <p:nvPr/>
        </p:nvSpPr>
        <p:spPr>
          <a:xfrm>
            <a:off x="457200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6188040" y="2685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2"/>
          <p:cNvSpPr/>
          <p:nvPr/>
        </p:nvSpPr>
        <p:spPr>
          <a:xfrm>
            <a:off x="5635800" y="2908440"/>
            <a:ext cx="1104840" cy="517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3"/>
          <p:cNvSpPr/>
          <p:nvPr/>
        </p:nvSpPr>
        <p:spPr>
          <a:xfrm>
            <a:off x="2719800" y="3537000"/>
            <a:ext cx="473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34"/>
          <p:cNvSpPr/>
          <p:nvPr/>
        </p:nvSpPr>
        <p:spPr>
          <a:xfrm>
            <a:off x="2403360" y="4011480"/>
            <a:ext cx="1104840" cy="517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5"/>
          <p:cNvSpPr/>
          <p:nvPr/>
        </p:nvSpPr>
        <p:spPr>
          <a:xfrm>
            <a:off x="2955960" y="3427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6"/>
          <p:cNvSpPr/>
          <p:nvPr/>
        </p:nvSpPr>
        <p:spPr>
          <a:xfrm>
            <a:off x="2955960" y="378936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7"/>
          <p:cNvSpPr/>
          <p:nvPr/>
        </p:nvSpPr>
        <p:spPr>
          <a:xfrm>
            <a:off x="6192720" y="3427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8"/>
          <p:cNvSpPr/>
          <p:nvPr/>
        </p:nvSpPr>
        <p:spPr>
          <a:xfrm>
            <a:off x="5819760" y="3537000"/>
            <a:ext cx="747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ch 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9"/>
          <p:cNvSpPr/>
          <p:nvPr/>
        </p:nvSpPr>
        <p:spPr>
          <a:xfrm>
            <a:off x="6192720" y="3789360"/>
            <a:ext cx="0" cy="10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687708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What do animals do to survive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Oval 41"/>
          <p:cNvSpPr/>
          <p:nvPr/>
        </p:nvSpPr>
        <p:spPr>
          <a:xfrm>
            <a:off x="3630600" y="1293840"/>
            <a:ext cx="1876320" cy="736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42"/>
          <p:cNvGrpSpPr/>
          <p:nvPr/>
        </p:nvGrpSpPr>
        <p:grpSpPr>
          <a:xfrm>
            <a:off x="501480" y="5025960"/>
            <a:ext cx="8134560" cy="517680"/>
            <a:chOff x="501480" y="5025960"/>
            <a:chExt cx="8134560" cy="517680"/>
          </a:xfrm>
        </p:grpSpPr>
        <p:sp>
          <p:nvSpPr>
            <p:cNvPr id="239" name="Oval 43"/>
            <p:cNvSpPr/>
            <p:nvPr/>
          </p:nvSpPr>
          <p:spPr>
            <a:xfrm>
              <a:off x="501480" y="5025960"/>
              <a:ext cx="110520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eed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44"/>
            <p:cNvSpPr/>
            <p:nvPr/>
          </p:nvSpPr>
          <p:spPr>
            <a:xfrm>
              <a:off x="167328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pir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45"/>
            <p:cNvSpPr/>
            <p:nvPr/>
          </p:nvSpPr>
          <p:spPr>
            <a:xfrm>
              <a:off x="284472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ircul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46"/>
            <p:cNvSpPr/>
            <p:nvPr/>
          </p:nvSpPr>
          <p:spPr>
            <a:xfrm>
              <a:off x="401652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xcre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47"/>
            <p:cNvSpPr/>
            <p:nvPr/>
          </p:nvSpPr>
          <p:spPr>
            <a:xfrm>
              <a:off x="518796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pons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48"/>
            <p:cNvSpPr/>
            <p:nvPr/>
          </p:nvSpPr>
          <p:spPr>
            <a:xfrm>
              <a:off x="6359400" y="5025960"/>
              <a:ext cx="110520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oveme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49"/>
            <p:cNvSpPr/>
            <p:nvPr/>
          </p:nvSpPr>
          <p:spPr>
            <a:xfrm>
              <a:off x="7531200" y="502596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produ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50"/>
          <p:cNvGrpSpPr/>
          <p:nvPr/>
        </p:nvGrpSpPr>
        <p:grpSpPr>
          <a:xfrm>
            <a:off x="2400480" y="2933640"/>
            <a:ext cx="4336920" cy="517680"/>
            <a:chOff x="2400480" y="2933640"/>
            <a:chExt cx="4336920" cy="517680"/>
          </a:xfrm>
        </p:grpSpPr>
        <p:sp>
          <p:nvSpPr>
            <p:cNvPr id="247" name="Oval 51"/>
            <p:cNvSpPr/>
            <p:nvPr/>
          </p:nvSpPr>
          <p:spPr>
            <a:xfrm>
              <a:off x="240048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ukaryotic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ell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52"/>
            <p:cNvSpPr/>
            <p:nvPr/>
          </p:nvSpPr>
          <p:spPr>
            <a:xfrm>
              <a:off x="401652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eterotroph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53"/>
            <p:cNvSpPr/>
            <p:nvPr/>
          </p:nvSpPr>
          <p:spPr>
            <a:xfrm>
              <a:off x="5632560" y="2933640"/>
              <a:ext cx="110484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ssential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uncti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Oval 54"/>
          <p:cNvSpPr/>
          <p:nvPr/>
        </p:nvSpPr>
        <p:spPr>
          <a:xfrm>
            <a:off x="2400480" y="4008600"/>
            <a:ext cx="1104840" cy="517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 cell wal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nvertebrate feeding and diges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vertebrates can either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intracellula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extracellula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digestion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racellular meaning that food is digested within each individual cell of the organis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s: Spong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racellular means that digestion occurs inside a digestive tract or cavity, then absorbed into the body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s: mollusks, worms, arthropods, echinoder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bio_ch29_4280"/>
          <p:cNvPicPr/>
          <p:nvPr/>
        </p:nvPicPr>
        <p:blipFill>
          <a:blip r:embed="rId1"/>
          <a:stretch/>
        </p:blipFill>
        <p:spPr>
          <a:xfrm>
            <a:off x="1338120" y="1538280"/>
            <a:ext cx="6467760" cy="41464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4"/>
          <p:cNvSpPr/>
          <p:nvPr/>
        </p:nvSpPr>
        <p:spPr>
          <a:xfrm>
            <a:off x="6350040" y="415440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5160960" y="2978280"/>
            <a:ext cx="92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098880" y="542304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tw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2692440" y="392904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idar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1605240" y="2509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/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1078200" y="531504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/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4618080" y="516888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7589880" y="277344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1316880" y="3656160"/>
            <a:ext cx="120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trovasc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1639440" y="2881440"/>
            <a:ext cx="120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trovasc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185840" y="49798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4921200" y="43610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7288200" y="2565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6915600" y="237636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5734440" y="4292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9"/>
          <p:cNvSpPr/>
          <p:nvPr/>
        </p:nvSpPr>
        <p:spPr>
          <a:xfrm>
            <a:off x="6623640" y="21891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zz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0"/>
          <p:cNvSpPr/>
          <p:nvPr/>
        </p:nvSpPr>
        <p:spPr>
          <a:xfrm>
            <a:off x="6108120" y="190980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1"/>
          <p:cNvSpPr/>
          <p:nvPr/>
        </p:nvSpPr>
        <p:spPr>
          <a:xfrm>
            <a:off x="6409800" y="551016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6766560" y="52959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3"/>
          <p:cNvSpPr/>
          <p:nvPr/>
        </p:nvSpPr>
        <p:spPr>
          <a:xfrm>
            <a:off x="7312320" y="467820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6577200" y="338148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4960800" y="5329080"/>
            <a:ext cx="134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Invertebrate Digestive System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digestive systems of many vertebrates have organs that are well adapted for different feeding habi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arnivores, such as sharks have short digestive tracts that produce fast-acting digestive enzym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erbivores have long intestines that have large colonies of bacteria that help in digesting the cellulose fibers in plant tissu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63248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Vertebrate Digestive System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3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bio_ch33_4548"/>
          <p:cNvPicPr/>
          <p:nvPr/>
        </p:nvPicPr>
        <p:blipFill>
          <a:blip r:embed="rId1"/>
          <a:stretch/>
        </p:blipFill>
        <p:spPr>
          <a:xfrm>
            <a:off x="414360" y="1955880"/>
            <a:ext cx="8315280" cy="37148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4"/>
          <p:cNvSpPr/>
          <p:nvPr/>
        </p:nvSpPr>
        <p:spPr>
          <a:xfrm>
            <a:off x="702720" y="1954080"/>
            <a:ext cx="109224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ophag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llblad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a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zz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c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2000880" y="17510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3074400" y="1751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am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4771800" y="17510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115680" y="175104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ge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7670520" y="17510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04480" y="990720"/>
            <a:ext cx="80391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alibri"/>
              </a:rPr>
              <a:t>The Digestive Systems of Vertebrates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05704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quatic invertebrat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28600" y="26967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quatic animals have natural moist respiratory surfaces, and some respire through diffusion through their skin and others use gi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228600" y="4373640"/>
            <a:ext cx="82296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re are many different respiratory specialized organs in terrestrial invertebrat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use parallel book lu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ects use openings called spiracles where air enters the body and passes through a network of tracheal tubes for gas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nails have a mantel cavity that is lined with moist tissue and an extensive surface area of blood vess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04920" y="3276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rrestrial Inverteb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304920" y="83808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4e6d"/>
                </a:solidFill>
                <a:latin typeface="Calibri"/>
              </a:rPr>
              <a:t>Respiration in anima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2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bio_ch29_4281"/>
          <p:cNvPicPr/>
          <p:nvPr/>
        </p:nvPicPr>
        <p:blipFill>
          <a:blip r:embed="rId1"/>
          <a:stretch/>
        </p:blipFill>
        <p:spPr>
          <a:xfrm>
            <a:off x="552600" y="1725480"/>
            <a:ext cx="8038800" cy="39402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4"/>
          <p:cNvSpPr/>
          <p:nvPr/>
        </p:nvSpPr>
        <p:spPr>
          <a:xfrm>
            <a:off x="601560" y="3484440"/>
            <a:ext cx="139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5334120" y="336060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219480" y="538308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2325600" y="17812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2960640" y="22208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ph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2494800" y="3184560"/>
            <a:ext cx="169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ment of 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4636080" y="5361120"/>
            <a:ext cx="5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o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417120" y="494172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5398560" y="16732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he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b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171920" y="3186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ra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933120"/>
            <a:ext cx="67057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Invertebrate Respiratory System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ertebrate respiratory syste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rdates have one of two basic structures for respiratio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ills – for aquatic chord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xample: tunicates, fish and amphibia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ungs - for terrestrial chord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xamples: adult amphibians, reptiles, birds, and mammal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9:09:12Z</dcterms:created>
  <dc:creator>AISD</dc:creator>
  <dc:description/>
  <dc:language>en-US</dc:language>
  <cp:lastModifiedBy>User</cp:lastModifiedBy>
  <dcterms:modified xsi:type="dcterms:W3CDTF">2015-03-10T18:08:17Z</dcterms:modified>
  <cp:revision>21</cp:revision>
  <dc:subject/>
  <dc:title>Animal Kingdom: Comparative Anatomy</dc:title>
</cp:coreProperties>
</file>