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B6C-57B7-4B89-B818-F1553473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FC7-7DC4-4F8D-9AC6-1C123259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65D-78FC-48AC-86CE-F68431B6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C0F-8C5B-4A7A-9A9A-1FFA5AC2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79DC-8D0E-439A-8222-2837C4E1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D182-2F44-4B7D-A480-C6D754E8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3692-4242-473F-B651-93EE7DF8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9840-AF5A-48C5-8792-42B904AD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2457-34AF-42E4-BF80-EE14B5D2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3C3D-3DB9-498C-AA4A-F7FBC3E7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FA84-04FF-4E96-86B9-87847865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831-CEA9-4F00-BE62-5522FF14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2ECB-7F6A-49CA-BD74-6B2FE820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7F1D-580C-4424-9953-6CE28780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3F69-FC1C-41EF-8261-BC547287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C02B-CF0A-47A1-B7A5-8247F026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55AF-00D1-40E8-AEBD-DFAD319F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8660C-9A42-4561-B319-E8BAEB1C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4E7CC-96B1-48C9-8E25-DCE8F71D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7D56F-F14D-4C7F-87B6-D30CF1F3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A5B8B-C444-490A-B68F-9F6E54FB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3949B-3523-4263-A982-D046B3E5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94B-6581-4FA2-8A7A-542F9A1C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142BA-C129-4E90-AF68-C8EB84A1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55E67-0F63-4942-9FFD-993E9C0E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74A4D-3B06-402A-9308-93A78AB2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6FF04-052A-42F3-9419-8FF8B60E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793F0-D5A5-4E39-9D86-F1B275C5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DA975-CFD7-4305-B4EE-DBBE57D1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818E5-7DB4-4CE7-8830-091A8C72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A0B24-F2DC-44F4-B3FB-E84996D0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2AF60-162D-4CAF-9D8F-305293BE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AA506-2B64-4B4C-B5E3-0E0CC68D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399-22C4-456F-8BFF-3589B445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31C69-9A2C-4273-AE48-CF40ABEE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8D151-0115-4601-8931-A213209F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EF8BD-77CD-4078-A4DB-212B80F5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2D033-1D82-44B4-9377-C50F030F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DFD45-AE4F-4EDB-9054-6DB06433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88AEB-EC4A-423C-A150-BACAEAB0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7F6C4-A4A4-4025-B091-E37D24A9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64312-BBA0-46F1-9E6B-C1CE37F7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82774-94FF-404A-B84B-1CFA5862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51C-5103-41E3-B947-6970BA9D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72E-D4B4-4504-AB70-260F4DE9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B10-A2E0-4608-91F2-2D0F891A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EA2-E31E-4B2A-803C-EFD5056D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CE9-364E-4041-9AA3-FE2CE95E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73A9-FB46-4025-8A46-3BA70B394B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D951-B329-44A7-8245-1B9679B2BD3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54FE-EA81-4B62-BA2C-71330453103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A83C-DE49-4105-8AE8-A01DA123E3D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685800" y="304920"/>
            <a:ext cx="7805880" cy="7034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  <a:ea typeface="Arial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20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  <a:ea typeface="Arial"/>
              </a:rPr>
              <a:t>: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Comparative anat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0"/>
          <p:cNvSpPr/>
          <p:nvPr/>
        </p:nvSpPr>
        <p:spPr>
          <a:xfrm>
            <a:off x="228600" y="1450800"/>
            <a:ext cx="6342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What do animals do to surv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63"/>
          <p:cNvGrpSpPr/>
          <p:nvPr/>
        </p:nvGrpSpPr>
        <p:grpSpPr>
          <a:xfrm>
            <a:off x="501480" y="2362320"/>
            <a:ext cx="8137800" cy="4114800"/>
            <a:chOff x="501480" y="2362320"/>
            <a:chExt cx="8137800" cy="4114800"/>
          </a:xfrm>
        </p:grpSpPr>
        <p:sp>
          <p:nvSpPr>
            <p:cNvPr id="199" name="Line 3"/>
            <p:cNvSpPr/>
            <p:nvPr/>
          </p:nvSpPr>
          <p:spPr>
            <a:xfrm>
              <a:off x="4572000" y="2800440"/>
              <a:ext cx="0" cy="45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"/>
            <p:cNvSpPr/>
            <p:nvPr/>
          </p:nvSpPr>
          <p:spPr>
            <a:xfrm>
              <a:off x="3633840" y="2362320"/>
              <a:ext cx="1776240" cy="601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"/>
            <p:cNvSpPr/>
            <p:nvPr/>
          </p:nvSpPr>
          <p:spPr>
            <a:xfrm>
              <a:off x="2957400" y="3243240"/>
              <a:ext cx="32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1056960" y="5735880"/>
              <a:ext cx="70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105696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8"/>
            <p:cNvSpPr/>
            <p:nvPr/>
          </p:nvSpPr>
          <p:spPr>
            <a:xfrm>
              <a:off x="50436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>
              <a:off x="222876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0"/>
            <p:cNvSpPr/>
            <p:nvPr/>
          </p:nvSpPr>
          <p:spPr>
            <a:xfrm>
              <a:off x="167616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"/>
            <p:cNvSpPr/>
            <p:nvPr/>
          </p:nvSpPr>
          <p:spPr>
            <a:xfrm>
              <a:off x="340020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2"/>
            <p:cNvSpPr/>
            <p:nvPr/>
          </p:nvSpPr>
          <p:spPr>
            <a:xfrm>
              <a:off x="284796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>
              <a:off x="457200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4"/>
            <p:cNvSpPr/>
            <p:nvPr/>
          </p:nvSpPr>
          <p:spPr>
            <a:xfrm>
              <a:off x="401940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5"/>
            <p:cNvSpPr/>
            <p:nvPr/>
          </p:nvSpPr>
          <p:spPr>
            <a:xfrm>
              <a:off x="574380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>
              <a:off x="519120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>
              <a:off x="691524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8"/>
            <p:cNvSpPr/>
            <p:nvPr/>
          </p:nvSpPr>
          <p:spPr>
            <a:xfrm>
              <a:off x="636264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>
              <a:off x="808704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0"/>
            <p:cNvSpPr/>
            <p:nvPr/>
          </p:nvSpPr>
          <p:spPr>
            <a:xfrm>
              <a:off x="753444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2686680" y="3363840"/>
              <a:ext cx="537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a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2"/>
            <p:cNvSpPr/>
            <p:nvPr/>
          </p:nvSpPr>
          <p:spPr>
            <a:xfrm>
              <a:off x="2403360" y="383868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4363200" y="3363840"/>
              <a:ext cx="418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4"/>
            <p:cNvSpPr/>
            <p:nvPr/>
          </p:nvSpPr>
          <p:spPr>
            <a:xfrm>
              <a:off x="4019400" y="383868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5"/>
            <p:cNvSpPr/>
            <p:nvPr/>
          </p:nvSpPr>
          <p:spPr>
            <a:xfrm>
              <a:off x="2961720" y="32364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6"/>
            <p:cNvSpPr/>
            <p:nvPr/>
          </p:nvSpPr>
          <p:spPr>
            <a:xfrm>
              <a:off x="4572000" y="32544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7"/>
            <p:cNvSpPr/>
            <p:nvPr/>
          </p:nvSpPr>
          <p:spPr>
            <a:xfrm>
              <a:off x="6199920" y="32364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8"/>
            <p:cNvSpPr/>
            <p:nvPr/>
          </p:nvSpPr>
          <p:spPr>
            <a:xfrm>
              <a:off x="5777640" y="3363840"/>
              <a:ext cx="820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rry ou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9"/>
            <p:cNvSpPr/>
            <p:nvPr/>
          </p:nvSpPr>
          <p:spPr>
            <a:xfrm>
              <a:off x="2955600" y="36162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0"/>
            <p:cNvSpPr/>
            <p:nvPr/>
          </p:nvSpPr>
          <p:spPr>
            <a:xfrm>
              <a:off x="4572000" y="36162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1"/>
            <p:cNvSpPr/>
            <p:nvPr/>
          </p:nvSpPr>
          <p:spPr>
            <a:xfrm>
              <a:off x="6188040" y="36162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32"/>
            <p:cNvSpPr/>
            <p:nvPr/>
          </p:nvSpPr>
          <p:spPr>
            <a:xfrm>
              <a:off x="5635800" y="383868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3"/>
            <p:cNvSpPr/>
            <p:nvPr/>
          </p:nvSpPr>
          <p:spPr>
            <a:xfrm>
              <a:off x="2719800" y="4467240"/>
              <a:ext cx="4734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it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34"/>
            <p:cNvSpPr/>
            <p:nvPr/>
          </p:nvSpPr>
          <p:spPr>
            <a:xfrm>
              <a:off x="2403360" y="494208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5"/>
            <p:cNvSpPr/>
            <p:nvPr/>
          </p:nvSpPr>
          <p:spPr>
            <a:xfrm>
              <a:off x="2955600" y="43578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6"/>
            <p:cNvSpPr/>
            <p:nvPr/>
          </p:nvSpPr>
          <p:spPr>
            <a:xfrm>
              <a:off x="2955600" y="471996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7"/>
            <p:cNvSpPr/>
            <p:nvPr/>
          </p:nvSpPr>
          <p:spPr>
            <a:xfrm>
              <a:off x="6193080" y="43578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8"/>
            <p:cNvSpPr/>
            <p:nvPr/>
          </p:nvSpPr>
          <p:spPr>
            <a:xfrm>
              <a:off x="5819400" y="4467240"/>
              <a:ext cx="7477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ch 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9"/>
            <p:cNvSpPr/>
            <p:nvPr/>
          </p:nvSpPr>
          <p:spPr>
            <a:xfrm>
              <a:off x="6193080" y="4719960"/>
              <a:ext cx="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41"/>
            <p:cNvSpPr/>
            <p:nvPr/>
          </p:nvSpPr>
          <p:spPr>
            <a:xfrm>
              <a:off x="3706560" y="2362320"/>
              <a:ext cx="1627200" cy="598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Anim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42"/>
            <p:cNvGrpSpPr/>
            <p:nvPr/>
          </p:nvGrpSpPr>
          <p:grpSpPr>
            <a:xfrm>
              <a:off x="501480" y="5956560"/>
              <a:ext cx="8134560" cy="517320"/>
              <a:chOff x="501480" y="5956560"/>
              <a:chExt cx="8134560" cy="517320"/>
            </a:xfrm>
          </p:grpSpPr>
          <p:sp>
            <p:nvSpPr>
              <p:cNvPr id="238" name="Oval 43"/>
              <p:cNvSpPr/>
              <p:nvPr/>
            </p:nvSpPr>
            <p:spPr>
              <a:xfrm>
                <a:off x="501480" y="5956560"/>
                <a:ext cx="110520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eed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44"/>
              <p:cNvSpPr/>
              <p:nvPr/>
            </p:nvSpPr>
            <p:spPr>
              <a:xfrm>
                <a:off x="167328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spir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45"/>
              <p:cNvSpPr/>
              <p:nvPr/>
            </p:nvSpPr>
            <p:spPr>
              <a:xfrm>
                <a:off x="284472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ircul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46"/>
              <p:cNvSpPr/>
              <p:nvPr/>
            </p:nvSpPr>
            <p:spPr>
              <a:xfrm>
                <a:off x="401652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xcre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47"/>
              <p:cNvSpPr/>
              <p:nvPr/>
            </p:nvSpPr>
            <p:spPr>
              <a:xfrm>
                <a:off x="518796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spons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48"/>
              <p:cNvSpPr/>
              <p:nvPr/>
            </p:nvSpPr>
            <p:spPr>
              <a:xfrm>
                <a:off x="6359400" y="5956560"/>
                <a:ext cx="110520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ovemen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49"/>
              <p:cNvSpPr/>
              <p:nvPr/>
            </p:nvSpPr>
            <p:spPr>
              <a:xfrm>
                <a:off x="753120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produc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50"/>
            <p:cNvGrpSpPr/>
            <p:nvPr/>
          </p:nvGrpSpPr>
          <p:grpSpPr>
            <a:xfrm>
              <a:off x="2400120" y="3863880"/>
              <a:ext cx="4336920" cy="517320"/>
              <a:chOff x="2400120" y="3863880"/>
              <a:chExt cx="4336920" cy="517320"/>
            </a:xfrm>
          </p:grpSpPr>
          <p:sp>
            <p:nvSpPr>
              <p:cNvPr id="246" name="Oval 51"/>
              <p:cNvSpPr/>
              <p:nvPr/>
            </p:nvSpPr>
            <p:spPr>
              <a:xfrm>
                <a:off x="2400120" y="386388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ukaryotic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ell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52"/>
              <p:cNvSpPr/>
              <p:nvPr/>
            </p:nvSpPr>
            <p:spPr>
              <a:xfrm>
                <a:off x="4016160" y="386388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Heterotroph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53"/>
              <p:cNvSpPr/>
              <p:nvPr/>
            </p:nvSpPr>
            <p:spPr>
              <a:xfrm>
                <a:off x="5632200" y="386388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ssential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unc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Oval 54"/>
            <p:cNvSpPr/>
            <p:nvPr/>
          </p:nvSpPr>
          <p:spPr>
            <a:xfrm>
              <a:off x="2400120" y="4938840"/>
              <a:ext cx="1104840" cy="517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 cell wa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24379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pen circulatory systems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5960" y="29718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lood is pumped through open cavit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system is found in arthropods and mollus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6320" y="480060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losed system forces blood through vessels that extend throughout the body of the organism. Since the system is “closed”  the blood never leaves the vess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system is found in Annelids and chord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52280" y="4114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losed circulatory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76320" y="91440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rtebrate circulatory system can range from a system where cells simply do diffusion to take in oxygen or systems with many hearts and even  systems with one 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circulatory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601560" y="5349960"/>
            <a:ext cx="334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818240" y="5349960"/>
            <a:ext cx="37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d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"/>
          <p:cNvGrpSpPr/>
          <p:nvPr/>
        </p:nvGrpSpPr>
        <p:grpSpPr>
          <a:xfrm>
            <a:off x="228600" y="1860480"/>
            <a:ext cx="8699400" cy="3247920"/>
            <a:chOff x="228600" y="1860480"/>
            <a:chExt cx="8699400" cy="3247920"/>
          </a:xfrm>
        </p:grpSpPr>
        <p:pic>
          <p:nvPicPr>
            <p:cNvPr id="331" name="Picture 3" descr="bio_ch29_4282"/>
            <p:cNvPicPr/>
            <p:nvPr/>
          </p:nvPicPr>
          <p:blipFill>
            <a:blip r:embed="rId1"/>
            <a:stretch/>
          </p:blipFill>
          <p:spPr>
            <a:xfrm>
              <a:off x="228600" y="1860480"/>
              <a:ext cx="8255160" cy="28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6"/>
            <p:cNvSpPr/>
            <p:nvPr/>
          </p:nvSpPr>
          <p:spPr>
            <a:xfrm>
              <a:off x="6547680" y="458820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rtlik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uc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7"/>
            <p:cNvSpPr/>
            <p:nvPr/>
          </p:nvSpPr>
          <p:spPr>
            <a:xfrm>
              <a:off x="7630560" y="4297680"/>
              <a:ext cx="777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ss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8"/>
            <p:cNvSpPr/>
            <p:nvPr/>
          </p:nvSpPr>
          <p:spPr>
            <a:xfrm>
              <a:off x="6689880" y="1893600"/>
              <a:ext cx="166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rtlike 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9"/>
            <p:cNvSpPr/>
            <p:nvPr/>
          </p:nvSpPr>
          <p:spPr>
            <a:xfrm>
              <a:off x="6689880" y="2322360"/>
              <a:ext cx="22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all vessels in tissu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0"/>
            <p:cNvSpPr/>
            <p:nvPr/>
          </p:nvSpPr>
          <p:spPr>
            <a:xfrm>
              <a:off x="741960" y="3117960"/>
              <a:ext cx="777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ss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1"/>
            <p:cNvSpPr/>
            <p:nvPr/>
          </p:nvSpPr>
          <p:spPr>
            <a:xfrm>
              <a:off x="879480" y="19508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3192840" y="29908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3"/>
            <p:cNvSpPr/>
            <p:nvPr/>
          </p:nvSpPr>
          <p:spPr>
            <a:xfrm>
              <a:off x="2493720" y="3940200"/>
              <a:ext cx="107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nuse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orga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2640" y="704520"/>
            <a:ext cx="66294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Circulatory System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716292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circulatory system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960" y="10666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rdate circulatory systems range from a single loop system (found in organisms with gills) to double loop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3" name="Picture 3" descr="bio_ch33_4551"/>
          <p:cNvPicPr/>
          <p:nvPr/>
        </p:nvPicPr>
        <p:blipFill>
          <a:blip r:embed="rId1"/>
          <a:stretch/>
        </p:blipFill>
        <p:spPr>
          <a:xfrm>
            <a:off x="1523880" y="2514600"/>
            <a:ext cx="5975640" cy="38624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4"/>
          <p:cNvSpPr/>
          <p:nvPr/>
        </p:nvSpPr>
        <p:spPr>
          <a:xfrm>
            <a:off x="4214160" y="213372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006560" y="2133720"/>
            <a:ext cx="27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676520" y="6443640"/>
            <a:ext cx="172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3657600" y="6477120"/>
            <a:ext cx="172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t Rep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5181480" y="6477120"/>
            <a:ext cx="259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codilians, Birds, and Mam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69343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Aquatic Invertebrate excretion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75960" y="9907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just">
              <a:lnSpc>
                <a:spcPct val="14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aquatic invertebrat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iffus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mmon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ut their bodies into the surrounding water where it is diluted and carried awa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6280" indent="-237240" algn="just">
              <a:lnSpc>
                <a:spcPct val="140000"/>
              </a:lnSpc>
              <a:buClr>
                <a:srgbClr val="00b05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onges, coelenterate, and some round wor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lnSpc>
                <a:spcPct val="14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 aquatic invertebrates swell up with water, dilute the wastes and excrete the wastes through tiny pores in the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k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152280" y="38862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Terrestrial Invertebrate excre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320" y="4572000"/>
            <a:ext cx="891540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4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errestrial invertebrates conver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mmon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re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 algn="just">
              <a:lnSpc>
                <a:spcPct val="140000"/>
              </a:lnSpc>
              <a:buClr>
                <a:srgbClr val="00b05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re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a simpler nitrogenous compound t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much les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xic th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mmon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 algn="just">
              <a:lnSpc>
                <a:spcPct val="140000"/>
              </a:lnSpc>
              <a:buClr>
                <a:srgbClr val="00b05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re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eliminated from the body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ri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2"/>
          <p:cNvGrpSpPr/>
          <p:nvPr/>
        </p:nvGrpSpPr>
        <p:grpSpPr>
          <a:xfrm>
            <a:off x="376200" y="1219320"/>
            <a:ext cx="8386920" cy="5412240"/>
            <a:chOff x="376200" y="1219320"/>
            <a:chExt cx="8386920" cy="5412240"/>
          </a:xfrm>
        </p:grpSpPr>
        <p:pic>
          <p:nvPicPr>
            <p:cNvPr id="355" name="Picture 3" descr="bio_ch29_4283"/>
            <p:cNvPicPr/>
            <p:nvPr/>
          </p:nvPicPr>
          <p:blipFill>
            <a:blip r:embed="rId1"/>
            <a:stretch/>
          </p:blipFill>
          <p:spPr>
            <a:xfrm>
              <a:off x="1076760" y="1363680"/>
              <a:ext cx="6919560" cy="50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4"/>
            <p:cNvSpPr/>
            <p:nvPr/>
          </p:nvSpPr>
          <p:spPr>
            <a:xfrm>
              <a:off x="2052360" y="5897880"/>
              <a:ext cx="100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nel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4838760" y="6355080"/>
              <a:ext cx="117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throp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6891480" y="1219320"/>
              <a:ext cx="117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atw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7"/>
            <p:cNvSpPr/>
            <p:nvPr/>
          </p:nvSpPr>
          <p:spPr>
            <a:xfrm>
              <a:off x="6221520" y="6172200"/>
              <a:ext cx="14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Arial"/>
                </a:rPr>
                <a:t>Malpighian tubu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8"/>
            <p:cNvSpPr/>
            <p:nvPr/>
          </p:nvSpPr>
          <p:spPr>
            <a:xfrm>
              <a:off x="4775400" y="4678560"/>
              <a:ext cx="123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gestive tra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9"/>
            <p:cNvSpPr/>
            <p:nvPr/>
          </p:nvSpPr>
          <p:spPr>
            <a:xfrm>
              <a:off x="3271680" y="4373640"/>
              <a:ext cx="9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Arial"/>
                </a:rPr>
                <a:t>Nephri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0"/>
            <p:cNvSpPr/>
            <p:nvPr/>
          </p:nvSpPr>
          <p:spPr>
            <a:xfrm>
              <a:off x="376200" y="2657520"/>
              <a:ext cx="125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retory p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1"/>
            <p:cNvSpPr/>
            <p:nvPr/>
          </p:nvSpPr>
          <p:spPr>
            <a:xfrm>
              <a:off x="7463160" y="3687840"/>
              <a:ext cx="129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retory tubu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2"/>
            <p:cNvSpPr/>
            <p:nvPr/>
          </p:nvSpPr>
          <p:spPr>
            <a:xfrm>
              <a:off x="7458120" y="3002040"/>
              <a:ext cx="99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Arial"/>
                </a:rPr>
                <a:t>Flame c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3"/>
            <p:cNvSpPr/>
            <p:nvPr/>
          </p:nvSpPr>
          <p:spPr>
            <a:xfrm>
              <a:off x="5558040" y="1399320"/>
              <a:ext cx="105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me ce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4"/>
            <p:cNvSpPr/>
            <p:nvPr/>
          </p:nvSpPr>
          <p:spPr>
            <a:xfrm>
              <a:off x="4338720" y="17802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retory tubu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1722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Excretory System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579132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Excretion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6320" y="1142640"/>
            <a:ext cx="533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quatic vertebrates kidneys and rely on gill slits to release excretory wastes into surrounding water for dilu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rrestrial vertebrates rely on the kidney’s to filter out the ammonia and change it into urea and send it to be released in ur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0" name="Picture 5" descr="http://library.thinkquest.org/22016/excretion/kidney2.jpg"/>
          <p:cNvPicPr/>
          <p:nvPr/>
        </p:nvPicPr>
        <p:blipFill>
          <a:blip r:embed="rId1"/>
          <a:stretch/>
        </p:blipFill>
        <p:spPr>
          <a:xfrm>
            <a:off x="5410080" y="762120"/>
            <a:ext cx="358164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240" y="437760"/>
            <a:ext cx="47242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Nervous syste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5960" y="1142640"/>
            <a:ext cx="8839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animals respond to their environment through specialized cell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erve ce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most animals, nerve cells hook together to for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ervous syst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rvous systems can range from fairly simple to extremely complex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arrangement of nerve cells from phylum to phylum can be dramatically differ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"/>
          <p:cNvGrpSpPr/>
          <p:nvPr/>
        </p:nvGrpSpPr>
        <p:grpSpPr>
          <a:xfrm>
            <a:off x="168120" y="1766880"/>
            <a:ext cx="4708800" cy="4200840"/>
            <a:chOff x="168120" y="1766880"/>
            <a:chExt cx="4708800" cy="4200840"/>
          </a:xfrm>
        </p:grpSpPr>
        <p:pic>
          <p:nvPicPr>
            <p:cNvPr id="375" name="Picture 3" descr="bio_ch29_4284"/>
            <p:cNvPicPr/>
            <p:nvPr/>
          </p:nvPicPr>
          <p:blipFill>
            <a:blip r:embed="rId1"/>
            <a:srcRect l="0" t="0" r="39547" b="0"/>
            <a:stretch/>
          </p:blipFill>
          <p:spPr>
            <a:xfrm>
              <a:off x="168120" y="2007000"/>
              <a:ext cx="470880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4"/>
            <p:cNvSpPr/>
            <p:nvPr/>
          </p:nvSpPr>
          <p:spPr>
            <a:xfrm>
              <a:off x="3588840" y="2971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ng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5"/>
            <p:cNvSpPr/>
            <p:nvPr/>
          </p:nvSpPr>
          <p:spPr>
            <a:xfrm>
              <a:off x="909000" y="32220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ng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1871280" y="20574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7"/>
            <p:cNvSpPr/>
            <p:nvPr/>
          </p:nvSpPr>
          <p:spPr>
            <a:xfrm>
              <a:off x="3146040" y="37555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9"/>
            <p:cNvSpPr/>
            <p:nvPr/>
          </p:nvSpPr>
          <p:spPr>
            <a:xfrm>
              <a:off x="3028680" y="1766880"/>
              <a:ext cx="105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throp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"/>
            <p:cNvSpPr/>
            <p:nvPr/>
          </p:nvSpPr>
          <p:spPr>
            <a:xfrm>
              <a:off x="3165840" y="5660640"/>
              <a:ext cx="105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llu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2"/>
            <p:cNvSpPr/>
            <p:nvPr/>
          </p:nvSpPr>
          <p:spPr>
            <a:xfrm>
              <a:off x="739800" y="5094360"/>
              <a:ext cx="105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atw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1ccd"/>
                </a:solidFill>
                <a:latin typeface="Constantia"/>
              </a:rPr>
              <a:t>Invertebrate Nervous System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4876920" y="6858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1ccd"/>
                </a:solidFill>
                <a:latin typeface="Constantia"/>
              </a:rPr>
              <a:t>Vertebrate Nervou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5" descr="http://www.kurzweilai.net/images/Peripheral-nervous-system.jpg"/>
          <p:cNvPicPr/>
          <p:nvPr/>
        </p:nvPicPr>
        <p:blipFill>
          <a:blip r:embed="rId2"/>
          <a:stretch/>
        </p:blipFill>
        <p:spPr>
          <a:xfrm>
            <a:off x="5002200" y="1981080"/>
            <a:ext cx="4002120" cy="44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75960" y="106632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15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Invertebrates can either have </a:t>
            </a:r>
            <a:r>
              <a:rPr b="0" lang="en-US" sz="2400" spc="-1" strike="noStrike" u="sng">
                <a:solidFill>
                  <a:srgbClr val="0d0d0d"/>
                </a:solidFill>
                <a:uFillTx/>
                <a:latin typeface="Constantia"/>
              </a:rPr>
              <a:t>intracellular</a:t>
            </a: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 or </a:t>
            </a:r>
            <a:r>
              <a:rPr b="0" lang="en-US" sz="2400" spc="-1" strike="noStrike" u="sng">
                <a:solidFill>
                  <a:srgbClr val="0d0d0d"/>
                </a:solidFill>
                <a:uFillTx/>
                <a:latin typeface="Constantia"/>
              </a:rPr>
              <a:t>extracellular</a:t>
            </a: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 diges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 algn="just">
              <a:lnSpc>
                <a:spcPct val="150000"/>
              </a:lnSpc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acellular meaning that food is digested within each individual cell of th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 algn="just">
              <a:lnSpc>
                <a:spcPct val="150000"/>
              </a:lnSpc>
              <a:buClr>
                <a:srgbClr val="00b05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pong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 algn="just">
              <a:lnSpc>
                <a:spcPct val="150000"/>
              </a:lnSpc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means that digestion occurs inside a digestive tract or cavity, then absorbed into the body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 algn="just">
              <a:lnSpc>
                <a:spcPct val="150000"/>
              </a:lnSpc>
              <a:buClr>
                <a:srgbClr val="00b05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ollusks, chordates, arthropods, echinoder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feeding and dig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"/>
          <p:cNvGrpSpPr/>
          <p:nvPr/>
        </p:nvGrpSpPr>
        <p:grpSpPr>
          <a:xfrm>
            <a:off x="1078200" y="1538280"/>
            <a:ext cx="7117560" cy="4865040"/>
            <a:chOff x="1078200" y="1538280"/>
            <a:chExt cx="7117560" cy="4865040"/>
          </a:xfrm>
        </p:grpSpPr>
        <p:pic>
          <p:nvPicPr>
            <p:cNvPr id="254" name="Picture 3" descr="bio_ch29_4280"/>
            <p:cNvPicPr/>
            <p:nvPr/>
          </p:nvPicPr>
          <p:blipFill>
            <a:blip r:embed="rId1"/>
            <a:stretch/>
          </p:blipFill>
          <p:spPr>
            <a:xfrm>
              <a:off x="1338120" y="1538280"/>
              <a:ext cx="6467400" cy="41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4"/>
            <p:cNvSpPr/>
            <p:nvPr/>
          </p:nvSpPr>
          <p:spPr>
            <a:xfrm>
              <a:off x="5893560" y="6096240"/>
              <a:ext cx="12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thropo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5"/>
            <p:cNvSpPr/>
            <p:nvPr/>
          </p:nvSpPr>
          <p:spPr>
            <a:xfrm>
              <a:off x="6265800" y="3730680"/>
              <a:ext cx="112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nel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"/>
            <p:cNvSpPr/>
            <p:nvPr/>
          </p:nvSpPr>
          <p:spPr>
            <a:xfrm>
              <a:off x="2457360" y="5715000"/>
              <a:ext cx="11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atw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7"/>
            <p:cNvSpPr/>
            <p:nvPr/>
          </p:nvSpPr>
          <p:spPr>
            <a:xfrm>
              <a:off x="2717640" y="403848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elenter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8"/>
            <p:cNvSpPr/>
            <p:nvPr/>
          </p:nvSpPr>
          <p:spPr>
            <a:xfrm>
              <a:off x="1605240" y="2509560"/>
              <a:ext cx="98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uth/an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9"/>
            <p:cNvSpPr/>
            <p:nvPr/>
          </p:nvSpPr>
          <p:spPr>
            <a:xfrm>
              <a:off x="1078200" y="5315040"/>
              <a:ext cx="98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uth/an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0"/>
            <p:cNvSpPr/>
            <p:nvPr/>
          </p:nvSpPr>
          <p:spPr>
            <a:xfrm>
              <a:off x="4618080" y="516888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u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1"/>
            <p:cNvSpPr/>
            <p:nvPr/>
          </p:nvSpPr>
          <p:spPr>
            <a:xfrm>
              <a:off x="7589880" y="277344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u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2"/>
            <p:cNvSpPr/>
            <p:nvPr/>
          </p:nvSpPr>
          <p:spPr>
            <a:xfrm>
              <a:off x="1316880" y="3656160"/>
              <a:ext cx="1207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strovascula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3"/>
            <p:cNvSpPr/>
            <p:nvPr/>
          </p:nvSpPr>
          <p:spPr>
            <a:xfrm>
              <a:off x="1639080" y="2881080"/>
              <a:ext cx="1207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strovascula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4"/>
            <p:cNvSpPr/>
            <p:nvPr/>
          </p:nvSpPr>
          <p:spPr>
            <a:xfrm>
              <a:off x="1185840" y="4980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ryn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5"/>
            <p:cNvSpPr/>
            <p:nvPr/>
          </p:nvSpPr>
          <p:spPr>
            <a:xfrm>
              <a:off x="4921200" y="43610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ryn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6"/>
            <p:cNvSpPr/>
            <p:nvPr/>
          </p:nvSpPr>
          <p:spPr>
            <a:xfrm>
              <a:off x="7288200" y="25653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ryn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6915600" y="237636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5734440" y="429264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9"/>
            <p:cNvSpPr/>
            <p:nvPr/>
          </p:nvSpPr>
          <p:spPr>
            <a:xfrm>
              <a:off x="6623280" y="2189160"/>
              <a:ext cx="70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izz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0"/>
            <p:cNvSpPr/>
            <p:nvPr/>
          </p:nvSpPr>
          <p:spPr>
            <a:xfrm>
              <a:off x="6108120" y="190944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st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1"/>
            <p:cNvSpPr/>
            <p:nvPr/>
          </p:nvSpPr>
          <p:spPr>
            <a:xfrm>
              <a:off x="6409800" y="551016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st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2"/>
            <p:cNvSpPr/>
            <p:nvPr/>
          </p:nvSpPr>
          <p:spPr>
            <a:xfrm>
              <a:off x="6766200" y="5295960"/>
              <a:ext cx="70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t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3"/>
            <p:cNvSpPr/>
            <p:nvPr/>
          </p:nvSpPr>
          <p:spPr>
            <a:xfrm>
              <a:off x="7311960" y="467856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4"/>
            <p:cNvSpPr/>
            <p:nvPr/>
          </p:nvSpPr>
          <p:spPr>
            <a:xfrm>
              <a:off x="6577200" y="338148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5"/>
            <p:cNvSpPr/>
            <p:nvPr/>
          </p:nvSpPr>
          <p:spPr>
            <a:xfrm>
              <a:off x="4960800" y="5329440"/>
              <a:ext cx="1349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mac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gestive g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digestive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960" y="106632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gestive systems of many vertebrates have organs that are well adapted for different feeding habi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1ccd"/>
                </a:solidFill>
                <a:latin typeface="Constantia"/>
              </a:rPr>
              <a:t>Carnivor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uch as sharks have short digestive tracts that produce fast-acting digestive enzy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1ccd"/>
                </a:solidFill>
                <a:latin typeface="Constantia"/>
              </a:rPr>
              <a:t>Herbivor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ave long intestines that have large colonies of bacteria that help in digesting the cellulose fibers in plant t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digestive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"/>
          <p:cNvGrpSpPr/>
          <p:nvPr/>
        </p:nvGrpSpPr>
        <p:grpSpPr>
          <a:xfrm>
            <a:off x="414360" y="1676520"/>
            <a:ext cx="8315280" cy="3973320"/>
            <a:chOff x="414360" y="1676520"/>
            <a:chExt cx="8315280" cy="3973320"/>
          </a:xfrm>
        </p:grpSpPr>
        <p:pic>
          <p:nvPicPr>
            <p:cNvPr id="282" name="Picture 3" descr="bio_ch33_4548"/>
            <p:cNvPicPr/>
            <p:nvPr/>
          </p:nvPicPr>
          <p:blipFill>
            <a:blip r:embed="rId1"/>
            <a:stretch/>
          </p:blipFill>
          <p:spPr>
            <a:xfrm>
              <a:off x="414360" y="1881000"/>
              <a:ext cx="831528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4"/>
            <p:cNvSpPr/>
            <p:nvPr/>
          </p:nvSpPr>
          <p:spPr>
            <a:xfrm>
              <a:off x="702360" y="1879560"/>
              <a:ext cx="1092240" cy="37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ophag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om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st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llblad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nc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a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izz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c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"/>
            <p:cNvSpPr/>
            <p:nvPr/>
          </p:nvSpPr>
          <p:spPr>
            <a:xfrm>
              <a:off x="1926000" y="16765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3074400" y="167652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lama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7"/>
            <p:cNvSpPr/>
            <p:nvPr/>
          </p:nvSpPr>
          <p:spPr>
            <a:xfrm>
              <a:off x="4771800" y="167652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8"/>
            <p:cNvSpPr/>
            <p:nvPr/>
          </p:nvSpPr>
          <p:spPr>
            <a:xfrm>
              <a:off x="6115680" y="16765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g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7670880" y="16765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447840"/>
            <a:ext cx="727704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The Digestive Systems of Vertebrat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9907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Aquatic invertebrates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960" y="1371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quatic animals have natural moist respiratory surfaces. some respire throug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iffusion through their ski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others 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gi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76320" y="3352680"/>
            <a:ext cx="8915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many different respiratory specialized organs in terrestrial invertebra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2720" algn="just">
              <a:lnSpc>
                <a:spcPct val="130000"/>
              </a:lnSpc>
              <a:buClr>
                <a:srgbClr val="00b05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iders use parall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book lung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2720" algn="just">
              <a:lnSpc>
                <a:spcPct val="130000"/>
              </a:lnSpc>
              <a:buClr>
                <a:srgbClr val="00b05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ects use opening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pirac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here air enters the body and passes throug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trache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ubes for gas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2720" algn="just">
              <a:lnSpc>
                <a:spcPct val="130000"/>
              </a:lnSpc>
              <a:buClr>
                <a:srgbClr val="00b05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nails have a mantel cavity that is lined with moist tissue and an extensive surface area of blood vess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52280" y="2819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Terrestrial Invertebr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0"/>
          <p:cNvSpPr/>
          <p:nvPr/>
        </p:nvSpPr>
        <p:spPr>
          <a:xfrm>
            <a:off x="228600" y="304920"/>
            <a:ext cx="4800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Respiration in anim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1"/>
          <p:cNvGrpSpPr/>
          <p:nvPr/>
        </p:nvGrpSpPr>
        <p:grpSpPr>
          <a:xfrm>
            <a:off x="552600" y="1447920"/>
            <a:ext cx="8038800" cy="4208040"/>
            <a:chOff x="552600" y="1447920"/>
            <a:chExt cx="8038800" cy="4208040"/>
          </a:xfrm>
        </p:grpSpPr>
        <p:pic>
          <p:nvPicPr>
            <p:cNvPr id="296" name="Picture 3" descr="bio_ch29_4281"/>
            <p:cNvPicPr/>
            <p:nvPr/>
          </p:nvPicPr>
          <p:blipFill>
            <a:blip r:embed="rId1"/>
            <a:stretch/>
          </p:blipFill>
          <p:spPr>
            <a:xfrm>
              <a:off x="552600" y="1500120"/>
              <a:ext cx="8038800" cy="39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4"/>
            <p:cNvSpPr/>
            <p:nvPr/>
          </p:nvSpPr>
          <p:spPr>
            <a:xfrm>
              <a:off x="888840" y="33559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llu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"/>
            <p:cNvSpPr/>
            <p:nvPr/>
          </p:nvSpPr>
          <p:spPr>
            <a:xfrm>
              <a:off x="6070680" y="33559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s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3327480" y="518508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i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7"/>
            <p:cNvSpPr/>
            <p:nvPr/>
          </p:nvSpPr>
          <p:spPr>
            <a:xfrm>
              <a:off x="2325600" y="155556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i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2960640" y="199548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ph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494800" y="2959200"/>
              <a:ext cx="169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vement of wa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4636080" y="5135760"/>
              <a:ext cx="587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ok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1"/>
            <p:cNvSpPr/>
            <p:nvPr/>
          </p:nvSpPr>
          <p:spPr>
            <a:xfrm>
              <a:off x="3417120" y="4716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ir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5398560" y="1447920"/>
              <a:ext cx="87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che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ub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3"/>
            <p:cNvSpPr/>
            <p:nvPr/>
          </p:nvSpPr>
          <p:spPr>
            <a:xfrm>
              <a:off x="7171920" y="2960640"/>
              <a:ext cx="91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irac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40"/>
          <p:cNvSpPr/>
          <p:nvPr/>
        </p:nvSpPr>
        <p:spPr>
          <a:xfrm>
            <a:off x="1171440" y="384120"/>
            <a:ext cx="7010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respiratory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960" y="99036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rdates have one of two basic structures for respira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Gi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for aquatic chord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23920"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ish and amphibi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Lung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- for terrestrial chord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23920"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dult amphibians, reptiles, birds, and mam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respiratory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33530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Gill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5960" y="9907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lnSpc>
                <a:spcPct val="12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ter flows through the mouth then over the gills where oxygen is remov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lnSpc>
                <a:spcPct val="12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rbon dioxide and water are then pumped out through the opercu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5" descr="sb4549f1"/>
          <p:cNvPicPr/>
          <p:nvPr/>
        </p:nvPicPr>
        <p:blipFill>
          <a:blip r:embed="rId1"/>
          <a:stretch/>
        </p:blipFill>
        <p:spPr>
          <a:xfrm>
            <a:off x="5943600" y="219240"/>
            <a:ext cx="3048120" cy="397188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1"/>
          <p:cNvGrpSpPr/>
          <p:nvPr/>
        </p:nvGrpSpPr>
        <p:grpSpPr>
          <a:xfrm>
            <a:off x="228600" y="3581280"/>
            <a:ext cx="5796000" cy="3124800"/>
            <a:chOff x="228600" y="3581280"/>
            <a:chExt cx="5796000" cy="3124800"/>
          </a:xfrm>
        </p:grpSpPr>
        <p:pic>
          <p:nvPicPr>
            <p:cNvPr id="314" name="Picture 3" descr="bio_ch33_4550"/>
            <p:cNvPicPr/>
            <p:nvPr/>
          </p:nvPicPr>
          <p:blipFill>
            <a:blip r:embed="rId2"/>
            <a:stretch/>
          </p:blipFill>
          <p:spPr>
            <a:xfrm>
              <a:off x="228600" y="3581280"/>
              <a:ext cx="5796000" cy="28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4"/>
            <p:cNvSpPr/>
            <p:nvPr/>
          </p:nvSpPr>
          <p:spPr>
            <a:xfrm>
              <a:off x="630000" y="64011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lama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2289240" y="6429600"/>
              <a:ext cx="71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z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4807080" y="6429600"/>
              <a:ext cx="78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ge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3295800" y="6429600"/>
              <a:ext cx="84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m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8"/>
            <p:cNvSpPr/>
            <p:nvPr/>
          </p:nvSpPr>
          <p:spPr>
            <a:xfrm>
              <a:off x="663480" y="3581280"/>
              <a:ext cx="1879560" cy="8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ostrils, mouth, and throa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che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u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ir sa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9"/>
          <p:cNvSpPr/>
          <p:nvPr/>
        </p:nvSpPr>
        <p:spPr>
          <a:xfrm>
            <a:off x="152280" y="3048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Lu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9:09:12Z</dcterms:created>
  <dc:creator>AISD</dc:creator>
  <dc:description/>
  <dc:language>en-US</dc:language>
  <cp:lastModifiedBy>Dell</cp:lastModifiedBy>
  <dcterms:modified xsi:type="dcterms:W3CDTF">2015-11-24T20:47:21Z</dcterms:modified>
  <cp:revision>98</cp:revision>
  <dc:subject/>
  <dc:title>Animal Kingdom: Comparative Anatomy</dc:title>
</cp:coreProperties>
</file>