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731-6983-4B19-A1E8-F6D2B593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7F6-AB57-4949-B0E7-4DB981D9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BFC2-7A22-44BE-BA18-7BF1DCD2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D71-AF16-490B-8BDB-12D8ECD6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9173-8BB1-40F7-B077-C608B247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05ED-4F33-447F-9F4A-993A29B4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466A-9C38-4DAA-B4C3-0B22A7F0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E6FE-F12A-420D-9167-A845C35C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316A-A665-4F65-9408-19FFE201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BD26-B3C1-4856-BEB1-612A702F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A96D-2E38-49B8-9CD2-17854B8E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CE4-CD3F-4F96-AC26-EAB7B0FC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C873-57D0-4077-A78C-F3EEEC61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980E-76A5-49F4-9162-B2C3F102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1C8A-0160-4047-A36D-43824688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E587-08CF-4EE3-A8E1-F32A85F6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735B-36A0-48DC-8641-E24837F8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7040-73BE-4466-96C2-E1F778D1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C00D6-359B-46A1-A8EE-FE931A28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9E4E3-1121-4F96-9359-59288B96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F739-68B3-403A-8CA3-C459634A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29DD-B976-4811-BF9D-6FD78624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30C7-4897-4BE1-98C5-772BFF38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A749-E857-4C7C-8D16-1B8844C9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6BAA8-BD3D-4C4F-9FB7-F3B0BA1D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A9BC-B8D6-43FA-969A-00F9F8EA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1B0B-C142-4C65-B634-DA236EAF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8D3EE-A1B0-41F9-B58D-7640223D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6955-6746-4A62-907A-5B445A55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3CE9-55EF-4518-81A9-402FEAB5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E1B88-2879-43A5-A96C-F4220A39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8F010-18C2-4540-8ABB-EFE716B2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BA234-24BB-4A94-BCFD-2AA78C19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9CF-ED7F-4ED8-AE70-FAF409A2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6A53-CF65-41EC-93E4-46FF0EB3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29E18-D9DF-49B0-987A-F6AF66C2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7807E-5068-4CFD-A017-6D5DD863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7918E-EC95-4C6F-ACD9-92905313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6A79A-9B8D-4167-90D3-6A7EB4A7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5D024-78CD-479D-AC38-BEAF0349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1AC54-8066-4314-AF83-A2EBA9BC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BA92E-49E1-47DD-A249-A96A716D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91BDB-05A8-40EE-B82F-2606EF8D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455-3D63-404B-93BE-B77FFEFE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630-096B-4988-B627-113C570C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E05-89F7-4F46-80A5-A0C9C1D7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CE2-DA01-4CB8-BCAE-77BB078D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72C-19C8-45E3-910E-A805B8DE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ACC2-51C5-4945-B77C-570C9715C0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0AA6-710C-4934-A724-B1109E84FF3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2816-2269-4E84-B8FC-8C1AE5B3EA9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A5BC-A2CC-4A52-A4E8-1F3BD63AB1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685800" y="304920"/>
            <a:ext cx="780588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  <a:ea typeface="Arial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20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  <a:ea typeface="Arial"/>
              </a:rPr>
              <a:t>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Comparative anat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0"/>
          <p:cNvSpPr/>
          <p:nvPr/>
        </p:nvSpPr>
        <p:spPr>
          <a:xfrm>
            <a:off x="228600" y="1450800"/>
            <a:ext cx="6342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What do animals do to surv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63"/>
          <p:cNvGrpSpPr/>
          <p:nvPr/>
        </p:nvGrpSpPr>
        <p:grpSpPr>
          <a:xfrm>
            <a:off x="501480" y="2362320"/>
            <a:ext cx="8137800" cy="4114800"/>
            <a:chOff x="501480" y="2362320"/>
            <a:chExt cx="8137800" cy="4114800"/>
          </a:xfrm>
        </p:grpSpPr>
        <p:sp>
          <p:nvSpPr>
            <p:cNvPr id="199" name="Line 3"/>
            <p:cNvSpPr/>
            <p:nvPr/>
          </p:nvSpPr>
          <p:spPr>
            <a:xfrm>
              <a:off x="4572000" y="2800440"/>
              <a:ext cx="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"/>
            <p:cNvSpPr/>
            <p:nvPr/>
          </p:nvSpPr>
          <p:spPr>
            <a:xfrm>
              <a:off x="3633840" y="2362320"/>
              <a:ext cx="1776240" cy="601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>
              <a:off x="2957400" y="3243240"/>
              <a:ext cx="32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1056960" y="5735880"/>
              <a:ext cx="70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105696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8"/>
            <p:cNvSpPr/>
            <p:nvPr/>
          </p:nvSpPr>
          <p:spPr>
            <a:xfrm>
              <a:off x="50436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222876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0"/>
            <p:cNvSpPr/>
            <p:nvPr/>
          </p:nvSpPr>
          <p:spPr>
            <a:xfrm>
              <a:off x="167616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>
              <a:off x="340020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284796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457200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4"/>
            <p:cNvSpPr/>
            <p:nvPr/>
          </p:nvSpPr>
          <p:spPr>
            <a:xfrm>
              <a:off x="401940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5"/>
            <p:cNvSpPr/>
            <p:nvPr/>
          </p:nvSpPr>
          <p:spPr>
            <a:xfrm>
              <a:off x="574380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519120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691524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8"/>
            <p:cNvSpPr/>
            <p:nvPr/>
          </p:nvSpPr>
          <p:spPr>
            <a:xfrm>
              <a:off x="636264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808704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0"/>
            <p:cNvSpPr/>
            <p:nvPr/>
          </p:nvSpPr>
          <p:spPr>
            <a:xfrm>
              <a:off x="753444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2686680" y="3363840"/>
              <a:ext cx="537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a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2"/>
            <p:cNvSpPr/>
            <p:nvPr/>
          </p:nvSpPr>
          <p:spPr>
            <a:xfrm>
              <a:off x="2403360" y="38386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4363200" y="3363840"/>
              <a:ext cx="418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4"/>
            <p:cNvSpPr/>
            <p:nvPr/>
          </p:nvSpPr>
          <p:spPr>
            <a:xfrm>
              <a:off x="4019400" y="38386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5"/>
            <p:cNvSpPr/>
            <p:nvPr/>
          </p:nvSpPr>
          <p:spPr>
            <a:xfrm>
              <a:off x="2961720" y="32364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6"/>
            <p:cNvSpPr/>
            <p:nvPr/>
          </p:nvSpPr>
          <p:spPr>
            <a:xfrm>
              <a:off x="4572000" y="32544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7"/>
            <p:cNvSpPr/>
            <p:nvPr/>
          </p:nvSpPr>
          <p:spPr>
            <a:xfrm>
              <a:off x="6199920" y="32364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8"/>
            <p:cNvSpPr/>
            <p:nvPr/>
          </p:nvSpPr>
          <p:spPr>
            <a:xfrm>
              <a:off x="5777640" y="3363840"/>
              <a:ext cx="82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rry ou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9"/>
            <p:cNvSpPr/>
            <p:nvPr/>
          </p:nvSpPr>
          <p:spPr>
            <a:xfrm>
              <a:off x="2955600" y="3616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0"/>
            <p:cNvSpPr/>
            <p:nvPr/>
          </p:nvSpPr>
          <p:spPr>
            <a:xfrm>
              <a:off x="4572000" y="3616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1"/>
            <p:cNvSpPr/>
            <p:nvPr/>
          </p:nvSpPr>
          <p:spPr>
            <a:xfrm>
              <a:off x="6188040" y="3616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32"/>
            <p:cNvSpPr/>
            <p:nvPr/>
          </p:nvSpPr>
          <p:spPr>
            <a:xfrm>
              <a:off x="5635800" y="38386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3"/>
            <p:cNvSpPr/>
            <p:nvPr/>
          </p:nvSpPr>
          <p:spPr>
            <a:xfrm>
              <a:off x="2719800" y="4467240"/>
              <a:ext cx="4734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34"/>
            <p:cNvSpPr/>
            <p:nvPr/>
          </p:nvSpPr>
          <p:spPr>
            <a:xfrm>
              <a:off x="2403360" y="49420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5"/>
            <p:cNvSpPr/>
            <p:nvPr/>
          </p:nvSpPr>
          <p:spPr>
            <a:xfrm>
              <a:off x="2955600" y="43578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6"/>
            <p:cNvSpPr/>
            <p:nvPr/>
          </p:nvSpPr>
          <p:spPr>
            <a:xfrm>
              <a:off x="2955600" y="471996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7"/>
            <p:cNvSpPr/>
            <p:nvPr/>
          </p:nvSpPr>
          <p:spPr>
            <a:xfrm>
              <a:off x="6193080" y="43578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8"/>
            <p:cNvSpPr/>
            <p:nvPr/>
          </p:nvSpPr>
          <p:spPr>
            <a:xfrm>
              <a:off x="5819400" y="4467240"/>
              <a:ext cx="7477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ch 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9"/>
            <p:cNvSpPr/>
            <p:nvPr/>
          </p:nvSpPr>
          <p:spPr>
            <a:xfrm>
              <a:off x="6193080" y="4719960"/>
              <a:ext cx="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41"/>
            <p:cNvSpPr/>
            <p:nvPr/>
          </p:nvSpPr>
          <p:spPr>
            <a:xfrm>
              <a:off x="3706560" y="2362320"/>
              <a:ext cx="1627200" cy="598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Anim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42"/>
            <p:cNvGrpSpPr/>
            <p:nvPr/>
          </p:nvGrpSpPr>
          <p:grpSpPr>
            <a:xfrm>
              <a:off x="501480" y="5956560"/>
              <a:ext cx="8134560" cy="517320"/>
              <a:chOff x="501480" y="5956560"/>
              <a:chExt cx="8134560" cy="517320"/>
            </a:xfrm>
          </p:grpSpPr>
          <p:sp>
            <p:nvSpPr>
              <p:cNvPr id="238" name="Oval 43"/>
              <p:cNvSpPr/>
              <p:nvPr/>
            </p:nvSpPr>
            <p:spPr>
              <a:xfrm>
                <a:off x="501480" y="5956560"/>
                <a:ext cx="110520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eed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44"/>
              <p:cNvSpPr/>
              <p:nvPr/>
            </p:nvSpPr>
            <p:spPr>
              <a:xfrm>
                <a:off x="167328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spir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45"/>
              <p:cNvSpPr/>
              <p:nvPr/>
            </p:nvSpPr>
            <p:spPr>
              <a:xfrm>
                <a:off x="284472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ircul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46"/>
              <p:cNvSpPr/>
              <p:nvPr/>
            </p:nvSpPr>
            <p:spPr>
              <a:xfrm>
                <a:off x="401652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xcre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47"/>
              <p:cNvSpPr/>
              <p:nvPr/>
            </p:nvSpPr>
            <p:spPr>
              <a:xfrm>
                <a:off x="518796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spons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48"/>
              <p:cNvSpPr/>
              <p:nvPr/>
            </p:nvSpPr>
            <p:spPr>
              <a:xfrm>
                <a:off x="6359400" y="5956560"/>
                <a:ext cx="110520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ovemen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49"/>
              <p:cNvSpPr/>
              <p:nvPr/>
            </p:nvSpPr>
            <p:spPr>
              <a:xfrm>
                <a:off x="753120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produc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50"/>
            <p:cNvGrpSpPr/>
            <p:nvPr/>
          </p:nvGrpSpPr>
          <p:grpSpPr>
            <a:xfrm>
              <a:off x="2400120" y="3863880"/>
              <a:ext cx="4336920" cy="517320"/>
              <a:chOff x="2400120" y="3863880"/>
              <a:chExt cx="4336920" cy="517320"/>
            </a:xfrm>
          </p:grpSpPr>
          <p:sp>
            <p:nvSpPr>
              <p:cNvPr id="246" name="Oval 51"/>
              <p:cNvSpPr/>
              <p:nvPr/>
            </p:nvSpPr>
            <p:spPr>
              <a:xfrm>
                <a:off x="2400120" y="386388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ukaryotic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ell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52"/>
              <p:cNvSpPr/>
              <p:nvPr/>
            </p:nvSpPr>
            <p:spPr>
              <a:xfrm>
                <a:off x="4016160" y="386388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Heterotroph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53"/>
              <p:cNvSpPr/>
              <p:nvPr/>
            </p:nvSpPr>
            <p:spPr>
              <a:xfrm>
                <a:off x="5632200" y="386388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ssential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unc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Oval 54"/>
            <p:cNvSpPr/>
            <p:nvPr/>
          </p:nvSpPr>
          <p:spPr>
            <a:xfrm>
              <a:off x="2400120" y="4938840"/>
              <a:ext cx="1104840" cy="517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 cell wa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24379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s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5960" y="29718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lood is pumped through open cavit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system is found in arthropods and mollus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320" y="480060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system is found in Annelids and chord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52280" y="411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losed circulatory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76320" y="91440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circulatory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01560" y="534996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34996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"/>
          <p:cNvGrpSpPr/>
          <p:nvPr/>
        </p:nvGrpSpPr>
        <p:grpSpPr>
          <a:xfrm>
            <a:off x="228600" y="1860480"/>
            <a:ext cx="8699400" cy="3247920"/>
            <a:chOff x="228600" y="1860480"/>
            <a:chExt cx="8699400" cy="3247920"/>
          </a:xfrm>
        </p:grpSpPr>
        <p:pic>
          <p:nvPicPr>
            <p:cNvPr id="331" name="Picture 3" descr="bio_ch29_4282"/>
            <p:cNvPicPr/>
            <p:nvPr/>
          </p:nvPicPr>
          <p:blipFill>
            <a:blip r:embed="rId1"/>
            <a:stretch/>
          </p:blipFill>
          <p:spPr>
            <a:xfrm>
              <a:off x="228600" y="1860480"/>
              <a:ext cx="8255160" cy="28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6"/>
            <p:cNvSpPr/>
            <p:nvPr/>
          </p:nvSpPr>
          <p:spPr>
            <a:xfrm>
              <a:off x="6547680" y="45882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lik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uc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7"/>
            <p:cNvSpPr/>
            <p:nvPr/>
          </p:nvSpPr>
          <p:spPr>
            <a:xfrm>
              <a:off x="7630560" y="4297680"/>
              <a:ext cx="77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8"/>
            <p:cNvSpPr/>
            <p:nvPr/>
          </p:nvSpPr>
          <p:spPr>
            <a:xfrm>
              <a:off x="6689880" y="1893600"/>
              <a:ext cx="166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like 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9"/>
            <p:cNvSpPr/>
            <p:nvPr/>
          </p:nvSpPr>
          <p:spPr>
            <a:xfrm>
              <a:off x="6689880" y="2322360"/>
              <a:ext cx="22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all vessels in tiss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0"/>
            <p:cNvSpPr/>
            <p:nvPr/>
          </p:nvSpPr>
          <p:spPr>
            <a:xfrm>
              <a:off x="741960" y="3117960"/>
              <a:ext cx="77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1"/>
            <p:cNvSpPr/>
            <p:nvPr/>
          </p:nvSpPr>
          <p:spPr>
            <a:xfrm>
              <a:off x="879480" y="19508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3192840" y="29908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2493720" y="3940200"/>
              <a:ext cx="107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nuse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orga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2640" y="70452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Circulatory Syste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716292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circulatory syste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960" y="10666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3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4"/>
          <p:cNvSpPr/>
          <p:nvPr/>
        </p:nvSpPr>
        <p:spPr>
          <a:xfrm>
            <a:off x="4214160" y="213372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006560" y="2133720"/>
            <a:ext cx="27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676520" y="644364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5181480" y="6477120"/>
            <a:ext cx="259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 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69343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Aquatic Invertebrate excretion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5960" y="9907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lnSpc>
                <a:spcPct val="14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aquatic invertebrat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iffus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ut their bodies into the surrounding water where it is diluted and carried aw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6280" indent="-237240" algn="just">
              <a:lnSpc>
                <a:spcPct val="140000"/>
              </a:lnSpc>
              <a:buClr>
                <a:srgbClr val="00b05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onges, coelenterate, and some round wor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lnSpc>
                <a:spcPct val="14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k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152280" y="38862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Terrestrial Invertebrate excre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320" y="4572000"/>
            <a:ext cx="891540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4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errestrial invertebrates conver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 algn="just">
              <a:lnSpc>
                <a:spcPct val="140000"/>
              </a:lnSpc>
              <a:buClr>
                <a:srgbClr val="00b05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simpler nitrogenous compound t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much les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xic th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 algn="just">
              <a:lnSpc>
                <a:spcPct val="140000"/>
              </a:lnSpc>
              <a:buClr>
                <a:srgbClr val="00b05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eliminated from the body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2"/>
          <p:cNvGrpSpPr/>
          <p:nvPr/>
        </p:nvGrpSpPr>
        <p:grpSpPr>
          <a:xfrm>
            <a:off x="376200" y="1219320"/>
            <a:ext cx="8386920" cy="5412240"/>
            <a:chOff x="376200" y="1219320"/>
            <a:chExt cx="8386920" cy="5412240"/>
          </a:xfrm>
        </p:grpSpPr>
        <p:pic>
          <p:nvPicPr>
            <p:cNvPr id="355" name="Picture 3" descr="bio_ch29_4283"/>
            <p:cNvPicPr/>
            <p:nvPr/>
          </p:nvPicPr>
          <p:blipFill>
            <a:blip r:embed="rId1"/>
            <a:stretch/>
          </p:blipFill>
          <p:spPr>
            <a:xfrm>
              <a:off x="1076760" y="1363680"/>
              <a:ext cx="6919560" cy="50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4"/>
            <p:cNvSpPr/>
            <p:nvPr/>
          </p:nvSpPr>
          <p:spPr>
            <a:xfrm>
              <a:off x="2052360" y="5897880"/>
              <a:ext cx="100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nel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4838760" y="6355080"/>
              <a:ext cx="11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throp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6891480" y="1219320"/>
              <a:ext cx="11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7"/>
            <p:cNvSpPr/>
            <p:nvPr/>
          </p:nvSpPr>
          <p:spPr>
            <a:xfrm>
              <a:off x="6221520" y="6172200"/>
              <a:ext cx="14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Malpighian tub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8"/>
            <p:cNvSpPr/>
            <p:nvPr/>
          </p:nvSpPr>
          <p:spPr>
            <a:xfrm>
              <a:off x="4775400" y="4678560"/>
              <a:ext cx="123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gestive tr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"/>
            <p:cNvSpPr/>
            <p:nvPr/>
          </p:nvSpPr>
          <p:spPr>
            <a:xfrm>
              <a:off x="3271680" y="4373640"/>
              <a:ext cx="9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Nephri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0"/>
            <p:cNvSpPr/>
            <p:nvPr/>
          </p:nvSpPr>
          <p:spPr>
            <a:xfrm>
              <a:off x="376200" y="2657520"/>
              <a:ext cx="125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retory p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7463160" y="3687840"/>
              <a:ext cx="129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retory tub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2"/>
            <p:cNvSpPr/>
            <p:nvPr/>
          </p:nvSpPr>
          <p:spPr>
            <a:xfrm>
              <a:off x="7458120" y="3002040"/>
              <a:ext cx="9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Flame c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3"/>
            <p:cNvSpPr/>
            <p:nvPr/>
          </p:nvSpPr>
          <p:spPr>
            <a:xfrm>
              <a:off x="5558040" y="1399320"/>
              <a:ext cx="105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me ce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4"/>
            <p:cNvSpPr/>
            <p:nvPr/>
          </p:nvSpPr>
          <p:spPr>
            <a:xfrm>
              <a:off x="4338720" y="17802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retory tub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1722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Excretory System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57913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Excretion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6320" y="1142640"/>
            <a:ext cx="533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0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410080" y="762120"/>
            <a:ext cx="35816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437760"/>
            <a:ext cx="4724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Nervous syste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5960" y="1142640"/>
            <a:ext cx="883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erve ce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most animals, nerve cells hook together to for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ervous syst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"/>
          <p:cNvGrpSpPr/>
          <p:nvPr/>
        </p:nvGrpSpPr>
        <p:grpSpPr>
          <a:xfrm>
            <a:off x="168120" y="1766880"/>
            <a:ext cx="4708800" cy="4200840"/>
            <a:chOff x="168120" y="1766880"/>
            <a:chExt cx="4708800" cy="4200840"/>
          </a:xfrm>
        </p:grpSpPr>
        <p:pic>
          <p:nvPicPr>
            <p:cNvPr id="375" name="Picture 3" descr="bio_ch29_4284"/>
            <p:cNvPicPr/>
            <p:nvPr/>
          </p:nvPicPr>
          <p:blipFill>
            <a:blip r:embed="rId1"/>
            <a:srcRect l="0" t="0" r="39547" b="0"/>
            <a:stretch/>
          </p:blipFill>
          <p:spPr>
            <a:xfrm>
              <a:off x="168120" y="2007000"/>
              <a:ext cx="47088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4"/>
            <p:cNvSpPr/>
            <p:nvPr/>
          </p:nvSpPr>
          <p:spPr>
            <a:xfrm>
              <a:off x="3588840" y="2971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ng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909000" y="32220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ng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1871280" y="20574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7"/>
            <p:cNvSpPr/>
            <p:nvPr/>
          </p:nvSpPr>
          <p:spPr>
            <a:xfrm>
              <a:off x="3146040" y="37555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9"/>
            <p:cNvSpPr/>
            <p:nvPr/>
          </p:nvSpPr>
          <p:spPr>
            <a:xfrm>
              <a:off x="3028680" y="1766880"/>
              <a:ext cx="105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throp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"/>
            <p:cNvSpPr/>
            <p:nvPr/>
          </p:nvSpPr>
          <p:spPr>
            <a:xfrm>
              <a:off x="3165840" y="5660640"/>
              <a:ext cx="105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llu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2"/>
            <p:cNvSpPr/>
            <p:nvPr/>
          </p:nvSpPr>
          <p:spPr>
            <a:xfrm>
              <a:off x="739800" y="5094360"/>
              <a:ext cx="105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1ccd"/>
                </a:solidFill>
                <a:latin typeface="Constantia"/>
              </a:rPr>
              <a:t>Invertebrate Nervous System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4876920" y="6858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1ccd"/>
                </a:solidFill>
                <a:latin typeface="Constantia"/>
              </a:rPr>
              <a:t>Vertebrate Nervou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5" descr="http://www.kurzweilai.net/images/Peripheral-nervous-system.jpg"/>
          <p:cNvPicPr/>
          <p:nvPr/>
        </p:nvPicPr>
        <p:blipFill>
          <a:blip r:embed="rId2"/>
          <a:stretch/>
        </p:blipFill>
        <p:spPr>
          <a:xfrm>
            <a:off x="5002200" y="1981080"/>
            <a:ext cx="400212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75960" y="106632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5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Invertebrates can either have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nstantia"/>
              </a:rPr>
              <a:t>intracellular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 or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nstantia"/>
              </a:rPr>
              <a:t>extracellular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 diges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 algn="just">
              <a:lnSpc>
                <a:spcPct val="15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 algn="just">
              <a:lnSpc>
                <a:spcPct val="150000"/>
              </a:lnSpc>
              <a:buClr>
                <a:srgbClr val="00b05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pong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 algn="just">
              <a:lnSpc>
                <a:spcPct val="15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 algn="just">
              <a:lnSpc>
                <a:spcPct val="150000"/>
              </a:lnSpc>
              <a:buClr>
                <a:srgbClr val="00b05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llusks, chordates, arthropods, echinoder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feeding and dig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"/>
          <p:cNvGrpSpPr/>
          <p:nvPr/>
        </p:nvGrpSpPr>
        <p:grpSpPr>
          <a:xfrm>
            <a:off x="1078200" y="1538280"/>
            <a:ext cx="7117560" cy="4865040"/>
            <a:chOff x="1078200" y="1538280"/>
            <a:chExt cx="7117560" cy="4865040"/>
          </a:xfrm>
        </p:grpSpPr>
        <p:pic>
          <p:nvPicPr>
            <p:cNvPr id="254" name="Picture 3" descr="bio_ch29_4280"/>
            <p:cNvPicPr/>
            <p:nvPr/>
          </p:nvPicPr>
          <p:blipFill>
            <a:blip r:embed="rId1"/>
            <a:stretch/>
          </p:blipFill>
          <p:spPr>
            <a:xfrm>
              <a:off x="1338120" y="1538280"/>
              <a:ext cx="6467400" cy="41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4"/>
            <p:cNvSpPr/>
            <p:nvPr/>
          </p:nvSpPr>
          <p:spPr>
            <a:xfrm>
              <a:off x="5893560" y="6096240"/>
              <a:ext cx="12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thropo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5"/>
            <p:cNvSpPr/>
            <p:nvPr/>
          </p:nvSpPr>
          <p:spPr>
            <a:xfrm>
              <a:off x="6265800" y="3730680"/>
              <a:ext cx="112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nel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"/>
            <p:cNvSpPr/>
            <p:nvPr/>
          </p:nvSpPr>
          <p:spPr>
            <a:xfrm>
              <a:off x="2457360" y="5715000"/>
              <a:ext cx="11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7"/>
            <p:cNvSpPr/>
            <p:nvPr/>
          </p:nvSpPr>
          <p:spPr>
            <a:xfrm>
              <a:off x="2717640" y="403848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elenter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8"/>
            <p:cNvSpPr/>
            <p:nvPr/>
          </p:nvSpPr>
          <p:spPr>
            <a:xfrm>
              <a:off x="1605240" y="2509560"/>
              <a:ext cx="98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/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9"/>
            <p:cNvSpPr/>
            <p:nvPr/>
          </p:nvSpPr>
          <p:spPr>
            <a:xfrm>
              <a:off x="1078200" y="5315040"/>
              <a:ext cx="98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/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0"/>
            <p:cNvSpPr/>
            <p:nvPr/>
          </p:nvSpPr>
          <p:spPr>
            <a:xfrm>
              <a:off x="4618080" y="516888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1"/>
            <p:cNvSpPr/>
            <p:nvPr/>
          </p:nvSpPr>
          <p:spPr>
            <a:xfrm>
              <a:off x="7589880" y="277344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2"/>
            <p:cNvSpPr/>
            <p:nvPr/>
          </p:nvSpPr>
          <p:spPr>
            <a:xfrm>
              <a:off x="1316880" y="3656160"/>
              <a:ext cx="1207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strovascula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1639080" y="2881080"/>
              <a:ext cx="1207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strovascula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1185840" y="4980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ryn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5"/>
            <p:cNvSpPr/>
            <p:nvPr/>
          </p:nvSpPr>
          <p:spPr>
            <a:xfrm>
              <a:off x="4921200" y="43610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ryn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6"/>
            <p:cNvSpPr/>
            <p:nvPr/>
          </p:nvSpPr>
          <p:spPr>
            <a:xfrm>
              <a:off x="7288200" y="256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ryn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6915600" y="237636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5734440" y="429264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9"/>
            <p:cNvSpPr/>
            <p:nvPr/>
          </p:nvSpPr>
          <p:spPr>
            <a:xfrm>
              <a:off x="6623280" y="2189160"/>
              <a:ext cx="70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izz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0"/>
            <p:cNvSpPr/>
            <p:nvPr/>
          </p:nvSpPr>
          <p:spPr>
            <a:xfrm>
              <a:off x="6108120" y="19094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1"/>
            <p:cNvSpPr/>
            <p:nvPr/>
          </p:nvSpPr>
          <p:spPr>
            <a:xfrm>
              <a:off x="6409800" y="551016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6766200" y="5295960"/>
              <a:ext cx="70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t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3"/>
            <p:cNvSpPr/>
            <p:nvPr/>
          </p:nvSpPr>
          <p:spPr>
            <a:xfrm>
              <a:off x="7311960" y="467856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4"/>
            <p:cNvSpPr/>
            <p:nvPr/>
          </p:nvSpPr>
          <p:spPr>
            <a:xfrm>
              <a:off x="6577200" y="338148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5"/>
            <p:cNvSpPr/>
            <p:nvPr/>
          </p:nvSpPr>
          <p:spPr>
            <a:xfrm>
              <a:off x="4960800" y="5329440"/>
              <a:ext cx="1349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mac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gestive g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digestive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960" y="106632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ccd"/>
                </a:solidFill>
                <a:latin typeface="Constantia"/>
              </a:rPr>
              <a:t>Carnivor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uch as sharks have short digestive tracts that produce fast-acting digestive enzy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ccd"/>
                </a:solidFill>
                <a:latin typeface="Constantia"/>
              </a:rPr>
              <a:t>Herbivor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ave long intestines that have large colonies of bacteria that help in digesting the cellulose fibers in plant t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digestive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"/>
          <p:cNvGrpSpPr/>
          <p:nvPr/>
        </p:nvGrpSpPr>
        <p:grpSpPr>
          <a:xfrm>
            <a:off x="414360" y="1676520"/>
            <a:ext cx="8315280" cy="3973320"/>
            <a:chOff x="414360" y="1676520"/>
            <a:chExt cx="8315280" cy="3973320"/>
          </a:xfrm>
        </p:grpSpPr>
        <p:pic>
          <p:nvPicPr>
            <p:cNvPr id="282" name="Picture 3" descr="bio_ch33_4548"/>
            <p:cNvPicPr/>
            <p:nvPr/>
          </p:nvPicPr>
          <p:blipFill>
            <a:blip r:embed="rId1"/>
            <a:stretch/>
          </p:blipFill>
          <p:spPr>
            <a:xfrm>
              <a:off x="414360" y="1881000"/>
              <a:ext cx="831528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4"/>
            <p:cNvSpPr/>
            <p:nvPr/>
          </p:nvSpPr>
          <p:spPr>
            <a:xfrm>
              <a:off x="702360" y="1879560"/>
              <a:ext cx="1092240" cy="37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ophag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m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llbla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nc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a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izz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c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"/>
            <p:cNvSpPr/>
            <p:nvPr/>
          </p:nvSpPr>
          <p:spPr>
            <a:xfrm>
              <a:off x="1926000" y="16765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3074400" y="167652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lama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7"/>
            <p:cNvSpPr/>
            <p:nvPr/>
          </p:nvSpPr>
          <p:spPr>
            <a:xfrm>
              <a:off x="4771800" y="167652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8"/>
            <p:cNvSpPr/>
            <p:nvPr/>
          </p:nvSpPr>
          <p:spPr>
            <a:xfrm>
              <a:off x="6115680" y="16765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7670880" y="16765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47840"/>
            <a:ext cx="727704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The Digestive Systems of Vertebrat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9907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Aquatic invertebrates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960" y="1371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. some respire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iffusion through their ski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others 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gi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76320" y="3352680"/>
            <a:ext cx="8915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2720" algn="just">
              <a:lnSpc>
                <a:spcPct val="130000"/>
              </a:lnSpc>
              <a:buClr>
                <a:srgbClr val="00b05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iders use parall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book lu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2720" algn="just">
              <a:lnSpc>
                <a:spcPct val="130000"/>
              </a:lnSpc>
              <a:buClr>
                <a:srgbClr val="00b05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ects use opening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pirac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here air enters the body and passes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rache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ubes for gas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2720" algn="just">
              <a:lnSpc>
                <a:spcPct val="130000"/>
              </a:lnSpc>
              <a:buClr>
                <a:srgbClr val="00b05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52280" y="2819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Terrestrial Invertebr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0"/>
          <p:cNvSpPr/>
          <p:nvPr/>
        </p:nvSpPr>
        <p:spPr>
          <a:xfrm>
            <a:off x="228600" y="304920"/>
            <a:ext cx="4800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Respiration in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1"/>
          <p:cNvGrpSpPr/>
          <p:nvPr/>
        </p:nvGrpSpPr>
        <p:grpSpPr>
          <a:xfrm>
            <a:off x="552600" y="1447920"/>
            <a:ext cx="8038800" cy="4208040"/>
            <a:chOff x="552600" y="1447920"/>
            <a:chExt cx="8038800" cy="4208040"/>
          </a:xfrm>
        </p:grpSpPr>
        <p:pic>
          <p:nvPicPr>
            <p:cNvPr id="296" name="Picture 3" descr="bio_ch29_4281"/>
            <p:cNvPicPr/>
            <p:nvPr/>
          </p:nvPicPr>
          <p:blipFill>
            <a:blip r:embed="rId1"/>
            <a:stretch/>
          </p:blipFill>
          <p:spPr>
            <a:xfrm>
              <a:off x="552600" y="1500120"/>
              <a:ext cx="8038800" cy="39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4"/>
            <p:cNvSpPr/>
            <p:nvPr/>
          </p:nvSpPr>
          <p:spPr>
            <a:xfrm>
              <a:off x="888840" y="33559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llu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"/>
            <p:cNvSpPr/>
            <p:nvPr/>
          </p:nvSpPr>
          <p:spPr>
            <a:xfrm>
              <a:off x="6070680" y="33559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3327480" y="518508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i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7"/>
            <p:cNvSpPr/>
            <p:nvPr/>
          </p:nvSpPr>
          <p:spPr>
            <a:xfrm>
              <a:off x="2325600" y="155556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i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2960640" y="199548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ph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494800" y="2959200"/>
              <a:ext cx="16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vement of wa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4636080" y="5135760"/>
              <a:ext cx="587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ok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1"/>
            <p:cNvSpPr/>
            <p:nvPr/>
          </p:nvSpPr>
          <p:spPr>
            <a:xfrm>
              <a:off x="3417120" y="4716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r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5398560" y="1447920"/>
              <a:ext cx="87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che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ub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3"/>
            <p:cNvSpPr/>
            <p:nvPr/>
          </p:nvSpPr>
          <p:spPr>
            <a:xfrm>
              <a:off x="7171920" y="2960640"/>
              <a:ext cx="91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irac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40"/>
          <p:cNvSpPr/>
          <p:nvPr/>
        </p:nvSpPr>
        <p:spPr>
          <a:xfrm>
            <a:off x="1171440" y="384120"/>
            <a:ext cx="7010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respiratory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960" y="99036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Gi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for aquatic chord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ish and amphibi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Lu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- for terrestrial chord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dult amphibians, reptiles, birds, and mam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respiratory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33530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Gill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5960" y="9907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12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lnSpc>
                <a:spcPct val="12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5" descr="sb4549f1"/>
          <p:cNvPicPr/>
          <p:nvPr/>
        </p:nvPicPr>
        <p:blipFill>
          <a:blip r:embed="rId1"/>
          <a:stretch/>
        </p:blipFill>
        <p:spPr>
          <a:xfrm>
            <a:off x="5943600" y="219240"/>
            <a:ext cx="3048120" cy="397188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1"/>
          <p:cNvGrpSpPr/>
          <p:nvPr/>
        </p:nvGrpSpPr>
        <p:grpSpPr>
          <a:xfrm>
            <a:off x="228600" y="3581280"/>
            <a:ext cx="5796000" cy="3124800"/>
            <a:chOff x="228600" y="3581280"/>
            <a:chExt cx="5796000" cy="3124800"/>
          </a:xfrm>
        </p:grpSpPr>
        <p:pic>
          <p:nvPicPr>
            <p:cNvPr id="314" name="Picture 3" descr="bio_ch33_4550"/>
            <p:cNvPicPr/>
            <p:nvPr/>
          </p:nvPicPr>
          <p:blipFill>
            <a:blip r:embed="rId2"/>
            <a:stretch/>
          </p:blipFill>
          <p:spPr>
            <a:xfrm>
              <a:off x="228600" y="3581280"/>
              <a:ext cx="5796000" cy="28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4"/>
            <p:cNvSpPr/>
            <p:nvPr/>
          </p:nvSpPr>
          <p:spPr>
            <a:xfrm>
              <a:off x="630000" y="64011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lama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2289240" y="6429600"/>
              <a:ext cx="71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z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4807080" y="6429600"/>
              <a:ext cx="78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ge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3295800" y="6429600"/>
              <a:ext cx="84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m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8"/>
            <p:cNvSpPr/>
            <p:nvPr/>
          </p:nvSpPr>
          <p:spPr>
            <a:xfrm>
              <a:off x="663480" y="3581280"/>
              <a:ext cx="1879560" cy="8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ostrils, mouth, and throa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che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u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ir sa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9"/>
          <p:cNvSpPr/>
          <p:nvPr/>
        </p:nvSpPr>
        <p:spPr>
          <a:xfrm>
            <a:off x="152280" y="3048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Lu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Dell</cp:lastModifiedBy>
  <dcterms:modified xsi:type="dcterms:W3CDTF">2015-11-24T20:47:21Z</dcterms:modified>
  <cp:revision>98</cp:revision>
  <dc:subject/>
  <dc:title>Animal Kingdom: Comparative Anatomy</dc:title>
</cp:coreProperties>
</file>