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EF3-2A50-4B25-B6D0-D5765BBA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EC0-A50A-4CCB-9988-DADCE26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FE6-6DB5-4B4A-BD8D-4BAA83F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363-7A12-4720-B024-C5E4DC5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764C-2BFE-4F83-829F-49C0D0AF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031-1589-4D24-8F14-EEAF4D09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F734-982F-420D-B6A0-9E2CE86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B041-C1BA-42F5-9089-7516AD0F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088-269C-4E1E-AD55-08DBF55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6D43-4126-4754-8EDF-964FB02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01B-76CD-40BB-9815-4B0D76CC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88C-1B0A-4309-8C29-1B70D64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9D94-8C50-4C34-98AB-3A463A34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B5AA-6BE1-40F4-A243-CEBBE27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F319-A432-4458-8EAF-C04BC47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88C9-1651-41F4-BD39-2CA2159C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A74-EC68-4F44-8E2A-A8D038AB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9E7C-BA58-46C5-9E9E-FD5762C8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A873-3823-492B-A29B-FCE5EA89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D72A-D58A-41C3-9232-BD99101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4216-55DF-4154-9D73-FA5022B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A369-B877-4F92-893F-6E6CB0F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A69-49F6-489E-A1AC-7B40BFE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E5A0-E333-4D12-A068-925D6D5E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71F4-2243-429E-B917-B00FB28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5BF2-E422-4E7E-A9D6-DA36992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9615-5E27-4DCE-A27F-FE9014E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8CED-866A-43F4-8DF1-28C2396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5F29-CD59-46FF-84CF-264A9318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9D63-A8BC-4C88-935A-1F86A8FB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94C1-E602-4063-BDF5-37A3DCEE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B71D-B22D-48D2-B49B-003CA964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FBD4A-1173-47A9-87C7-76698F3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8EC-2F46-49FA-90CC-D22A11AE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C21E-9D26-4A0D-BC37-8C361FF9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CBA3-583F-437A-9EE6-46D90940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A359-7984-4363-8151-89E1F49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ABA2-2628-4BC7-BB84-EDD4C776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130C-748A-40E8-8E0E-FBCE7ADF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CDA2-240F-4DB8-9C10-B90873D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6EC1-01E3-4A70-B864-8ADED98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8698-D7A3-428D-A982-09A63D0A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B790-23C4-452B-A60C-AB1C6925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D8C-B9AE-4CDA-9A54-3A47D0F9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9CE-518F-4A6D-B7DE-9D3F217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1E4-074D-42F6-BDC0-C813EDE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256-E989-470D-92D9-EA0A67F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8F4-5B40-4DDD-934C-2A1805E7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D11-9AAE-4B2D-AE0D-582411F8D8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AB51-1453-4435-96C6-E00A83C19E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812-84C5-48D5-87D5-59D73F26481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80CC-D842-4060-B14F-E698924F4C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685800" y="304920"/>
            <a:ext cx="780588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2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  <a:ea typeface="Arial"/>
              </a:rPr>
              <a:t>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Comparative anat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28600" y="1450800"/>
            <a:ext cx="6342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What do animals do to surv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3"/>
          <p:cNvGrpSpPr/>
          <p:nvPr/>
        </p:nvGrpSpPr>
        <p:grpSpPr>
          <a:xfrm>
            <a:off x="501480" y="2362320"/>
            <a:ext cx="8137800" cy="4114800"/>
            <a:chOff x="501480" y="2362320"/>
            <a:chExt cx="8137800" cy="4114800"/>
          </a:xfrm>
        </p:grpSpPr>
        <p:sp>
          <p:nvSpPr>
            <p:cNvPr id="199" name="Line 3"/>
            <p:cNvSpPr/>
            <p:nvPr/>
          </p:nvSpPr>
          <p:spPr>
            <a:xfrm>
              <a:off x="4572000" y="2800440"/>
              <a:ext cx="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3633840" y="2362320"/>
              <a:ext cx="1776240" cy="601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2957400" y="3243240"/>
              <a:ext cx="32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1056960" y="5735880"/>
              <a:ext cx="70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10569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5043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222876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16761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>
              <a:off x="34002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284796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45720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"/>
            <p:cNvSpPr/>
            <p:nvPr/>
          </p:nvSpPr>
          <p:spPr>
            <a:xfrm>
              <a:off x="40194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574380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519120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9152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8"/>
            <p:cNvSpPr/>
            <p:nvPr/>
          </p:nvSpPr>
          <p:spPr>
            <a:xfrm>
              <a:off x="63626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8087040" y="5735880"/>
              <a:ext cx="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0"/>
            <p:cNvSpPr/>
            <p:nvPr/>
          </p:nvSpPr>
          <p:spPr>
            <a:xfrm>
              <a:off x="7534440" y="595980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2686680" y="3363840"/>
              <a:ext cx="537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a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2"/>
            <p:cNvSpPr/>
            <p:nvPr/>
          </p:nvSpPr>
          <p:spPr>
            <a:xfrm>
              <a:off x="240336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4363200" y="3363840"/>
              <a:ext cx="418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4"/>
            <p:cNvSpPr/>
            <p:nvPr/>
          </p:nvSpPr>
          <p:spPr>
            <a:xfrm>
              <a:off x="40194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9617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4572000" y="3254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6199920" y="32364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8"/>
            <p:cNvSpPr/>
            <p:nvPr/>
          </p:nvSpPr>
          <p:spPr>
            <a:xfrm>
              <a:off x="5777640" y="3363840"/>
              <a:ext cx="820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rry ou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29556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0"/>
            <p:cNvSpPr/>
            <p:nvPr/>
          </p:nvSpPr>
          <p:spPr>
            <a:xfrm>
              <a:off x="457200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1"/>
            <p:cNvSpPr/>
            <p:nvPr/>
          </p:nvSpPr>
          <p:spPr>
            <a:xfrm>
              <a:off x="6188040" y="3616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2"/>
            <p:cNvSpPr/>
            <p:nvPr/>
          </p:nvSpPr>
          <p:spPr>
            <a:xfrm>
              <a:off x="5635800" y="38386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3"/>
            <p:cNvSpPr/>
            <p:nvPr/>
          </p:nvSpPr>
          <p:spPr>
            <a:xfrm>
              <a:off x="2719800" y="4467240"/>
              <a:ext cx="473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4"/>
            <p:cNvSpPr/>
            <p:nvPr/>
          </p:nvSpPr>
          <p:spPr>
            <a:xfrm>
              <a:off x="2403360" y="4942080"/>
              <a:ext cx="1104840" cy="517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295560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>
              <a:off x="2955600" y="4719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6193080" y="43578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8"/>
            <p:cNvSpPr/>
            <p:nvPr/>
          </p:nvSpPr>
          <p:spPr>
            <a:xfrm>
              <a:off x="5819400" y="4467240"/>
              <a:ext cx="7477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ch 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9"/>
            <p:cNvSpPr/>
            <p:nvPr/>
          </p:nvSpPr>
          <p:spPr>
            <a:xfrm>
              <a:off x="6193080" y="471996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41"/>
            <p:cNvSpPr/>
            <p:nvPr/>
          </p:nvSpPr>
          <p:spPr>
            <a:xfrm>
              <a:off x="3706560" y="2362320"/>
              <a:ext cx="1627200" cy="598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Anim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2"/>
            <p:cNvGrpSpPr/>
            <p:nvPr/>
          </p:nvGrpSpPr>
          <p:grpSpPr>
            <a:xfrm>
              <a:off x="501480" y="5956560"/>
              <a:ext cx="8134560" cy="517320"/>
              <a:chOff x="501480" y="5956560"/>
              <a:chExt cx="8134560" cy="517320"/>
            </a:xfrm>
          </p:grpSpPr>
          <p:sp>
            <p:nvSpPr>
              <p:cNvPr id="238" name="Oval 43"/>
              <p:cNvSpPr/>
              <p:nvPr/>
            </p:nvSpPr>
            <p:spPr>
              <a:xfrm>
                <a:off x="50148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eed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44"/>
              <p:cNvSpPr/>
              <p:nvPr/>
            </p:nvSpPr>
            <p:spPr>
              <a:xfrm>
                <a:off x="167328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ir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5"/>
              <p:cNvSpPr/>
              <p:nvPr/>
            </p:nvSpPr>
            <p:spPr>
              <a:xfrm>
                <a:off x="28447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ircul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46"/>
              <p:cNvSpPr/>
              <p:nvPr/>
            </p:nvSpPr>
            <p:spPr>
              <a:xfrm>
                <a:off x="401652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xcre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47"/>
              <p:cNvSpPr/>
              <p:nvPr/>
            </p:nvSpPr>
            <p:spPr>
              <a:xfrm>
                <a:off x="518796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spon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48"/>
              <p:cNvSpPr/>
              <p:nvPr/>
            </p:nvSpPr>
            <p:spPr>
              <a:xfrm>
                <a:off x="6359400" y="5956560"/>
                <a:ext cx="110520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oveme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9"/>
              <p:cNvSpPr/>
              <p:nvPr/>
            </p:nvSpPr>
            <p:spPr>
              <a:xfrm>
                <a:off x="7531200" y="595656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eproduc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0"/>
            <p:cNvGrpSpPr/>
            <p:nvPr/>
          </p:nvGrpSpPr>
          <p:grpSpPr>
            <a:xfrm>
              <a:off x="2400120" y="3863880"/>
              <a:ext cx="4336920" cy="517320"/>
              <a:chOff x="2400120" y="3863880"/>
              <a:chExt cx="4336920" cy="517320"/>
            </a:xfrm>
          </p:grpSpPr>
          <p:sp>
            <p:nvSpPr>
              <p:cNvPr id="246" name="Oval 51"/>
              <p:cNvSpPr/>
              <p:nvPr/>
            </p:nvSpPr>
            <p:spPr>
              <a:xfrm>
                <a:off x="240012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ukaryotic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e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52"/>
              <p:cNvSpPr/>
              <p:nvPr/>
            </p:nvSpPr>
            <p:spPr>
              <a:xfrm>
                <a:off x="401616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Heterotroph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3"/>
              <p:cNvSpPr/>
              <p:nvPr/>
            </p:nvSpPr>
            <p:spPr>
              <a:xfrm>
                <a:off x="5632200" y="3863880"/>
                <a:ext cx="1104840" cy="517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ssential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un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54"/>
            <p:cNvSpPr/>
            <p:nvPr/>
          </p:nvSpPr>
          <p:spPr>
            <a:xfrm>
              <a:off x="2400120" y="4938840"/>
              <a:ext cx="1104840" cy="517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 cell wa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s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29718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lood is pumped through open cav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rthropods and mollus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320" y="480060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system is found in Annelids and chord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4114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losed circulatory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76320" y="9144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01560" y="534996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34996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228600" y="1860480"/>
            <a:ext cx="8699400" cy="3247920"/>
            <a:chOff x="228600" y="1860480"/>
            <a:chExt cx="8699400" cy="3247920"/>
          </a:xfrm>
        </p:grpSpPr>
        <p:pic>
          <p:nvPicPr>
            <p:cNvPr id="331" name="Picture 3" descr="bio_ch29_4282"/>
            <p:cNvPicPr/>
            <p:nvPr/>
          </p:nvPicPr>
          <p:blipFill>
            <a:blip r:embed="rId1"/>
            <a:stretch/>
          </p:blipFill>
          <p:spPr>
            <a:xfrm>
              <a:off x="228600" y="1860480"/>
              <a:ext cx="8255160" cy="28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6547680" y="45882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>
              <a:off x="7630560" y="429768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6689880" y="1893600"/>
              <a:ext cx="16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like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9"/>
            <p:cNvSpPr/>
            <p:nvPr/>
          </p:nvSpPr>
          <p:spPr>
            <a:xfrm>
              <a:off x="6689880" y="2322360"/>
              <a:ext cx="22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ll vessels in t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741960" y="3117960"/>
              <a:ext cx="77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o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ss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879480" y="1950840"/>
              <a:ext cx="70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3192840" y="2990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493720" y="394020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e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org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2640" y="70452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71629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circulatory syste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960" y="10666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4214160" y="213372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06560" y="2133720"/>
            <a:ext cx="27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676520" y="644364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181480" y="6477120"/>
            <a:ext cx="259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 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69343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Aquatic In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5960" y="9907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aquatic invertebr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 their bodies into the surrounding water where it is diluted and carried aw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6280" indent="-23724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onges, coelenterate, and some round wo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52280" y="3886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errestrial Invertebrate excre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320" y="4572000"/>
            <a:ext cx="891540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4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errestrial invertebrates conver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simpler nitrogenous compound t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xic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 algn="just">
              <a:lnSpc>
                <a:spcPct val="140000"/>
              </a:lnSpc>
              <a:buClr>
                <a:srgbClr val="00b05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e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eliminated from the body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76200" y="1219320"/>
            <a:ext cx="8386920" cy="5412240"/>
            <a:chOff x="376200" y="1219320"/>
            <a:chExt cx="8386920" cy="5412240"/>
          </a:xfrm>
        </p:grpSpPr>
        <p:pic>
          <p:nvPicPr>
            <p:cNvPr id="355" name="Picture 3" descr="bio_ch29_4283"/>
            <p:cNvPicPr/>
            <p:nvPr/>
          </p:nvPicPr>
          <p:blipFill>
            <a:blip r:embed="rId1"/>
            <a:stretch/>
          </p:blipFill>
          <p:spPr>
            <a:xfrm>
              <a:off x="1076760" y="1363680"/>
              <a:ext cx="6919560" cy="50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4"/>
            <p:cNvSpPr/>
            <p:nvPr/>
          </p:nvSpPr>
          <p:spPr>
            <a:xfrm>
              <a:off x="2052360" y="5897880"/>
              <a:ext cx="100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nel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838760" y="635508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6891480" y="121932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6221520" y="6172200"/>
              <a:ext cx="14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Malpighian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4775400" y="4678560"/>
              <a:ext cx="123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tr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"/>
            <p:cNvSpPr/>
            <p:nvPr/>
          </p:nvSpPr>
          <p:spPr>
            <a:xfrm>
              <a:off x="3271680" y="4373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Nephri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376200" y="2657520"/>
              <a:ext cx="125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7463160" y="3687840"/>
              <a:ext cx="129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2"/>
            <p:cNvSpPr/>
            <p:nvPr/>
          </p:nvSpPr>
          <p:spPr>
            <a:xfrm>
              <a:off x="7458120" y="3002040"/>
              <a:ext cx="9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Arial"/>
                </a:rPr>
                <a:t>Flame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3"/>
            <p:cNvSpPr/>
            <p:nvPr/>
          </p:nvSpPr>
          <p:spPr>
            <a:xfrm>
              <a:off x="5558040" y="1399320"/>
              <a:ext cx="105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me ce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4338720" y="17802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retory tub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1722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Excretory System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57913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Excretion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320" y="1142640"/>
            <a:ext cx="533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410080" y="762120"/>
            <a:ext cx="35816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437760"/>
            <a:ext cx="472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Nervous syst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5960" y="114264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e ce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most animals, nerve cells hook together to for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"/>
          <p:cNvGrpSpPr/>
          <p:nvPr/>
        </p:nvGrpSpPr>
        <p:grpSpPr>
          <a:xfrm>
            <a:off x="168120" y="1766880"/>
            <a:ext cx="4708800" cy="4200840"/>
            <a:chOff x="168120" y="1766880"/>
            <a:chExt cx="4708800" cy="4200840"/>
          </a:xfrm>
        </p:grpSpPr>
        <p:pic>
          <p:nvPicPr>
            <p:cNvPr id="375" name="Picture 3" descr="bio_ch29_4284"/>
            <p:cNvPicPr/>
            <p:nvPr/>
          </p:nvPicPr>
          <p:blipFill>
            <a:blip r:embed="rId1"/>
            <a:srcRect l="0" t="0" r="39547" b="0"/>
            <a:stretch/>
          </p:blipFill>
          <p:spPr>
            <a:xfrm>
              <a:off x="168120" y="2007000"/>
              <a:ext cx="47088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3588840" y="2971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909000" y="32220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ng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1871280" y="20574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3146040" y="37555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3028680" y="176688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"/>
            <p:cNvSpPr/>
            <p:nvPr/>
          </p:nvSpPr>
          <p:spPr>
            <a:xfrm>
              <a:off x="3165840" y="566064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739800" y="5094360"/>
              <a:ext cx="105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Invertebrate Nervous System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4876920" y="685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ccd"/>
                </a:solidFill>
                <a:latin typeface="Constantia"/>
              </a:rPr>
              <a:t>Vertebrate Nervou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http://www.kurzweilai.net/images/Peripheral-nervous-system.jpg"/>
          <p:cNvPicPr/>
          <p:nvPr/>
        </p:nvPicPr>
        <p:blipFill>
          <a:blip r:embed="rId2"/>
          <a:stretch/>
        </p:blipFill>
        <p:spPr>
          <a:xfrm>
            <a:off x="5002200" y="1981080"/>
            <a:ext cx="400212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Invertebrates can either hav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in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or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nstantia"/>
              </a:rPr>
              <a:t>extracellular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 diges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pong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 algn="just">
              <a:lnSpc>
                <a:spcPct val="15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 algn="just">
              <a:lnSpc>
                <a:spcPct val="150000"/>
              </a:lnSpc>
              <a:buClr>
                <a:srgbClr val="00b05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mollusks, chordates, arthropods, echinod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5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feeding and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"/>
          <p:cNvGrpSpPr/>
          <p:nvPr/>
        </p:nvGrpSpPr>
        <p:grpSpPr>
          <a:xfrm>
            <a:off x="1078200" y="1538280"/>
            <a:ext cx="7117560" cy="4865040"/>
            <a:chOff x="1078200" y="1538280"/>
            <a:chExt cx="7117560" cy="4865040"/>
          </a:xfrm>
        </p:grpSpPr>
        <p:pic>
          <p:nvPicPr>
            <p:cNvPr id="254" name="Picture 3" descr="bio_ch29_4280"/>
            <p:cNvPicPr/>
            <p:nvPr/>
          </p:nvPicPr>
          <p:blipFill>
            <a:blip r:embed="rId1"/>
            <a:stretch/>
          </p:blipFill>
          <p:spPr>
            <a:xfrm>
              <a:off x="1338120" y="1538280"/>
              <a:ext cx="6467400" cy="41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5893560" y="6096240"/>
              <a:ext cx="127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hrop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6265800" y="3730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nel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2457360" y="5715000"/>
              <a:ext cx="11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2717640" y="40384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elente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"/>
            <p:cNvSpPr/>
            <p:nvPr/>
          </p:nvSpPr>
          <p:spPr>
            <a:xfrm>
              <a:off x="1605240" y="250956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1078200" y="5315040"/>
              <a:ext cx="98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/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4618080" y="516888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7589880" y="277344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1316880" y="365616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1639080" y="2881080"/>
              <a:ext cx="120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trovascula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1185840" y="4980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4921200" y="43610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6"/>
            <p:cNvSpPr/>
            <p:nvPr/>
          </p:nvSpPr>
          <p:spPr>
            <a:xfrm>
              <a:off x="7288200" y="256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ryn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6915600" y="23763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5734440" y="42926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9"/>
            <p:cNvSpPr/>
            <p:nvPr/>
          </p:nvSpPr>
          <p:spPr>
            <a:xfrm>
              <a:off x="6623280" y="21891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0"/>
            <p:cNvSpPr/>
            <p:nvPr/>
          </p:nvSpPr>
          <p:spPr>
            <a:xfrm>
              <a:off x="6108120" y="19094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1"/>
            <p:cNvSpPr/>
            <p:nvPr/>
          </p:nvSpPr>
          <p:spPr>
            <a:xfrm>
              <a:off x="6409800" y="551016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2"/>
            <p:cNvSpPr/>
            <p:nvPr/>
          </p:nvSpPr>
          <p:spPr>
            <a:xfrm>
              <a:off x="6766200" y="5295960"/>
              <a:ext cx="70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"/>
            <p:cNvSpPr/>
            <p:nvPr/>
          </p:nvSpPr>
          <p:spPr>
            <a:xfrm>
              <a:off x="7311960" y="4678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4"/>
            <p:cNvSpPr/>
            <p:nvPr/>
          </p:nvSpPr>
          <p:spPr>
            <a:xfrm>
              <a:off x="6577200" y="33814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25"/>
            <p:cNvSpPr/>
            <p:nvPr/>
          </p:nvSpPr>
          <p:spPr>
            <a:xfrm>
              <a:off x="4960800" y="5329440"/>
              <a:ext cx="1349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gestive g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960" y="106632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Carn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uch as sharks have short digestive tracts that produce fast-acting digestive enzy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ccd"/>
                </a:solidFill>
                <a:latin typeface="Constantia"/>
              </a:rPr>
              <a:t>Herbivor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ave long intestines that have large colonies of bacteria that help in digesting the cellulose fibers in plant t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digestive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414360" y="1676520"/>
            <a:ext cx="8315280" cy="3973320"/>
            <a:chOff x="414360" y="1676520"/>
            <a:chExt cx="8315280" cy="3973320"/>
          </a:xfrm>
        </p:grpSpPr>
        <p:pic>
          <p:nvPicPr>
            <p:cNvPr id="282" name="Picture 3" descr="bio_ch33_4548"/>
            <p:cNvPicPr/>
            <p:nvPr/>
          </p:nvPicPr>
          <p:blipFill>
            <a:blip r:embed="rId1"/>
            <a:stretch/>
          </p:blipFill>
          <p:spPr>
            <a:xfrm>
              <a:off x="414360" y="1881000"/>
              <a:ext cx="831528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4"/>
            <p:cNvSpPr/>
            <p:nvPr/>
          </p:nvSpPr>
          <p:spPr>
            <a:xfrm>
              <a:off x="702360" y="1879560"/>
              <a:ext cx="1092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ophag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m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st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llbl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a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zz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c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1926000" y="16765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3074400" y="167652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7"/>
            <p:cNvSpPr/>
            <p:nvPr/>
          </p:nvSpPr>
          <p:spPr>
            <a:xfrm>
              <a:off x="4771800" y="16765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6115680" y="16765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7670880" y="16765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47840"/>
            <a:ext cx="727704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The Digestive Systems of Vertebr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9907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quatic invertebrat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9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lnSpc>
                <a:spcPct val="15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. some respire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iffusion through their sk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others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6320" y="3352680"/>
            <a:ext cx="8915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ders use parall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ook 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ects use opening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pira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ere air enters the body and pass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rache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ub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342720" algn="just">
              <a:lnSpc>
                <a:spcPct val="130000"/>
              </a:lnSpc>
              <a:buClr>
                <a:srgbClr val="00b05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5228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errestrial Inverteb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0"/>
          <p:cNvSpPr/>
          <p:nvPr/>
        </p:nvSpPr>
        <p:spPr>
          <a:xfrm>
            <a:off x="228600" y="304920"/>
            <a:ext cx="4800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Respiration in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1"/>
          <p:cNvGrpSpPr/>
          <p:nvPr/>
        </p:nvGrpSpPr>
        <p:grpSpPr>
          <a:xfrm>
            <a:off x="552600" y="1447920"/>
            <a:ext cx="8038800" cy="4208040"/>
            <a:chOff x="552600" y="1447920"/>
            <a:chExt cx="8038800" cy="4208040"/>
          </a:xfrm>
        </p:grpSpPr>
        <p:pic>
          <p:nvPicPr>
            <p:cNvPr id="296" name="Picture 3" descr="bio_ch29_4281"/>
            <p:cNvPicPr/>
            <p:nvPr/>
          </p:nvPicPr>
          <p:blipFill>
            <a:blip r:embed="rId1"/>
            <a:stretch/>
          </p:blipFill>
          <p:spPr>
            <a:xfrm>
              <a:off x="552600" y="1500120"/>
              <a:ext cx="8038800" cy="39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88884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6070680" y="33559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3327480" y="518508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2325600" y="15555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i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2960640" y="1995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ph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494800" y="295920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vement of w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4636080" y="5135760"/>
              <a:ext cx="5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3417120" y="4716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5398560" y="1447920"/>
              <a:ext cx="87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he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ub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7171920" y="29606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ira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40"/>
          <p:cNvSpPr/>
          <p:nvPr/>
        </p:nvSpPr>
        <p:spPr>
          <a:xfrm>
            <a:off x="1171440" y="384120"/>
            <a:ext cx="7010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In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960" y="99036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Gill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for aquatic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ish and amphibi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Lung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for terrestrial chord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ult amphibians, reptiles, birds, and mam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lnSpc>
                <a:spcPct val="15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40"/>
          <p:cNvSpPr/>
          <p:nvPr/>
        </p:nvSpPr>
        <p:spPr>
          <a:xfrm>
            <a:off x="228600" y="304920"/>
            <a:ext cx="7010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respiratory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33530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Gill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5960" y="9907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12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sb4549f1"/>
          <p:cNvPicPr/>
          <p:nvPr/>
        </p:nvPicPr>
        <p:blipFill>
          <a:blip r:embed="rId1"/>
          <a:stretch/>
        </p:blipFill>
        <p:spPr>
          <a:xfrm>
            <a:off x="5943600" y="219240"/>
            <a:ext cx="3048120" cy="39718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"/>
          <p:cNvGrpSpPr/>
          <p:nvPr/>
        </p:nvGrpSpPr>
        <p:grpSpPr>
          <a:xfrm>
            <a:off x="228600" y="3581280"/>
            <a:ext cx="5796000" cy="3124800"/>
            <a:chOff x="228600" y="3581280"/>
            <a:chExt cx="5796000" cy="3124800"/>
          </a:xfrm>
        </p:grpSpPr>
        <p:pic>
          <p:nvPicPr>
            <p:cNvPr id="314" name="Picture 3" descr="bio_ch33_4550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5796000" cy="28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4"/>
            <p:cNvSpPr/>
            <p:nvPr/>
          </p:nvSpPr>
          <p:spPr>
            <a:xfrm>
              <a:off x="630000" y="640116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ama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2289240" y="6429600"/>
              <a:ext cx="71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z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807080" y="6429600"/>
              <a:ext cx="78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ge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3295800" y="642960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m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8"/>
            <p:cNvSpPr/>
            <p:nvPr/>
          </p:nvSpPr>
          <p:spPr>
            <a:xfrm>
              <a:off x="663480" y="3581280"/>
              <a:ext cx="187956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strils, mouth, and throa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che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u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ir s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9"/>
          <p:cNvSpPr/>
          <p:nvPr/>
        </p:nvSpPr>
        <p:spPr>
          <a:xfrm>
            <a:off x="152280" y="30481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ccd"/>
                </a:solidFill>
                <a:latin typeface="Constantia"/>
              </a:rPr>
              <a:t>Vertebrate Lu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Dell</cp:lastModifiedBy>
  <dcterms:modified xsi:type="dcterms:W3CDTF">2015-11-24T20:47:21Z</dcterms:modified>
  <cp:revision>98</cp:revision>
  <dc:subject/>
  <dc:title>Animal Kingdom: Comparative Anatomy</dc:title>
</cp:coreProperties>
</file>