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B8D-CD61-4196-9BDE-ACD86E49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03A-9863-4A49-87EB-9344E567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411-45C6-45D5-A0FE-FA0861F8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0C0-CF2F-4DFC-96D2-CA8B2585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832A-E88E-4064-98BB-91B88E61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FF1C-73E5-47CD-B1A1-BF6FB64F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A451-442E-4C09-9295-F448F59C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05F8-1962-471D-8B9C-EDC46B14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C5D7-E12A-4B45-83C3-DEFBAC71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CF22-C573-400B-8A39-797C86E3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D748-C896-4DBE-9860-D9594BE7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DC4-511F-437B-B4BE-9225E729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E14B-58A2-4EAD-9D56-5DAF187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C239-AFE0-400A-838E-D3DBD2D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1D7A-FD30-4575-BCD4-6686A454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FBCA-43A8-421B-AB43-97489BE8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1258-F149-47A8-A007-70266E66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6202-CB9F-489B-A7AA-7E2AD02B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9385-074A-468E-91A4-ADE0BEFB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06FA-A2FA-4187-BCD4-159031F4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4901-E6EE-4CEA-82A0-3AFE6A6E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EDE4-44BD-4D9E-965B-7F40E48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D70-1F14-42F8-9ED6-F91F2FF0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0308-8738-44C9-96CC-469E5336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E781-CD58-49B0-82F7-CE701425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10EA-9749-4726-8455-F34713C9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72B3-2B5A-4A08-BC71-AC5559C3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1401-8EDC-40B2-B6DE-F0C44221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7B8A-6C24-4986-8FE1-4BD4CECE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3F16-9124-498C-8AEB-C65D95DD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644E-7EC9-47FC-AB94-B67F1E46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8503-4039-4C75-8BF5-1CD29460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3600-170B-4C29-8D69-97C23099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9D4-14FE-40F0-9730-E4E2ED31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D697-C0B7-4E21-A683-1213BC37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5239-EB80-421D-BF3B-6A9D56FB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6C84D-D40D-4933-827C-6F16D393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1BB6A-1F4C-404A-92AD-0BFA4C3A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4462-3987-4156-8663-A868D81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ECF4D-1914-4324-A0E2-824705B6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E6C7-A75F-4EC6-9A77-174445C9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0FB36-CB2E-49D2-9A84-5C667944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A9C3-9356-4347-B381-4E13329B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B92-4DBE-4385-AD38-A74C37BA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9A5-88CB-45BB-A6AE-D058C22A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24C-8444-4537-9EA1-E48A2E1C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AA2-61D3-4B98-ACCE-393280E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558-C7E0-4B6C-B84C-330B74AB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FE36-ADEF-4155-BFB4-87F31D8D001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3506-A862-4378-B254-45711C22AC4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DEE6-5E40-4427-9F6D-0CF9CD089C1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C50D-B487-4134-A6E5-42BAA34BC9B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5440" y="201780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د أشرف مشالي</cp:lastModifiedBy>
  <dcterms:modified xsi:type="dcterms:W3CDTF">2013-09-02T10:25:08Z</dcterms:modified>
  <cp:revision>21</cp:revision>
  <dc:subject/>
  <dc:title>Animal Kingdom: Comparative Anatomy</dc:title>
</cp:coreProperties>
</file>