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B44-170A-4718-A2A9-ACBCF8E1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B0B-516E-44BA-8F8A-CC300D8A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64B-36A8-418B-8789-90D62E8C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D9A-9FD0-4A5E-9C10-0D0A3558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53A8-A8C1-4D57-95D4-04B76D5B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F44B-F93C-4522-AE47-B32A5890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D9AB-9AFA-457F-B148-48A96FBD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6F1B-05CF-44A6-839A-DA394C13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1F91-C2F0-4169-9825-D7CE2D0F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EDE4-1E51-4476-90E7-38B93D00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0C96-49E1-45F1-922F-A93C0A19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5B1-1DE6-46EF-9479-CD149994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66BE-5D6D-414A-9D1B-1E3C5EF9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DE57-86A8-4DC5-9A81-4C1F67BC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560C-82EA-4025-BBEB-D0E29C6C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92F6-0AF8-4B03-98CD-F23AAAE8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5ABE-E08D-4499-B4DC-774C8F84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2BD19-E661-4F78-8D69-16C8BE27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3B221-A42F-4476-B687-96122E1B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B2BB-5CB0-44B4-AB88-7B6D4EE4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6578D-9703-4C8A-B0FD-F9A84031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5AB17-D2D2-44C5-B09E-0383B8E4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887E-A004-47B1-95F9-00632BED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1BE8B-F5BE-4485-8598-6E0AB477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9DB08-ED4E-4934-9111-40066AAB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CB01-8F87-4B95-BC20-F9C9BA29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DE107-6D5D-46BD-A4B8-BC06BD2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E6AC-A611-4345-872C-1CCA3D01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47FB-CE8E-4423-A67D-0E93CE3E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6A73D-5FCD-4A6C-85AA-528F9479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BB188-D740-49D9-AED6-F63686A5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523CF-D854-4EA1-AB89-39155104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833A3-5612-494B-8EDD-02568CCA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09A-37E6-49B5-80A4-4261F45A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613C5-71DD-4A51-969B-BFF985AA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284D5-45C9-4152-84C5-8783B8AA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E876C-955B-40CC-B2E5-3D92BC82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29AE6-9246-4E35-AB07-CBD4B010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E26F8-6C1F-4DFC-AB57-EBE11532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F48AD-741F-412D-AAE2-15FB3A49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6AE5-C825-4699-8D82-D543C083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B87C4-0BE3-4D3A-8D57-2EDF9C86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31BD4-D022-41F2-BE75-E25E2D62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0C0D-00F3-4DE3-860F-C0763176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02E-9F20-419A-BC31-22817B6A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802-A167-456D-8295-FF4D6FEB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02B-ECBB-4D94-B203-6C2C5678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F3A-78C1-4A2D-928D-D0F3A9F7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EDDE-382B-425D-A4D7-ECB3553AF53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B1D9-7493-4C73-A42B-10CFA7E8554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40C3-053A-49ED-9674-FFCFC780463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297C-671E-466A-BE74-B3A5631AE8D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5440" y="2017800"/>
            <a:ext cx="83394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28240" y="5409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.Collin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SH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-AP Biolog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2362320" y="685800"/>
            <a:ext cx="3771720" cy="561960"/>
          </a:xfrm>
          <a:prstGeom prst="rect">
            <a:avLst/>
          </a:prstGeom>
          <a:solidFill>
            <a:srgbClr val="e9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0: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33526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quatic Gi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1920" y="137160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ter flows through the mouth then over the gills where oxygen is remov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bon dioxide and water are then pumped out through the opercul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sb4549f1"/>
          <p:cNvPicPr/>
          <p:nvPr/>
        </p:nvPicPr>
        <p:blipFill>
          <a:blip r:embed="rId1"/>
          <a:stretch/>
        </p:blipFill>
        <p:spPr>
          <a:xfrm>
            <a:off x="5648400" y="0"/>
            <a:ext cx="3495600" cy="45561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838080" y="1903320"/>
            <a:ext cx="142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bio_ch33_4550"/>
          <p:cNvPicPr/>
          <p:nvPr/>
        </p:nvPicPr>
        <p:blipFill>
          <a:blip r:embed="rId2"/>
          <a:stretch/>
        </p:blipFill>
        <p:spPr>
          <a:xfrm>
            <a:off x="579600" y="3733920"/>
            <a:ext cx="5795640" cy="2833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685800" y="658188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438280" y="6581880"/>
            <a:ext cx="71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800600" y="658188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352680" y="65818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015920" y="3733920"/>
            <a:ext cx="18795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strils, mouth, and thro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 s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Open circulatory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80" y="3505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lood is pumped through a system of vessels BUT is only partially contained in these vessels.  Most of the time the blood is pumped through open caviti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arthropods and mollusks because the blood comes into direct contact organs and tissu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0880" y="533412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losed system forces blood through vessels that extend throughout the body of the organism. Since the system is “closed”  the blood never leaves the ves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larger organisms because the blood is kept at a higher pressure which allows for more efficient circulation within the organis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457200" y="4952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Closed circulat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1523880"/>
            <a:ext cx="82296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rtebrate circulatory system can range from a system where cells simply do diffusion to take in oxygen or systems with many hearts and even  systems with one 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57200" y="819000"/>
            <a:ext cx="79246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bio_ch29_4282"/>
          <p:cNvPicPr/>
          <p:nvPr/>
        </p:nvPicPr>
        <p:blipFill>
          <a:blip r:embed="rId1"/>
          <a:stretch/>
        </p:blipFill>
        <p:spPr>
          <a:xfrm>
            <a:off x="444600" y="1809720"/>
            <a:ext cx="8254800" cy="2843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601560" y="5084640"/>
            <a:ext cx="334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818240" y="5084640"/>
            <a:ext cx="37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d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6763680" y="453708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7846200" y="424656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6905520" y="1843200"/>
            <a:ext cx="166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905520" y="2271600"/>
            <a:ext cx="22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vessels in t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957960" y="306720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1095480" y="19000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408840" y="2940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709720" y="388944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us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66294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162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ertebrate circulatory syste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ordate circulatory systems range from a single loop system (found in organisms with gills) to double loop syst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3" descr="bio_ch33_4551"/>
          <p:cNvPicPr/>
          <p:nvPr/>
        </p:nvPicPr>
        <p:blipFill>
          <a:blip r:embed="rId1"/>
          <a:stretch/>
        </p:blipFill>
        <p:spPr>
          <a:xfrm>
            <a:off x="1523880" y="2514600"/>
            <a:ext cx="5975640" cy="38624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4127040" y="220968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529280" y="236232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-Loo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676520" y="6324480"/>
            <a:ext cx="172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657600" y="6477120"/>
            <a:ext cx="172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T REP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410080" y="6324480"/>
            <a:ext cx="2200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CODILIANS, BIRD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AM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693432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 excre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aquatic invertebrates simply diffuse ammonia out their bodies into the surrounding water where it is diluted and carried awa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sponges, cnidarians, and some round wor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aquatic invertebrates swell up with water, dilute the wastes and excrete the wastes through tiny pores in their sk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457200" y="40384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 excr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0880" y="4678200"/>
            <a:ext cx="82296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terrestrial invertebrates convert ammonia into u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rea is a simpler nitrogenous compound that is much less toxic than ammo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urea is eliminated from the body in 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bio_ch29_4283"/>
          <p:cNvPicPr/>
          <p:nvPr/>
        </p:nvPicPr>
        <p:blipFill>
          <a:blip r:embed="rId1"/>
          <a:stretch/>
        </p:blipFill>
        <p:spPr>
          <a:xfrm>
            <a:off x="1881360" y="1515960"/>
            <a:ext cx="5378400" cy="39560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023920" y="492768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27720" y="549756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743880" y="152244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073920" y="5218200"/>
            <a:ext cx="11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pighian 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4464000" y="408780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3740040" y="386064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i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70040" y="2471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6777000" y="3290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777000" y="273672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734000" y="130824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121280" y="1797120"/>
            <a:ext cx="107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4029120" y="2171880"/>
            <a:ext cx="138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hrost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856800"/>
            <a:ext cx="678204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Excretory Systems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Excre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934640"/>
            <a:ext cx="5181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quatic vertebrates kidneys and rely on gill slits to release excretory wastes into surrounding water for dilu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restrial vertebrates rely on the kidney’s to filter out the ammonia and change it into urea and send it to be released in u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5" descr="http://library.thinkquest.org/22016/excretion/kidney2.jpg"/>
          <p:cNvPicPr/>
          <p:nvPr/>
        </p:nvPicPr>
        <p:blipFill>
          <a:blip r:embed="rId1"/>
          <a:stretch/>
        </p:blipFill>
        <p:spPr>
          <a:xfrm>
            <a:off x="5943600" y="1695600"/>
            <a:ext cx="31240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rvous syst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animals respond to their environment through specialized cells called nerve cell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most animals nerve cells hook together to form the nervous syst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ervous systems can range from fairly simple to extremely complex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arrangement of nerve cells from phylum to phylum can be dramatically differ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bio_ch29_4284"/>
          <p:cNvPicPr/>
          <p:nvPr/>
        </p:nvPicPr>
        <p:blipFill>
          <a:blip r:embed="rId1"/>
          <a:srcRect l="0" t="0" r="39547" b="0"/>
          <a:stretch/>
        </p:blipFill>
        <p:spPr>
          <a:xfrm>
            <a:off x="92160" y="1706400"/>
            <a:ext cx="5241960" cy="4008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4"/>
          <p:cNvSpPr/>
          <p:nvPr/>
        </p:nvSpPr>
        <p:spPr>
          <a:xfrm>
            <a:off x="4097520" y="267012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962280" y="288756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213640" y="16146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440880" y="3516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9880" y="1447920"/>
            <a:ext cx="11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478320" y="554364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79520" y="488160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Invertebrate Nervous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1" name="Picture 19" descr="http://researcheshealthcenter.webs.com/250px-TE-Nervous_system_diagram.svg.png"/>
          <p:cNvPicPr/>
          <p:nvPr/>
        </p:nvPicPr>
        <p:blipFill>
          <a:blip r:embed="rId2"/>
          <a:stretch/>
        </p:blipFill>
        <p:spPr>
          <a:xfrm>
            <a:off x="5486400" y="1905120"/>
            <a:ext cx="3540240" cy="41623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3"/>
          <p:cNvSpPr/>
          <p:nvPr/>
        </p:nvSpPr>
        <p:spPr>
          <a:xfrm>
            <a:off x="4952880" y="8380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Vertebrate Nervou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6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572000" y="187020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3633840" y="1297080"/>
            <a:ext cx="187632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2957400" y="2313000"/>
            <a:ext cx="324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057320" y="4805280"/>
            <a:ext cx="704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05732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5047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2287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6765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005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284796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457200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019400" y="5029200"/>
            <a:ext cx="110520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7434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519120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69152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63626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808668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75344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2687040" y="2433600"/>
            <a:ext cx="53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240336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63560" y="2433600"/>
            <a:ext cx="418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019400" y="2908440"/>
            <a:ext cx="110520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295596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457200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618804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777640" y="2433600"/>
            <a:ext cx="820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ry 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295596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457200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618804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563580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2719800" y="3537000"/>
            <a:ext cx="473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2403360" y="401148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5"/>
          <p:cNvSpPr/>
          <p:nvPr/>
        </p:nvSpPr>
        <p:spPr>
          <a:xfrm>
            <a:off x="295596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6"/>
          <p:cNvSpPr/>
          <p:nvPr/>
        </p:nvSpPr>
        <p:spPr>
          <a:xfrm>
            <a:off x="2955960" y="378936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619272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5819760" y="3537000"/>
            <a:ext cx="74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>
            <a:off x="6192720" y="378936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8770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hat do animals do to survive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Oval 41"/>
          <p:cNvSpPr/>
          <p:nvPr/>
        </p:nvSpPr>
        <p:spPr>
          <a:xfrm>
            <a:off x="3630600" y="1293840"/>
            <a:ext cx="1876320" cy="73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2"/>
          <p:cNvGrpSpPr/>
          <p:nvPr/>
        </p:nvGrpSpPr>
        <p:grpSpPr>
          <a:xfrm>
            <a:off x="501480" y="5025960"/>
            <a:ext cx="8134560" cy="517680"/>
            <a:chOff x="501480" y="5025960"/>
            <a:chExt cx="8134560" cy="517680"/>
          </a:xfrm>
        </p:grpSpPr>
        <p:sp>
          <p:nvSpPr>
            <p:cNvPr id="239" name="Oval 43"/>
            <p:cNvSpPr/>
            <p:nvPr/>
          </p:nvSpPr>
          <p:spPr>
            <a:xfrm>
              <a:off x="50148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d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44"/>
            <p:cNvSpPr/>
            <p:nvPr/>
          </p:nvSpPr>
          <p:spPr>
            <a:xfrm>
              <a:off x="167328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ir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45"/>
            <p:cNvSpPr/>
            <p:nvPr/>
          </p:nvSpPr>
          <p:spPr>
            <a:xfrm>
              <a:off x="28447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ircul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6"/>
            <p:cNvSpPr/>
            <p:nvPr/>
          </p:nvSpPr>
          <p:spPr>
            <a:xfrm>
              <a:off x="40165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cre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7"/>
            <p:cNvSpPr/>
            <p:nvPr/>
          </p:nvSpPr>
          <p:spPr>
            <a:xfrm>
              <a:off x="518796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8"/>
            <p:cNvSpPr/>
            <p:nvPr/>
          </p:nvSpPr>
          <p:spPr>
            <a:xfrm>
              <a:off x="635940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v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9"/>
            <p:cNvSpPr/>
            <p:nvPr/>
          </p:nvSpPr>
          <p:spPr>
            <a:xfrm>
              <a:off x="753120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50"/>
          <p:cNvGrpSpPr/>
          <p:nvPr/>
        </p:nvGrpSpPr>
        <p:grpSpPr>
          <a:xfrm>
            <a:off x="2400480" y="2933640"/>
            <a:ext cx="4336920" cy="517680"/>
            <a:chOff x="2400480" y="2933640"/>
            <a:chExt cx="4336920" cy="517680"/>
          </a:xfrm>
        </p:grpSpPr>
        <p:sp>
          <p:nvSpPr>
            <p:cNvPr id="247" name="Oval 51"/>
            <p:cNvSpPr/>
            <p:nvPr/>
          </p:nvSpPr>
          <p:spPr>
            <a:xfrm>
              <a:off x="240048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ukaryotic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52"/>
            <p:cNvSpPr/>
            <p:nvPr/>
          </p:nvSpPr>
          <p:spPr>
            <a:xfrm>
              <a:off x="401652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terotroph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3"/>
            <p:cNvSpPr/>
            <p:nvPr/>
          </p:nvSpPr>
          <p:spPr>
            <a:xfrm>
              <a:off x="563256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ssential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Oval 54"/>
          <p:cNvSpPr/>
          <p:nvPr/>
        </p:nvSpPr>
        <p:spPr>
          <a:xfrm>
            <a:off x="2400480" y="4008600"/>
            <a:ext cx="1104840" cy="517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 cell wal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vertebrate feeding and diges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vertebrates can either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in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x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igestio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acellular meaning that food is digested within each individual cell of th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Spong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means that digestion occurs inside a digestive tract or cavity, then absorbed into the body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mollusks, worms, arthropods, echinoder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bio_ch29_4280"/>
          <p:cNvPicPr/>
          <p:nvPr/>
        </p:nvPicPr>
        <p:blipFill>
          <a:blip r:embed="rId1"/>
          <a:stretch/>
        </p:blipFill>
        <p:spPr>
          <a:xfrm>
            <a:off x="1338120" y="1538280"/>
            <a:ext cx="6467760" cy="41464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6350040" y="415440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60960" y="2978280"/>
            <a:ext cx="9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098880" y="542304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692440" y="392904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605240" y="2509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078200" y="531504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618080" y="516888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7589880" y="27734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316880" y="365616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1639440" y="288144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185840" y="4979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921200" y="43610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7288200" y="2565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6915600" y="23763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5734440" y="4292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6623640" y="21891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6108120" y="19098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6409800" y="551016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6766560" y="52959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7312320" y="46782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577200" y="33814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4960800" y="5329080"/>
            <a:ext cx="134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igestive systems of many vertebrates have organs that are well adapted for different feeding hab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rnivores, such as sharks have short digestive tracts that produce fast-acting digestive enzy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rbivores have long intestines that have large colonies of bacteria that help in digesting the cellulose fibers in plant tissu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bio_ch33_4548"/>
          <p:cNvPicPr/>
          <p:nvPr/>
        </p:nvPicPr>
        <p:blipFill>
          <a:blip r:embed="rId1"/>
          <a:stretch/>
        </p:blipFill>
        <p:spPr>
          <a:xfrm>
            <a:off x="414360" y="1955880"/>
            <a:ext cx="8315280" cy="37148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702720" y="1954080"/>
            <a:ext cx="10922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a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000880" y="1751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3074400" y="1751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771800" y="17510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115680" y="17510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7670520" y="1751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04480" y="990720"/>
            <a:ext cx="8039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The Digestive Systems of Vertebrates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26967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quatic animals have natural moist respiratory surfaces, and some respire through diffusion through their skin and others use gi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28600" y="4373640"/>
            <a:ext cx="82296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e are many different respiratory specialized organs in terrestrial invertebrat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use parallel book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use openings called spiracles where air enters the body and passes through a network of tracheal tubes for gas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nails have a mantel cavity that is lined with moist tissue and an extensive surface area of blood vess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0492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04920" y="83808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4e6d"/>
                </a:solidFill>
                <a:latin typeface="Calibri"/>
              </a:rPr>
              <a:t>Respiration in anim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bio_ch29_4281"/>
          <p:cNvPicPr/>
          <p:nvPr/>
        </p:nvPicPr>
        <p:blipFill>
          <a:blip r:embed="rId1"/>
          <a:stretch/>
        </p:blipFill>
        <p:spPr>
          <a:xfrm>
            <a:off x="552600" y="1725480"/>
            <a:ext cx="8038800" cy="39402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601560" y="3484440"/>
            <a:ext cx="139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5334120" y="336060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219480" y="53830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325600" y="178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960640" y="2220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2494800" y="318456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636080" y="5361120"/>
            <a:ext cx="5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417120" y="49417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398560" y="16732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he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b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171920" y="3186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ra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33120"/>
            <a:ext cx="67057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Respir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respiratory syste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rdates have one of two basic structures for respira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lls – for aquatic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: tunicates, fish and amphibi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ungs - for terrestrial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s: adult amphibians, reptiles, birds, and mamma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9:09:12Z</dcterms:created>
  <dc:creator>AISD</dc:creator>
  <dc:description/>
  <dc:language>en-US</dc:language>
  <cp:lastModifiedBy>د أشرف مشالي</cp:lastModifiedBy>
  <dcterms:modified xsi:type="dcterms:W3CDTF">2013-09-02T10:25:08Z</dcterms:modified>
  <cp:revision>21</cp:revision>
  <dc:subject/>
  <dc:title>Animal Kingdom: Comparative Anatomy</dc:title>
</cp:coreProperties>
</file>