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1F6-D631-4FB5-9B4B-B6F1C219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192-D4DF-4035-9DED-B0043658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0F53-F240-4CDE-98C1-78600514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039-1BD0-47AE-BD33-3ED388E3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0596-5993-4AFB-8F67-805EBDA7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C08C-8569-4E6D-8813-15949D98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4122-4EC4-4D4D-81C9-4F95471B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B0FE-A449-4D5D-B995-CC441DB4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0E52-22EB-4232-9AC4-28B3E493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5A0F-BA61-4AA5-B176-311FE251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B64B-E74C-4FA4-9A8D-EFA4AA70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A36-CCB0-4558-8E47-1D3E8EAF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9C5E-0DE8-406F-8F02-A4CDBB7F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2AD0-D369-472C-9606-54406A3C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A5DF-7D1E-4708-8E14-40CB23FD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27BA-29F9-4081-9CDE-CB822F1A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2BF7-2DAD-44C7-BBBE-466DBFE5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F3A3-0CF4-496E-983E-EAAB4AAA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3E85A-FF69-4C28-B7B2-B312BBAF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EBC4-7786-4C6C-BEA9-3E7BBACD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0C3EA-A2C0-4EB5-A7E8-419180FF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B154-552D-474D-9281-BA94636A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0E3-E552-493E-9DA3-C949F75E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E703D-6D27-4779-946A-2E2F8AD9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443F8-A40A-4A36-8169-A3DC8832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9E54A-04AD-4139-A127-02EEA5F9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BF80-667F-4D45-845B-3AD8AB9D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7059D-4346-4B5D-A74D-74C9FBE3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22665-2176-4A6F-863D-6F7B6848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5EAC-0515-4C22-A3B9-14A4938E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FDF75-CC2F-4438-966D-1F1340D3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7FDA9-827A-4C61-9BD0-A625219E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80C6D-14E8-4385-9CC4-1887435A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DB28-C5B8-485D-BF8F-9ACF7A64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32E00-5605-4928-9966-FA91D791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EC604-17E3-49F0-9EF4-D7BC4835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A90B5-044A-422B-B6AE-C66D9366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A6B6F-DDEF-4080-9C36-7CCD380B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86A8-C391-4228-AEBA-7B18CCAC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64F61-EA23-4E04-888E-75C04182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5D8F3-E391-4439-820F-175B4DE8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EAA7D-D5E2-46FE-B69D-CB077560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E7FEB-57C4-4A72-B6C2-A484A50D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08C-DD86-497E-988C-41C71419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D94-0788-4841-AFE6-BA3D0642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026-DCEB-4273-A17F-7A649F27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6F2-A705-4BDC-9611-D234D1C7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03D-26EF-42CC-A325-5789EAF8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0296-1ACF-4C69-8D38-3F5F2906481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C0B3-7FFA-45DB-9370-99F3600EF6F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FFE1-F4DF-4157-B2A0-5ECDD32F443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14D9-0F3E-4149-89C0-B2FB8DC18A0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5440" y="2017800"/>
            <a:ext cx="83394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28240" y="5409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.Collin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SH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-AP Biolog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2362320" y="685800"/>
            <a:ext cx="3771720" cy="561960"/>
          </a:xfrm>
          <a:prstGeom prst="rect">
            <a:avLst/>
          </a:prstGeom>
          <a:solidFill>
            <a:srgbClr val="e9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0: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33526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quatic Gi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1920" y="137160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ter flows through the mouth then over the gills where oxygen is remov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bon dioxide and water are then pumped out through the opercul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sb4549f1"/>
          <p:cNvPicPr/>
          <p:nvPr/>
        </p:nvPicPr>
        <p:blipFill>
          <a:blip r:embed="rId1"/>
          <a:stretch/>
        </p:blipFill>
        <p:spPr>
          <a:xfrm>
            <a:off x="5648400" y="0"/>
            <a:ext cx="3495600" cy="45561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838080" y="1903320"/>
            <a:ext cx="142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bio_ch33_4550"/>
          <p:cNvPicPr/>
          <p:nvPr/>
        </p:nvPicPr>
        <p:blipFill>
          <a:blip r:embed="rId2"/>
          <a:stretch/>
        </p:blipFill>
        <p:spPr>
          <a:xfrm>
            <a:off x="579600" y="3733920"/>
            <a:ext cx="5795640" cy="2833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685800" y="658188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438280" y="6581880"/>
            <a:ext cx="71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800600" y="658188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352680" y="65818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015920" y="3733920"/>
            <a:ext cx="18795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strils, mouth, and thro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 s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Open circulatory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80" y="3505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lood is pumped through a system of vessels BUT is only partially contained in these vessels.  Most of the time the blood is pumped through open caviti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arthropods and mollusks because the blood comes into direct contact organs and tissu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0880" y="533412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losed system forces blood through vessels that extend throughout the body of the organism. Since the system is “closed”  the blood never leaves the ves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larger organisms because the blood is kept at a higher pressure which allows for more efficient circulation within the organis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457200" y="4952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Closed circulat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1523880"/>
            <a:ext cx="82296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rtebrate circulatory system can range from a system where cells simply do diffusion to take in oxygen or systems with many hearts and even  systems with one 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57200" y="819000"/>
            <a:ext cx="79246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bio_ch29_4282"/>
          <p:cNvPicPr/>
          <p:nvPr/>
        </p:nvPicPr>
        <p:blipFill>
          <a:blip r:embed="rId1"/>
          <a:stretch/>
        </p:blipFill>
        <p:spPr>
          <a:xfrm>
            <a:off x="444600" y="1809720"/>
            <a:ext cx="8254800" cy="2843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601560" y="5084640"/>
            <a:ext cx="334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818240" y="5084640"/>
            <a:ext cx="37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d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6763680" y="453708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7846200" y="424656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6905520" y="1843200"/>
            <a:ext cx="166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905520" y="2271600"/>
            <a:ext cx="22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vessels in t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957960" y="306720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1095480" y="19000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408840" y="2940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709720" y="388944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us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66294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162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ertebrate circulatory syste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ordate circulatory systems range from a single loop system (found in organisms with gills) to double loop syst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3" descr="bio_ch33_4551"/>
          <p:cNvPicPr/>
          <p:nvPr/>
        </p:nvPicPr>
        <p:blipFill>
          <a:blip r:embed="rId1"/>
          <a:stretch/>
        </p:blipFill>
        <p:spPr>
          <a:xfrm>
            <a:off x="1523880" y="2514600"/>
            <a:ext cx="5975640" cy="38624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4127040" y="220968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529280" y="236232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-Loo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676520" y="6324480"/>
            <a:ext cx="172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657600" y="6477120"/>
            <a:ext cx="172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T REP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410080" y="6324480"/>
            <a:ext cx="2200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CODILIANS, BIRD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AM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693432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 excre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aquatic invertebrates simply diffuse ammonia out their bodies into the surrounding water where it is diluted and carried awa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sponges, cnidarians, and some round wor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aquatic invertebrates swell up with water, dilute the wastes and excrete the wastes through tiny pores in their sk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457200" y="40384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 excr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0880" y="4678200"/>
            <a:ext cx="82296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terrestrial invertebrates convert ammonia into u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rea is a simpler nitrogenous compound that is much less toxic than ammo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urea is eliminated from the body in 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bio_ch29_4283"/>
          <p:cNvPicPr/>
          <p:nvPr/>
        </p:nvPicPr>
        <p:blipFill>
          <a:blip r:embed="rId1"/>
          <a:stretch/>
        </p:blipFill>
        <p:spPr>
          <a:xfrm>
            <a:off x="1881360" y="1515960"/>
            <a:ext cx="5378400" cy="39560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023920" y="492768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27720" y="549756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743880" y="152244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073920" y="5218200"/>
            <a:ext cx="11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pighian 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4464000" y="408780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3740040" y="386064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i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70040" y="2471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6777000" y="3290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777000" y="273672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734000" y="130824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121280" y="1797120"/>
            <a:ext cx="107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4029120" y="2171880"/>
            <a:ext cx="138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hrost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856800"/>
            <a:ext cx="678204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Excretory Systems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Excre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934640"/>
            <a:ext cx="5181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quatic vertebrates kidneys and rely on gill slits to release excretory wastes into surrounding water for dilu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restrial vertebrates rely on the kidney’s to filter out the ammonia and change it into urea and send it to be released in u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5" descr="http://library.thinkquest.org/22016/excretion/kidney2.jpg"/>
          <p:cNvPicPr/>
          <p:nvPr/>
        </p:nvPicPr>
        <p:blipFill>
          <a:blip r:embed="rId1"/>
          <a:stretch/>
        </p:blipFill>
        <p:spPr>
          <a:xfrm>
            <a:off x="5943600" y="1695600"/>
            <a:ext cx="31240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rvous syst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animals respond to their environment through specialized cells called nerve cell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most animals nerve cells hook together to form the nervous syst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ervous systems can range from fairly simple to extremely complex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arrangement of nerve cells from phylum to phylum can be dramatically differ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bio_ch29_4284"/>
          <p:cNvPicPr/>
          <p:nvPr/>
        </p:nvPicPr>
        <p:blipFill>
          <a:blip r:embed="rId1"/>
          <a:srcRect l="0" t="0" r="39547" b="0"/>
          <a:stretch/>
        </p:blipFill>
        <p:spPr>
          <a:xfrm>
            <a:off x="92160" y="1706400"/>
            <a:ext cx="5241960" cy="4008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4"/>
          <p:cNvSpPr/>
          <p:nvPr/>
        </p:nvSpPr>
        <p:spPr>
          <a:xfrm>
            <a:off x="4097520" y="267012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962280" y="288756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213640" y="16146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440880" y="3516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9880" y="1447920"/>
            <a:ext cx="11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478320" y="554364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79520" y="488160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Invertebrate Nervous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1" name="Picture 19" descr="http://researcheshealthcenter.webs.com/250px-TE-Nervous_system_diagram.svg.png"/>
          <p:cNvPicPr/>
          <p:nvPr/>
        </p:nvPicPr>
        <p:blipFill>
          <a:blip r:embed="rId2"/>
          <a:stretch/>
        </p:blipFill>
        <p:spPr>
          <a:xfrm>
            <a:off x="5486400" y="1905120"/>
            <a:ext cx="3540240" cy="41623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3"/>
          <p:cNvSpPr/>
          <p:nvPr/>
        </p:nvSpPr>
        <p:spPr>
          <a:xfrm>
            <a:off x="4952880" y="8380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Vertebrate Nervou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6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572000" y="187020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3633840" y="1297080"/>
            <a:ext cx="187632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2957400" y="2313000"/>
            <a:ext cx="324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057320" y="4805280"/>
            <a:ext cx="704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05732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5047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2287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6765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005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284796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457200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019400" y="5029200"/>
            <a:ext cx="110520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7434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519120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69152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63626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808668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75344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2687040" y="2433600"/>
            <a:ext cx="53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240336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63560" y="2433600"/>
            <a:ext cx="418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019400" y="2908440"/>
            <a:ext cx="110520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295596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457200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618804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777640" y="2433600"/>
            <a:ext cx="820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ry 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295596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457200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618804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563580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2719800" y="3537000"/>
            <a:ext cx="473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2403360" y="401148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5"/>
          <p:cNvSpPr/>
          <p:nvPr/>
        </p:nvSpPr>
        <p:spPr>
          <a:xfrm>
            <a:off x="295596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6"/>
          <p:cNvSpPr/>
          <p:nvPr/>
        </p:nvSpPr>
        <p:spPr>
          <a:xfrm>
            <a:off x="2955960" y="378936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619272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5819760" y="3537000"/>
            <a:ext cx="74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>
            <a:off x="6192720" y="378936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8770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hat do animals do to survive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Oval 41"/>
          <p:cNvSpPr/>
          <p:nvPr/>
        </p:nvSpPr>
        <p:spPr>
          <a:xfrm>
            <a:off x="3630600" y="1293840"/>
            <a:ext cx="1876320" cy="73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2"/>
          <p:cNvGrpSpPr/>
          <p:nvPr/>
        </p:nvGrpSpPr>
        <p:grpSpPr>
          <a:xfrm>
            <a:off x="501480" y="5025960"/>
            <a:ext cx="8134560" cy="517680"/>
            <a:chOff x="501480" y="5025960"/>
            <a:chExt cx="8134560" cy="517680"/>
          </a:xfrm>
        </p:grpSpPr>
        <p:sp>
          <p:nvSpPr>
            <p:cNvPr id="239" name="Oval 43"/>
            <p:cNvSpPr/>
            <p:nvPr/>
          </p:nvSpPr>
          <p:spPr>
            <a:xfrm>
              <a:off x="50148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d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44"/>
            <p:cNvSpPr/>
            <p:nvPr/>
          </p:nvSpPr>
          <p:spPr>
            <a:xfrm>
              <a:off x="167328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ir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45"/>
            <p:cNvSpPr/>
            <p:nvPr/>
          </p:nvSpPr>
          <p:spPr>
            <a:xfrm>
              <a:off x="28447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ircul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6"/>
            <p:cNvSpPr/>
            <p:nvPr/>
          </p:nvSpPr>
          <p:spPr>
            <a:xfrm>
              <a:off x="40165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cre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7"/>
            <p:cNvSpPr/>
            <p:nvPr/>
          </p:nvSpPr>
          <p:spPr>
            <a:xfrm>
              <a:off x="518796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8"/>
            <p:cNvSpPr/>
            <p:nvPr/>
          </p:nvSpPr>
          <p:spPr>
            <a:xfrm>
              <a:off x="635940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v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9"/>
            <p:cNvSpPr/>
            <p:nvPr/>
          </p:nvSpPr>
          <p:spPr>
            <a:xfrm>
              <a:off x="753120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50"/>
          <p:cNvGrpSpPr/>
          <p:nvPr/>
        </p:nvGrpSpPr>
        <p:grpSpPr>
          <a:xfrm>
            <a:off x="2400480" y="2933640"/>
            <a:ext cx="4336920" cy="517680"/>
            <a:chOff x="2400480" y="2933640"/>
            <a:chExt cx="4336920" cy="517680"/>
          </a:xfrm>
        </p:grpSpPr>
        <p:sp>
          <p:nvSpPr>
            <p:cNvPr id="247" name="Oval 51"/>
            <p:cNvSpPr/>
            <p:nvPr/>
          </p:nvSpPr>
          <p:spPr>
            <a:xfrm>
              <a:off x="240048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ukaryotic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52"/>
            <p:cNvSpPr/>
            <p:nvPr/>
          </p:nvSpPr>
          <p:spPr>
            <a:xfrm>
              <a:off x="401652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terotroph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3"/>
            <p:cNvSpPr/>
            <p:nvPr/>
          </p:nvSpPr>
          <p:spPr>
            <a:xfrm>
              <a:off x="563256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ssential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Oval 54"/>
          <p:cNvSpPr/>
          <p:nvPr/>
        </p:nvSpPr>
        <p:spPr>
          <a:xfrm>
            <a:off x="2400480" y="4008600"/>
            <a:ext cx="1104840" cy="517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 cell wal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vertebrate feeding and diges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vertebrates can either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in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x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igestio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acellular meaning that food is digested within each individual cell of th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Spong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means that digestion occurs inside a digestive tract or cavity, then absorbed into the body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mollusks, worms, arthropods, echinoder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bio_ch29_4280"/>
          <p:cNvPicPr/>
          <p:nvPr/>
        </p:nvPicPr>
        <p:blipFill>
          <a:blip r:embed="rId1"/>
          <a:stretch/>
        </p:blipFill>
        <p:spPr>
          <a:xfrm>
            <a:off x="1338120" y="1538280"/>
            <a:ext cx="6467760" cy="41464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6350040" y="415440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60960" y="2978280"/>
            <a:ext cx="9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098880" y="542304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692440" y="392904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605240" y="2509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078200" y="531504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618080" y="516888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7589880" y="27734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316880" y="365616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1639440" y="288144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185840" y="4979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921200" y="43610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7288200" y="2565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6915600" y="23763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5734440" y="4292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6623640" y="21891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6108120" y="19098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6409800" y="551016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6766560" y="52959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7312320" y="46782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577200" y="33814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4960800" y="5329080"/>
            <a:ext cx="134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igestive systems of many vertebrates have organs that are well adapted for different feeding hab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rnivores, such as sharks have short digestive tracts that produce fast-acting digestive enzy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rbivores have long intestines that have large colonies of bacteria that help in digesting the cellulose fibers in plant tissu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bio_ch33_4548"/>
          <p:cNvPicPr/>
          <p:nvPr/>
        </p:nvPicPr>
        <p:blipFill>
          <a:blip r:embed="rId1"/>
          <a:stretch/>
        </p:blipFill>
        <p:spPr>
          <a:xfrm>
            <a:off x="414360" y="1955880"/>
            <a:ext cx="8315280" cy="37148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702720" y="1954080"/>
            <a:ext cx="10922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a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000880" y="1751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3074400" y="1751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771800" y="17510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115680" y="17510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7670520" y="1751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04480" y="990720"/>
            <a:ext cx="8039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The Digestive Systems of Vertebrates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26967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quatic animals have natural moist respiratory surfaces, and some respire through diffusion through their skin and others use gi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28600" y="4373640"/>
            <a:ext cx="82296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e are many different respiratory specialized organs in terrestrial invertebrat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use parallel book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use openings called spiracles where air enters the body and passes through a network of tracheal tubes for gas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nails have a mantel cavity that is lined with moist tissue and an extensive surface area of blood vess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0492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04920" y="83808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4e6d"/>
                </a:solidFill>
                <a:latin typeface="Calibri"/>
              </a:rPr>
              <a:t>Respiration in anim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bio_ch29_4281"/>
          <p:cNvPicPr/>
          <p:nvPr/>
        </p:nvPicPr>
        <p:blipFill>
          <a:blip r:embed="rId1"/>
          <a:stretch/>
        </p:blipFill>
        <p:spPr>
          <a:xfrm>
            <a:off x="552600" y="1725480"/>
            <a:ext cx="8038800" cy="39402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601560" y="3484440"/>
            <a:ext cx="139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5334120" y="336060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219480" y="53830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325600" y="178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960640" y="2220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2494800" y="318456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636080" y="5361120"/>
            <a:ext cx="5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417120" y="49417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398560" y="16732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he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b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171920" y="3186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ra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33120"/>
            <a:ext cx="67057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Respir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respiratory syste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rdates have one of two basic structures for respira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lls – for aquatic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: tunicates, fish and amphibi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ungs - for terrestrial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s: adult amphibians, reptiles, birds, and mamma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9:09:12Z</dcterms:created>
  <dc:creator>AISD</dc:creator>
  <dc:description/>
  <dc:language>en-US</dc:language>
  <cp:lastModifiedBy>User</cp:lastModifiedBy>
  <dcterms:modified xsi:type="dcterms:W3CDTF">2014-08-27T10:28:46Z</dcterms:modified>
  <cp:revision>21</cp:revision>
  <dc:subject/>
  <dc:title>Animal Kingdom: Comparative Anatomy</dc:title>
</cp:coreProperties>
</file>