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413-D5FD-46CF-BB33-60E2EC6F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9CA-372E-4C5D-ABBA-D6B0A8C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2BB-169A-4FE3-A490-4942B80E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FFE-069A-4AC3-8745-83E8C12E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C83-7B0D-4B24-A61D-8C11F88B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0DE8-B573-4AD1-B5B5-0FEA2730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596-8846-4101-A31F-E5588E8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2F8-1B67-4E25-BA6B-DE6CA4A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7B48-2427-4963-9188-F25AA2E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8D54-B6C6-484E-9CB0-C3E3E1E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EC03-EE99-4F62-A7FC-E8FFB3D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275-5578-483E-8FC7-2F1D353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7DD6-5C2D-44BE-8E74-4B9A3D0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9DAC-5698-4C40-949A-DCC92BE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391-F451-4050-AAF3-DB793685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8317-6429-41FF-BDB4-9E94223E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8D0-1FAA-4901-96BC-9297D363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48E6-3FCA-41BB-AA41-75CD5972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9BDC-CB6B-4786-B407-5E0C4145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AADB-2881-4AE1-AD4A-1628C5F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7437-DDE3-4DBC-A693-D676BE6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B28D-40F3-4574-BB97-6556457F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387-4F18-4506-8C4D-EF40B9D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80D1-D742-41E8-87B9-3897F7D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A78F-8EED-489C-B675-4B9F35D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E849-8930-4E93-B99A-A7708B5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8E46-48D4-41B2-AE0C-57EEE8F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6353-8216-4174-93FC-9F384C5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4D4C-A242-47EF-BA9F-D7C169A8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CB54-168E-411D-9063-596373D0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56D7E-E41B-41BC-9CC2-5F3B26CE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D838-1737-4E16-A2A4-C44A88D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CF84-10FE-4762-9F61-2F7EA3FA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674-33CD-4446-82C9-2D4C077B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F5F5-C64F-425A-931D-829313D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1870-EBAC-420E-9535-86701E55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8F5A-E0CD-4B41-BD37-41D13A5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6F9B-C572-4568-A8B0-95FFF25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3DAA-EBFF-4A1E-A8E7-93FD0FD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22CE-8FC3-4418-A708-55CC7647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8075-092F-4C28-A7D7-1ED7EE8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A12D-3B5E-4315-BAD8-A95A744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6F94-60A8-4992-9503-0BDC09C2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902-DB12-4BC0-AA63-2154410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5F2-4325-42AE-854D-ABCC2DD6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081-CD54-4619-8BCE-4D55822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6A5-8BA7-4D2E-B76A-0502AC55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2E6-A979-49AA-8C5B-F3FCD4C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10A-4FA0-4911-AE8E-59DE5A6E3B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97D-8013-4FC0-A7EC-2D15FA77745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7470-3E5A-4C78-80F1-BBCAC945F9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13A-0A66-4BF2-AF45-3B8A5E13F0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User</cp:lastModifiedBy>
  <dcterms:modified xsi:type="dcterms:W3CDTF">2014-08-27T10:28:46Z</dcterms:modified>
  <cp:revision>21</cp:revision>
  <dc:subject/>
  <dc:title>Animal Kingdom: Comparative Anatomy</dc:title>
</cp:coreProperties>
</file>