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A088-F348-4EC0-8305-0CC34D21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B6E-3070-4F49-8046-192AB380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709F-4BC7-4F1B-84F6-328E430B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5382-CE23-4E6D-BE11-3FE4336A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5329-651A-498B-8055-4AEDA06E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E53F-7514-484F-86EA-1C562B2C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16F5-DDF9-441D-A865-74D450F0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6A2C-EC0B-4D40-8912-276CECD0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4305-CC93-4983-9254-DC985248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618E-8FFE-474C-B064-2D85A181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29F5-B554-4591-ADC8-4EC4A85A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BB2-51E1-4260-A87E-F7947D1B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C66C-FD9E-40AF-A846-61B0368E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9782-A3C9-415A-A515-577DCDB1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B458-0721-4136-8828-4BB40981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6337-DFE8-4B86-9031-141C508E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05BC-B7BB-4F50-AAA6-CF98A0FD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EFB6C-EEA4-4220-85A4-6AB6106D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A8516-491A-44EC-AF4F-74C10E18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5E6AF-CC0D-4827-A4A6-931DB802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80CF1-26A6-45EA-8FCC-C314C188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FF436-284C-4002-8C20-81A96AE9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4E0B-65AD-48EE-8576-CAEF4DA2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8E8A8-6A9B-421A-B81D-AD267381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765F2-2265-4B63-BA6F-067777C2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0147A-EEF5-41F4-8DFA-ACADCFC0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3604A-7252-46AD-97E0-076DA4AA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A6DAF-BA4A-40EA-AF65-2B4F1965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FAFD2-CD03-4559-8EDF-D0812A60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17404-58CB-48D9-87A4-790F972C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E88D8-159D-46C9-975F-A69ABC1C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4009C-BF86-4B4E-92EF-7DEED546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476E7-9825-4585-91D2-460E763E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437-35FE-45BF-8362-D92C02A4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A16B5-1F7F-44CC-BE0A-2D0CA743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E40BA-C9DA-43C6-AF1B-E2B78D5B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002C4-8578-4231-9023-CD9BBF75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AA72B-A9D0-4D62-A8E6-4E85B509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64B9E-5B9A-48B7-8155-7F2640CF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4FE72-E773-4500-9D36-289B2E12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C473A-793D-44DB-8619-D6E283EC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4F704-1506-4694-8C2E-66E1E7D7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B5302-2F87-4421-9D4E-70447698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E80-7DA5-47BC-914B-8B6A280F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B1C-8BC4-4B00-82B3-5CAE50B5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F5D-0887-42CC-B4CD-80ECAE71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96A-1FF0-4E7E-A356-0D309693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B794-A826-41C7-81E9-FDF65E9F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CECF-7DFD-4E0F-B691-EBF084CD628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5342-275C-4C73-A257-941169A9C8F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F40B-2B05-4B57-955C-0E17A1EBBB8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873D-4E07-43C6-B38C-12773C543EA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5440" y="2017800"/>
            <a:ext cx="83394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28240" y="5409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.Collin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JSH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-AP Biolog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2362320" y="685800"/>
            <a:ext cx="3771720" cy="561960"/>
          </a:xfrm>
          <a:prstGeom prst="rect">
            <a:avLst/>
          </a:prstGeom>
          <a:solidFill>
            <a:srgbClr val="e9f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0: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335268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quatic Gill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1920" y="1371600"/>
            <a:ext cx="5257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ater flows through the mouth then over the gills where oxygen is remov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bon dioxide and water are then pumped out through the opercul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5" descr="sb4549f1"/>
          <p:cNvPicPr/>
          <p:nvPr/>
        </p:nvPicPr>
        <p:blipFill>
          <a:blip r:embed="rId1"/>
          <a:stretch/>
        </p:blipFill>
        <p:spPr>
          <a:xfrm>
            <a:off x="5648400" y="0"/>
            <a:ext cx="3495600" cy="45561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"/>
          <p:cNvSpPr/>
          <p:nvPr/>
        </p:nvSpPr>
        <p:spPr>
          <a:xfrm>
            <a:off x="838080" y="1903320"/>
            <a:ext cx="142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bio_ch33_4550"/>
          <p:cNvPicPr/>
          <p:nvPr/>
        </p:nvPicPr>
        <p:blipFill>
          <a:blip r:embed="rId2"/>
          <a:stretch/>
        </p:blipFill>
        <p:spPr>
          <a:xfrm>
            <a:off x="579600" y="3733920"/>
            <a:ext cx="5795640" cy="28335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4"/>
          <p:cNvSpPr/>
          <p:nvPr/>
        </p:nvSpPr>
        <p:spPr>
          <a:xfrm>
            <a:off x="685800" y="658188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438280" y="6581880"/>
            <a:ext cx="71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800600" y="658188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3352680" y="65818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1015920" y="3733920"/>
            <a:ext cx="18795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strils, mouth, and thro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r sa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380880" y="3124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Lu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Open circulatory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0880" y="3505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lood is pumped through a system of vessels BUT is only partially contained in these vessels.  Most of the time the blood is pumped through open caviti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arthropods and mollusks because the blood comes into direct contact organs and tissu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380880" y="533412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losed system forces blood through vessels that extend throughout the body of the organism. Since the system is “closed”  the blood never leaves the vess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larger organisms because the blood is kept at a higher pressure which allows for more efficient circulation within the organis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457200" y="4952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Closed circulator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457200" y="1523880"/>
            <a:ext cx="82296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ertebrate circulatory system can range from a system where cells simply do diffusion to take in oxygen or systems with many hearts and even  systems with one he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457200" y="819000"/>
            <a:ext cx="79246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bio_ch29_4282"/>
          <p:cNvPicPr/>
          <p:nvPr/>
        </p:nvPicPr>
        <p:blipFill>
          <a:blip r:embed="rId1"/>
          <a:stretch/>
        </p:blipFill>
        <p:spPr>
          <a:xfrm>
            <a:off x="444600" y="1809720"/>
            <a:ext cx="8254800" cy="28432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601560" y="5084640"/>
            <a:ext cx="334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818240" y="5084640"/>
            <a:ext cx="372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sed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6763680" y="4537080"/>
            <a:ext cx="9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7846200" y="424656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6905520" y="1843200"/>
            <a:ext cx="166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6905520" y="2271600"/>
            <a:ext cx="22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vessels in t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957960" y="306720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1095480" y="19000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3408840" y="29401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2709720" y="388944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us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66294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162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ertebrate circulatory syste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ordate circulatory systems range from a single loop system (found in organisms with gills) to double loop syste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Picture 3" descr="bio_ch33_4551"/>
          <p:cNvPicPr/>
          <p:nvPr/>
        </p:nvPicPr>
        <p:blipFill>
          <a:blip r:embed="rId1"/>
          <a:stretch/>
        </p:blipFill>
        <p:spPr>
          <a:xfrm>
            <a:off x="1523880" y="2514600"/>
            <a:ext cx="5975640" cy="38624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4"/>
          <p:cNvSpPr/>
          <p:nvPr/>
        </p:nvSpPr>
        <p:spPr>
          <a:xfrm>
            <a:off x="4127040" y="2209680"/>
            <a:ext cx="25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uble-Loop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529280" y="2362320"/>
            <a:ext cx="157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gle-Loo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1676520" y="6324480"/>
            <a:ext cx="172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S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3657600" y="6477120"/>
            <a:ext cx="172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T REPT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410080" y="6324480"/>
            <a:ext cx="2200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OCODILIANS, BIRD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MAMM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693432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 excre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088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aquatic invertebrates simply diffuse ammonia out their bodies into the surrounding water where it is diluted and carried awa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: sponges, cnidarians, and some round wor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ther aquatic invertebrates swell up with water, dilute the wastes and excrete the wastes through tiny pores in their sk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457200" y="40384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 excre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80880" y="4678200"/>
            <a:ext cx="82296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y terrestrial invertebrates convert ammonia into u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rea is a simpler nitrogenous compound that is much less toxic than ammo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urea is eliminated from the body in u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bio_ch29_4283"/>
          <p:cNvPicPr/>
          <p:nvPr/>
        </p:nvPicPr>
        <p:blipFill>
          <a:blip r:embed="rId1"/>
          <a:stretch/>
        </p:blipFill>
        <p:spPr>
          <a:xfrm>
            <a:off x="1881360" y="1515960"/>
            <a:ext cx="5378400" cy="395604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4"/>
          <p:cNvSpPr/>
          <p:nvPr/>
        </p:nvSpPr>
        <p:spPr>
          <a:xfrm>
            <a:off x="2023920" y="492768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27720" y="549756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743880" y="152244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6073920" y="5218200"/>
            <a:ext cx="115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pighian 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4464000" y="408780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3740040" y="386064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i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70040" y="2471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6777000" y="3290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tub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6777000" y="273672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734000" y="130824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4121280" y="1797120"/>
            <a:ext cx="107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4029120" y="2171880"/>
            <a:ext cx="138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hrost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856800"/>
            <a:ext cx="678204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Excretory Systems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Excre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934640"/>
            <a:ext cx="5181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quatic vertebrates kidneys and rely on gill slits to release excretory wastes into surrounding water for dilu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restrial vertebrates rely on the kidney’s to filter out the ammonia and change it into urea and send it to be released in u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8" name="Picture 5" descr="http://library.thinkquest.org/22016/excretion/kidney2.jpg"/>
          <p:cNvPicPr/>
          <p:nvPr/>
        </p:nvPicPr>
        <p:blipFill>
          <a:blip r:embed="rId1"/>
          <a:stretch/>
        </p:blipFill>
        <p:spPr>
          <a:xfrm>
            <a:off x="5943600" y="1695600"/>
            <a:ext cx="31240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rvous syst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ll animals respond to their environment through specialized cells called nerve cell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most animals nerve cells hook together to form the nervous syste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ervous systems can range from fairly simple to extremely complex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arrangement of nerve cells from phylum to phylum can be dramatically differ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bio_ch29_4284"/>
          <p:cNvPicPr/>
          <p:nvPr/>
        </p:nvPicPr>
        <p:blipFill>
          <a:blip r:embed="rId1"/>
          <a:srcRect l="0" t="0" r="39547" b="0"/>
          <a:stretch/>
        </p:blipFill>
        <p:spPr>
          <a:xfrm>
            <a:off x="92160" y="1706400"/>
            <a:ext cx="5241960" cy="40086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4"/>
          <p:cNvSpPr/>
          <p:nvPr/>
        </p:nvSpPr>
        <p:spPr>
          <a:xfrm>
            <a:off x="4097520" y="267012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962280" y="288756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2213640" y="16146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3440880" y="35164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9880" y="1447920"/>
            <a:ext cx="11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478320" y="554364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79520" y="488160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4572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Invertebrate Nervous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1" name="Picture 19" descr="http://researcheshealthcenter.webs.com/250px-TE-Nervous_system_diagram.svg.png"/>
          <p:cNvPicPr/>
          <p:nvPr/>
        </p:nvPicPr>
        <p:blipFill>
          <a:blip r:embed="rId2"/>
          <a:stretch/>
        </p:blipFill>
        <p:spPr>
          <a:xfrm>
            <a:off x="5486400" y="1905120"/>
            <a:ext cx="3540240" cy="41623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3"/>
          <p:cNvSpPr/>
          <p:nvPr/>
        </p:nvSpPr>
        <p:spPr>
          <a:xfrm>
            <a:off x="4952880" y="83808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Vertebrate Nervou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6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4572000" y="1870200"/>
            <a:ext cx="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3633840" y="1297080"/>
            <a:ext cx="187632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2957400" y="2313000"/>
            <a:ext cx="324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1057320" y="4805280"/>
            <a:ext cx="704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105732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5047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22287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16765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34005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284796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457200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019400" y="5029200"/>
            <a:ext cx="110520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7434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519120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69152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63626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808668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75344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2687040" y="2433600"/>
            <a:ext cx="53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>
            <a:off x="240336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63560" y="2433600"/>
            <a:ext cx="418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4"/>
          <p:cNvSpPr/>
          <p:nvPr/>
        </p:nvSpPr>
        <p:spPr>
          <a:xfrm>
            <a:off x="4019400" y="2908440"/>
            <a:ext cx="110520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295596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457200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618804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5777640" y="2433600"/>
            <a:ext cx="820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rry o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9"/>
          <p:cNvSpPr/>
          <p:nvPr/>
        </p:nvSpPr>
        <p:spPr>
          <a:xfrm>
            <a:off x="295596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0"/>
          <p:cNvSpPr/>
          <p:nvPr/>
        </p:nvSpPr>
        <p:spPr>
          <a:xfrm>
            <a:off x="457200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618804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2"/>
          <p:cNvSpPr/>
          <p:nvPr/>
        </p:nvSpPr>
        <p:spPr>
          <a:xfrm>
            <a:off x="563580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3"/>
          <p:cNvSpPr/>
          <p:nvPr/>
        </p:nvSpPr>
        <p:spPr>
          <a:xfrm>
            <a:off x="2719800" y="3537000"/>
            <a:ext cx="473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4"/>
          <p:cNvSpPr/>
          <p:nvPr/>
        </p:nvSpPr>
        <p:spPr>
          <a:xfrm>
            <a:off x="2403360" y="401148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5"/>
          <p:cNvSpPr/>
          <p:nvPr/>
        </p:nvSpPr>
        <p:spPr>
          <a:xfrm>
            <a:off x="295596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6"/>
          <p:cNvSpPr/>
          <p:nvPr/>
        </p:nvSpPr>
        <p:spPr>
          <a:xfrm>
            <a:off x="2955960" y="378936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7"/>
          <p:cNvSpPr/>
          <p:nvPr/>
        </p:nvSpPr>
        <p:spPr>
          <a:xfrm>
            <a:off x="619272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8"/>
          <p:cNvSpPr/>
          <p:nvPr/>
        </p:nvSpPr>
        <p:spPr>
          <a:xfrm>
            <a:off x="5819760" y="3537000"/>
            <a:ext cx="74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ch 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>
            <a:off x="6192720" y="378936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68770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What do animals do to survive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Oval 41"/>
          <p:cNvSpPr/>
          <p:nvPr/>
        </p:nvSpPr>
        <p:spPr>
          <a:xfrm>
            <a:off x="3630600" y="1293840"/>
            <a:ext cx="1876320" cy="73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42"/>
          <p:cNvGrpSpPr/>
          <p:nvPr/>
        </p:nvGrpSpPr>
        <p:grpSpPr>
          <a:xfrm>
            <a:off x="501480" y="5025960"/>
            <a:ext cx="8134560" cy="517680"/>
            <a:chOff x="501480" y="5025960"/>
            <a:chExt cx="8134560" cy="517680"/>
          </a:xfrm>
        </p:grpSpPr>
        <p:sp>
          <p:nvSpPr>
            <p:cNvPr id="239" name="Oval 43"/>
            <p:cNvSpPr/>
            <p:nvPr/>
          </p:nvSpPr>
          <p:spPr>
            <a:xfrm>
              <a:off x="50148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eed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44"/>
            <p:cNvSpPr/>
            <p:nvPr/>
          </p:nvSpPr>
          <p:spPr>
            <a:xfrm>
              <a:off x="167328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ir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45"/>
            <p:cNvSpPr/>
            <p:nvPr/>
          </p:nvSpPr>
          <p:spPr>
            <a:xfrm>
              <a:off x="28447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ircul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46"/>
            <p:cNvSpPr/>
            <p:nvPr/>
          </p:nvSpPr>
          <p:spPr>
            <a:xfrm>
              <a:off x="40165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xcre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47"/>
            <p:cNvSpPr/>
            <p:nvPr/>
          </p:nvSpPr>
          <p:spPr>
            <a:xfrm>
              <a:off x="518796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48"/>
            <p:cNvSpPr/>
            <p:nvPr/>
          </p:nvSpPr>
          <p:spPr>
            <a:xfrm>
              <a:off x="635940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vem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49"/>
            <p:cNvSpPr/>
            <p:nvPr/>
          </p:nvSpPr>
          <p:spPr>
            <a:xfrm>
              <a:off x="753120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produ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50"/>
          <p:cNvGrpSpPr/>
          <p:nvPr/>
        </p:nvGrpSpPr>
        <p:grpSpPr>
          <a:xfrm>
            <a:off x="2400480" y="2933640"/>
            <a:ext cx="4336920" cy="517680"/>
            <a:chOff x="2400480" y="2933640"/>
            <a:chExt cx="4336920" cy="517680"/>
          </a:xfrm>
        </p:grpSpPr>
        <p:sp>
          <p:nvSpPr>
            <p:cNvPr id="247" name="Oval 51"/>
            <p:cNvSpPr/>
            <p:nvPr/>
          </p:nvSpPr>
          <p:spPr>
            <a:xfrm>
              <a:off x="240048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ukaryotic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l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52"/>
            <p:cNvSpPr/>
            <p:nvPr/>
          </p:nvSpPr>
          <p:spPr>
            <a:xfrm>
              <a:off x="401652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eterotroph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53"/>
            <p:cNvSpPr/>
            <p:nvPr/>
          </p:nvSpPr>
          <p:spPr>
            <a:xfrm>
              <a:off x="563256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ssential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uncti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Oval 54"/>
          <p:cNvSpPr/>
          <p:nvPr/>
        </p:nvSpPr>
        <p:spPr>
          <a:xfrm>
            <a:off x="2400480" y="4008600"/>
            <a:ext cx="1104840" cy="517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 cell wal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nvertebrate feeding and diges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vertebrates can either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in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ex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digestion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racellular meaning that food is digested within each individual cell of the organis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Spong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cellular means that digestion occurs inside a digestive tract or cavity, then absorbed into the body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mollusks, worms, arthropods, echinoder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bio_ch29_4280"/>
          <p:cNvPicPr/>
          <p:nvPr/>
        </p:nvPicPr>
        <p:blipFill>
          <a:blip r:embed="rId1"/>
          <a:stretch/>
        </p:blipFill>
        <p:spPr>
          <a:xfrm>
            <a:off x="1338120" y="1538280"/>
            <a:ext cx="6467760" cy="41464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6350040" y="415440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160960" y="2978280"/>
            <a:ext cx="92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098880" y="542304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692440" y="392904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1605240" y="2509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1078200" y="531504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4618080" y="516888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7589880" y="27734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1316880" y="365616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1639440" y="288144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185840" y="49798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4921200" y="43610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7288200" y="2565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6915600" y="237636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5734440" y="4292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9"/>
          <p:cNvSpPr/>
          <p:nvPr/>
        </p:nvSpPr>
        <p:spPr>
          <a:xfrm>
            <a:off x="6623640" y="21891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6108120" y="190980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6409800" y="551016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6766560" y="52959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7312320" y="467820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6577200" y="338148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4960800" y="5329080"/>
            <a:ext cx="134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digestive systems of many vertebrates have organs that are well adapted for different feeding habi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arnivores, such as sharks have short digestive tracts that produce fast-acting digestive enzy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rbivores have long intestines that have large colonies of bacteria that help in digesting the cellulose fibers in plant tissu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63248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bio_ch33_4548"/>
          <p:cNvPicPr/>
          <p:nvPr/>
        </p:nvPicPr>
        <p:blipFill>
          <a:blip r:embed="rId1"/>
          <a:stretch/>
        </p:blipFill>
        <p:spPr>
          <a:xfrm>
            <a:off x="414360" y="1955880"/>
            <a:ext cx="8315280" cy="37148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702720" y="1954080"/>
            <a:ext cx="109224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llbl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a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c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000880" y="17510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3074400" y="1751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4771800" y="17510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115680" y="17510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7670520" y="17510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04480" y="990720"/>
            <a:ext cx="8039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The Digestive Systems of Vertebrates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05704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28600" y="26967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quatic animals have natural moist respiratory surfaces, and some respire through diffusion through their skin and others use gi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228600" y="4373640"/>
            <a:ext cx="82296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re are many different respiratory specialized organs in terrestrial invertebrat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use parallel book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cts use openings called spiracles where air enters the body and passes through a network of tracheal tubes for gas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nails have a mantel cavity that is lined with moist tissue and an extensive surface area of blood vess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04920" y="3276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304920" y="83808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4e6d"/>
                </a:solidFill>
                <a:latin typeface="Calibri"/>
              </a:rPr>
              <a:t>Respiration in anima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bio_ch29_4281"/>
          <p:cNvPicPr/>
          <p:nvPr/>
        </p:nvPicPr>
        <p:blipFill>
          <a:blip r:embed="rId1"/>
          <a:stretch/>
        </p:blipFill>
        <p:spPr>
          <a:xfrm>
            <a:off x="552600" y="1725480"/>
            <a:ext cx="8038800" cy="39402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601560" y="3484440"/>
            <a:ext cx="139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5334120" y="336060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219480" y="538308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2325600" y="1781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2960640" y="22208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ph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2494800" y="3184560"/>
            <a:ext cx="16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 of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4636080" y="5361120"/>
            <a:ext cx="5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417120" y="49417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5398560" y="16732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he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b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171920" y="3186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ra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933120"/>
            <a:ext cx="67057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Respir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respiratory syste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rdates have one of two basic structures for respira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lls – for aquatic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: tunicates, fish and amphibia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ungs - for terrestrial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s: adult amphibians, reptiles, birds, and mamma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9:09:12Z</dcterms:created>
  <dc:creator>AISD</dc:creator>
  <dc:description/>
  <dc:language>en-US</dc:language>
  <cp:lastModifiedBy>د أشرف مشالي</cp:lastModifiedBy>
  <dcterms:modified xsi:type="dcterms:W3CDTF">2013-09-02T10:25:08Z</dcterms:modified>
  <cp:revision>21</cp:revision>
  <dc:subject/>
  <dc:title>Animal Kingdom: Comparative Anatomy</dc:title>
</cp:coreProperties>
</file>