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3330-8B0A-41A9-ADD1-2E59D09D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0C98-4EAA-4ED6-B28C-1C189B23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41D5-FE73-4079-AE5C-93A27455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567F-6FC1-4898-8076-6DF7552D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AB53-2D2E-4DCF-80B6-5EA4B965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5CFA-B3A4-4F74-A9F1-5B6B7AED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2F18-BE8E-4C32-AFBF-B8FB4680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7A1E-EC68-4F54-A5D1-3673402A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BA45-FC92-4356-B7A8-EE9E984B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4F87-DEBB-465C-9D36-2A70F1DF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F11D-EE20-4005-8875-779C3006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1B9-E8C3-45FA-BFA5-D96BCDB7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A29A-C41F-426F-BC7C-04605F39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C936-2A42-46A4-9634-32E2930D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DF64-56B1-4AE2-8571-0373BBF7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EE6D-01F9-4169-87BC-9A101B4B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BFB4-289D-44BA-8856-46F06408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7B397-07DB-46F4-9AE4-E9242F36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E534F-486C-411A-BF10-C09D1B3B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F1EB3-15B8-48C0-AB59-E2C9A714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DC6E-E04E-463D-B834-AC2B5553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56ACA-B167-4CD1-A8CB-B6783288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834-324D-4BDD-936D-A2C2017B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92D9B-7A98-4278-808A-A7A39F50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21816-A67F-4F3F-BEA5-34E2B421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7CA22-FA51-409D-A8AA-CFC4C3E4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9498C-62E9-4A59-92BF-B459C656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647BE-8CB4-435A-8E7D-159CDD7C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73B9D-3AEA-4B72-B2DB-43B5D9C6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9276D-F79F-48FD-A2FD-27ADDC4E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960D1-47FD-468C-A850-9D956F7F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2A3E1-E49F-4C40-B5C3-D8277F25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E8E69-AC0F-43E5-AB03-9227B2C5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EF8D-2099-44EC-978D-CD847335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62605-82DA-4790-BC8A-13C71206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C1B36-8A55-4D30-A3CB-07645CE4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78894-0F59-41C8-8E2A-E0ADF1C5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83D0A-86DD-4583-97B0-9274F68B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6CDD6-2446-44B5-BA5B-FFF72152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8695C-4668-47A0-AF89-BD17071D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B124A-8F97-4D66-8B4C-127B4D8A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ABF23-90E6-49ED-89F0-EC4C895B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C9593-F1C0-421D-9A24-70C952CB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DEBA-67AC-4D37-8C6B-9F3E93A8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78D9-6398-44DF-9E76-4E97EA60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71B2-729A-47CD-AF7C-CAC56CF6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B4A1-40C1-4AFC-8235-6A668604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7F7-7FF3-4064-B2F8-99936F63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0A42-7530-4165-809A-C7C708EA221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C182-A083-40D1-837F-FDFB6EF7CFC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EF2F-BD96-4DC7-8368-5260FAC5B60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14B8-F06F-477A-9A5C-FFEAAB81E24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5440" y="2017800"/>
            <a:ext cx="83394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28240" y="5409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.Collin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JSH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-AP Biolog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2362320" y="685800"/>
            <a:ext cx="3771720" cy="561960"/>
          </a:xfrm>
          <a:prstGeom prst="rect">
            <a:avLst/>
          </a:prstGeom>
          <a:solidFill>
            <a:srgbClr val="e9f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0: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335268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quatic Gill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1920" y="1371600"/>
            <a:ext cx="5257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ater flows through the mouth then over the gills where oxygen is remov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bon dioxide and water are then pumped out through the opercul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5" descr="sb4549f1"/>
          <p:cNvPicPr/>
          <p:nvPr/>
        </p:nvPicPr>
        <p:blipFill>
          <a:blip r:embed="rId1"/>
          <a:stretch/>
        </p:blipFill>
        <p:spPr>
          <a:xfrm>
            <a:off x="5648400" y="0"/>
            <a:ext cx="3495600" cy="45561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"/>
          <p:cNvSpPr/>
          <p:nvPr/>
        </p:nvSpPr>
        <p:spPr>
          <a:xfrm>
            <a:off x="838080" y="1903320"/>
            <a:ext cx="142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bio_ch33_4550"/>
          <p:cNvPicPr/>
          <p:nvPr/>
        </p:nvPicPr>
        <p:blipFill>
          <a:blip r:embed="rId2"/>
          <a:stretch/>
        </p:blipFill>
        <p:spPr>
          <a:xfrm>
            <a:off x="579600" y="3733920"/>
            <a:ext cx="5795640" cy="28335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4"/>
          <p:cNvSpPr/>
          <p:nvPr/>
        </p:nvSpPr>
        <p:spPr>
          <a:xfrm>
            <a:off x="685800" y="658188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438280" y="6581880"/>
            <a:ext cx="71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800600" y="658188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352680" y="65818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1015920" y="3733920"/>
            <a:ext cx="18795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strils, mouth, and thro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 sa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Lu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Open circulatory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0880" y="3505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lood is pumped through a system of vessels BUT is only partially contained in these vessels.  Most of the time the blood is pumped through open caviti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arthropods and mollusks because the blood comes into direct contact organs and tissu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80880" y="533412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losed system forces blood through vessels that extend throughout the body of the organism. Since the system is “closed”  the blood never leaves the vess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larger organisms because the blood is kept at a higher pressure which allows for more efficient circulation within the organis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457200" y="4952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Closed circulator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57200" y="1523880"/>
            <a:ext cx="82296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ertebrate circulatory system can range from a system where cells simply do diffusion to take in oxygen or systems with many hearts and even  systems with one he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457200" y="819000"/>
            <a:ext cx="79246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bio_ch29_4282"/>
          <p:cNvPicPr/>
          <p:nvPr/>
        </p:nvPicPr>
        <p:blipFill>
          <a:blip r:embed="rId1"/>
          <a:stretch/>
        </p:blipFill>
        <p:spPr>
          <a:xfrm>
            <a:off x="444600" y="1809720"/>
            <a:ext cx="8254800" cy="2843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601560" y="5084640"/>
            <a:ext cx="334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818240" y="5084640"/>
            <a:ext cx="372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sed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6763680" y="4537080"/>
            <a:ext cx="9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7846200" y="424656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6905520" y="1843200"/>
            <a:ext cx="166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6905520" y="2271600"/>
            <a:ext cx="22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vessels in t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957960" y="306720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1095480" y="19000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3408840" y="29401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2709720" y="388944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us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66294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162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ertebrate circulatory syste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ordate circulatory systems range from a single loop system (found in organisms with gills) to double loop syste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Picture 3" descr="bio_ch33_4551"/>
          <p:cNvPicPr/>
          <p:nvPr/>
        </p:nvPicPr>
        <p:blipFill>
          <a:blip r:embed="rId1"/>
          <a:stretch/>
        </p:blipFill>
        <p:spPr>
          <a:xfrm>
            <a:off x="1523880" y="2514600"/>
            <a:ext cx="5975640" cy="38624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4"/>
          <p:cNvSpPr/>
          <p:nvPr/>
        </p:nvSpPr>
        <p:spPr>
          <a:xfrm>
            <a:off x="4127040" y="2209680"/>
            <a:ext cx="25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uble-Loop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529280" y="2362320"/>
            <a:ext cx="157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gle-Loo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1676520" y="6324480"/>
            <a:ext cx="172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S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657600" y="6477120"/>
            <a:ext cx="172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T REPT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410080" y="6324480"/>
            <a:ext cx="2200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OCODILIANS, BIRD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MAMM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693432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 excre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088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aquatic invertebrates simply diffuse ammonia out their bodies into the surrounding water where it is diluted and carried awa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: sponges, cnidarians, and some round wor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ther aquatic invertebrates swell up with water, dilute the wastes and excrete the wastes through tiny pores in their sk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457200" y="40384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 excre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80880" y="4678200"/>
            <a:ext cx="82296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y terrestrial invertebrates convert ammonia into u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rea is a simpler nitrogenous compound that is much less toxic than ammo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urea is eliminated from the body in u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bio_ch29_4283"/>
          <p:cNvPicPr/>
          <p:nvPr/>
        </p:nvPicPr>
        <p:blipFill>
          <a:blip r:embed="rId1"/>
          <a:stretch/>
        </p:blipFill>
        <p:spPr>
          <a:xfrm>
            <a:off x="1881360" y="1515960"/>
            <a:ext cx="5378400" cy="395604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4"/>
          <p:cNvSpPr/>
          <p:nvPr/>
        </p:nvSpPr>
        <p:spPr>
          <a:xfrm>
            <a:off x="2023920" y="492768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27720" y="549756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743880" y="152244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6073920" y="5218200"/>
            <a:ext cx="115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pighian 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4464000" y="408780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3740040" y="386064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i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70040" y="2471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6777000" y="3290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tub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6777000" y="273672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734000" y="130824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4121280" y="1797120"/>
            <a:ext cx="107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4029120" y="2171880"/>
            <a:ext cx="138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hrost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856800"/>
            <a:ext cx="678204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Excretory Systems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Excre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934640"/>
            <a:ext cx="5181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quatic vertebrates kidneys and rely on gill slits to release excretory wastes into surrounding water for dilu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restrial vertebrates rely on the kidney’s to filter out the ammonia and change it into urea and send it to be released in u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8" name="Picture 5" descr="http://library.thinkquest.org/22016/excretion/kidney2.jpg"/>
          <p:cNvPicPr/>
          <p:nvPr/>
        </p:nvPicPr>
        <p:blipFill>
          <a:blip r:embed="rId1"/>
          <a:stretch/>
        </p:blipFill>
        <p:spPr>
          <a:xfrm>
            <a:off x="5943600" y="1695600"/>
            <a:ext cx="31240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rvous syst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ll animals respond to their environment through specialized cells called nerve cell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most animals nerve cells hook together to form the nervous syste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ervous systems can range from fairly simple to extremely complex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arrangement of nerve cells from phylum to phylum can be dramatically differ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bio_ch29_4284"/>
          <p:cNvPicPr/>
          <p:nvPr/>
        </p:nvPicPr>
        <p:blipFill>
          <a:blip r:embed="rId1"/>
          <a:srcRect l="0" t="0" r="39547" b="0"/>
          <a:stretch/>
        </p:blipFill>
        <p:spPr>
          <a:xfrm>
            <a:off x="92160" y="1706400"/>
            <a:ext cx="5241960" cy="40086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4"/>
          <p:cNvSpPr/>
          <p:nvPr/>
        </p:nvSpPr>
        <p:spPr>
          <a:xfrm>
            <a:off x="4097520" y="267012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962280" y="288756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2213640" y="16146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3440880" y="35164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9880" y="1447920"/>
            <a:ext cx="11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478320" y="554364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79520" y="488160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Invertebrate Nervous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1" name="Picture 19" descr="http://researcheshealthcenter.webs.com/250px-TE-Nervous_system_diagram.svg.png"/>
          <p:cNvPicPr/>
          <p:nvPr/>
        </p:nvPicPr>
        <p:blipFill>
          <a:blip r:embed="rId2"/>
          <a:stretch/>
        </p:blipFill>
        <p:spPr>
          <a:xfrm>
            <a:off x="5486400" y="1905120"/>
            <a:ext cx="3540240" cy="41623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3"/>
          <p:cNvSpPr/>
          <p:nvPr/>
        </p:nvSpPr>
        <p:spPr>
          <a:xfrm>
            <a:off x="4952880" y="83808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Vertebrate Nervou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6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4572000" y="1870200"/>
            <a:ext cx="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3633840" y="1297080"/>
            <a:ext cx="187632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2957400" y="2313000"/>
            <a:ext cx="324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1057320" y="4805280"/>
            <a:ext cx="704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105732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5047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22287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16765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4005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284796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457200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019400" y="5029200"/>
            <a:ext cx="110520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7434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519120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69152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63626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808668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75344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2687040" y="2433600"/>
            <a:ext cx="53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>
            <a:off x="240336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63560" y="2433600"/>
            <a:ext cx="418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4019400" y="2908440"/>
            <a:ext cx="110520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295596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457200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618804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5777640" y="2433600"/>
            <a:ext cx="820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rry o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9"/>
          <p:cNvSpPr/>
          <p:nvPr/>
        </p:nvSpPr>
        <p:spPr>
          <a:xfrm>
            <a:off x="295596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0"/>
          <p:cNvSpPr/>
          <p:nvPr/>
        </p:nvSpPr>
        <p:spPr>
          <a:xfrm>
            <a:off x="457200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618804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2"/>
          <p:cNvSpPr/>
          <p:nvPr/>
        </p:nvSpPr>
        <p:spPr>
          <a:xfrm>
            <a:off x="563580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3"/>
          <p:cNvSpPr/>
          <p:nvPr/>
        </p:nvSpPr>
        <p:spPr>
          <a:xfrm>
            <a:off x="2719800" y="3537000"/>
            <a:ext cx="473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4"/>
          <p:cNvSpPr/>
          <p:nvPr/>
        </p:nvSpPr>
        <p:spPr>
          <a:xfrm>
            <a:off x="2403360" y="401148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5"/>
          <p:cNvSpPr/>
          <p:nvPr/>
        </p:nvSpPr>
        <p:spPr>
          <a:xfrm>
            <a:off x="295596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6"/>
          <p:cNvSpPr/>
          <p:nvPr/>
        </p:nvSpPr>
        <p:spPr>
          <a:xfrm>
            <a:off x="2955960" y="378936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7"/>
          <p:cNvSpPr/>
          <p:nvPr/>
        </p:nvSpPr>
        <p:spPr>
          <a:xfrm>
            <a:off x="619272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8"/>
          <p:cNvSpPr/>
          <p:nvPr/>
        </p:nvSpPr>
        <p:spPr>
          <a:xfrm>
            <a:off x="5819760" y="3537000"/>
            <a:ext cx="74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ch 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>
            <a:off x="6192720" y="378936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68770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What do animals do to survive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Oval 41"/>
          <p:cNvSpPr/>
          <p:nvPr/>
        </p:nvSpPr>
        <p:spPr>
          <a:xfrm>
            <a:off x="3630600" y="1293840"/>
            <a:ext cx="1876320" cy="73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42"/>
          <p:cNvGrpSpPr/>
          <p:nvPr/>
        </p:nvGrpSpPr>
        <p:grpSpPr>
          <a:xfrm>
            <a:off x="501480" y="5025960"/>
            <a:ext cx="8134560" cy="517680"/>
            <a:chOff x="501480" y="5025960"/>
            <a:chExt cx="8134560" cy="517680"/>
          </a:xfrm>
        </p:grpSpPr>
        <p:sp>
          <p:nvSpPr>
            <p:cNvPr id="239" name="Oval 43"/>
            <p:cNvSpPr/>
            <p:nvPr/>
          </p:nvSpPr>
          <p:spPr>
            <a:xfrm>
              <a:off x="50148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eed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44"/>
            <p:cNvSpPr/>
            <p:nvPr/>
          </p:nvSpPr>
          <p:spPr>
            <a:xfrm>
              <a:off x="167328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ir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45"/>
            <p:cNvSpPr/>
            <p:nvPr/>
          </p:nvSpPr>
          <p:spPr>
            <a:xfrm>
              <a:off x="28447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ircul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46"/>
            <p:cNvSpPr/>
            <p:nvPr/>
          </p:nvSpPr>
          <p:spPr>
            <a:xfrm>
              <a:off x="40165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xcre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47"/>
            <p:cNvSpPr/>
            <p:nvPr/>
          </p:nvSpPr>
          <p:spPr>
            <a:xfrm>
              <a:off x="518796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48"/>
            <p:cNvSpPr/>
            <p:nvPr/>
          </p:nvSpPr>
          <p:spPr>
            <a:xfrm>
              <a:off x="635940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vem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49"/>
            <p:cNvSpPr/>
            <p:nvPr/>
          </p:nvSpPr>
          <p:spPr>
            <a:xfrm>
              <a:off x="753120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produ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50"/>
          <p:cNvGrpSpPr/>
          <p:nvPr/>
        </p:nvGrpSpPr>
        <p:grpSpPr>
          <a:xfrm>
            <a:off x="2400480" y="2933640"/>
            <a:ext cx="4336920" cy="517680"/>
            <a:chOff x="2400480" y="2933640"/>
            <a:chExt cx="4336920" cy="517680"/>
          </a:xfrm>
        </p:grpSpPr>
        <p:sp>
          <p:nvSpPr>
            <p:cNvPr id="247" name="Oval 51"/>
            <p:cNvSpPr/>
            <p:nvPr/>
          </p:nvSpPr>
          <p:spPr>
            <a:xfrm>
              <a:off x="240048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ukaryotic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l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52"/>
            <p:cNvSpPr/>
            <p:nvPr/>
          </p:nvSpPr>
          <p:spPr>
            <a:xfrm>
              <a:off x="401652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eterotroph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53"/>
            <p:cNvSpPr/>
            <p:nvPr/>
          </p:nvSpPr>
          <p:spPr>
            <a:xfrm>
              <a:off x="563256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ssential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uncti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Oval 54"/>
          <p:cNvSpPr/>
          <p:nvPr/>
        </p:nvSpPr>
        <p:spPr>
          <a:xfrm>
            <a:off x="2400480" y="4008600"/>
            <a:ext cx="1104840" cy="517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 cell wal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vertebrate feeding and diges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vertebrates can either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in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ex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igestion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racellular meaning that food is digested within each individual cell of the organis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Spong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cellular means that digestion occurs inside a digestive tract or cavity, then absorbed into the body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mollusks, worms, arthropods, echinoder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bio_ch29_4280"/>
          <p:cNvPicPr/>
          <p:nvPr/>
        </p:nvPicPr>
        <p:blipFill>
          <a:blip r:embed="rId1"/>
          <a:stretch/>
        </p:blipFill>
        <p:spPr>
          <a:xfrm>
            <a:off x="1338120" y="1538280"/>
            <a:ext cx="6467760" cy="41464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6350040" y="415440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160960" y="2978280"/>
            <a:ext cx="92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098880" y="542304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692440" y="392904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605240" y="2509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1078200" y="531504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4618080" y="516888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7589880" y="27734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1316880" y="365616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1639440" y="288144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185840" y="49798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4921200" y="43610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7288200" y="2565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6915600" y="237636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5734440" y="4292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9"/>
          <p:cNvSpPr/>
          <p:nvPr/>
        </p:nvSpPr>
        <p:spPr>
          <a:xfrm>
            <a:off x="6623640" y="21891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6108120" y="190980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6409800" y="551016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6766560" y="52959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7312320" y="467820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6577200" y="338148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4960800" y="5329080"/>
            <a:ext cx="134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digestive systems of many vertebrates have organs that are well adapted for different feeding habi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arnivores, such as sharks have short digestive tracts that produce fast-acting digestive enzy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rbivores have long intestines that have large colonies of bacteria that help in digesting the cellulose fibers in plant tissu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63248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bio_ch33_4548"/>
          <p:cNvPicPr/>
          <p:nvPr/>
        </p:nvPicPr>
        <p:blipFill>
          <a:blip r:embed="rId1"/>
          <a:stretch/>
        </p:blipFill>
        <p:spPr>
          <a:xfrm>
            <a:off x="414360" y="1955880"/>
            <a:ext cx="8315280" cy="37148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702720" y="1954080"/>
            <a:ext cx="109224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llbl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a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000880" y="17510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3074400" y="1751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4771800" y="17510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115680" y="17510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7670520" y="17510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04480" y="990720"/>
            <a:ext cx="8039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The Digestive Systems of Vertebrates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05704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28600" y="26967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quatic animals have natural moist respiratory surfaces, and some respire through diffusion through their skin and others use gi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228600" y="4373640"/>
            <a:ext cx="82296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re are many different respiratory specialized organs in terrestrial invertebrat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use parallel book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use openings called spiracles where air enters the body and passes through a network of tracheal tubes for gas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nails have a mantel cavity that is lined with moist tissue and an extensive surface area of blood vess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04920" y="3276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304920" y="83808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4e6d"/>
                </a:solidFill>
                <a:latin typeface="Calibri"/>
              </a:rPr>
              <a:t>Respiration in anima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bio_ch29_4281"/>
          <p:cNvPicPr/>
          <p:nvPr/>
        </p:nvPicPr>
        <p:blipFill>
          <a:blip r:embed="rId1"/>
          <a:stretch/>
        </p:blipFill>
        <p:spPr>
          <a:xfrm>
            <a:off x="552600" y="1725480"/>
            <a:ext cx="8038800" cy="39402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601560" y="3484440"/>
            <a:ext cx="139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5334120" y="336060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219480" y="538308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325600" y="1781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2960640" y="22208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ph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2494800" y="318456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 of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4636080" y="5361120"/>
            <a:ext cx="5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417120" y="49417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5398560" y="16732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he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b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171920" y="3186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ra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933120"/>
            <a:ext cx="67057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Respir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respiratory syste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rdates have one of two basic structures for respira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lls – for aquatic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: tunicates, fish and amphibia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ungs - for terrestrial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s: adult amphibians, reptiles, birds, and mamma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9:09:12Z</dcterms:created>
  <dc:creator>AISD</dc:creator>
  <dc:description/>
  <dc:language>en-US</dc:language>
  <cp:lastModifiedBy>د أشرف مشالي</cp:lastModifiedBy>
  <dcterms:modified xsi:type="dcterms:W3CDTF">2013-09-02T10:25:08Z</dcterms:modified>
  <cp:revision>21</cp:revision>
  <dc:subject/>
  <dc:title>Animal Kingdom: Comparative Anatomy</dc:title>
</cp:coreProperties>
</file>