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5FB-A9D3-45FE-9498-D483B280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85B-6F2B-4DE3-AF4A-AB4DBA45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8EA-2C06-4B75-AFA9-72AA3792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26EE-F2C6-494B-8501-73AB1A5B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BEBB-D443-4FA1-8389-F457E642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5956-FE10-4E34-85A2-D1D7151A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752D-4E3C-40F2-A91E-750E34F8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122C-582B-4AE7-8B89-8E1042D6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3048-4824-4FC5-BAC1-9FC61926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86D4-3F15-4E23-8B85-B82EDB6C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CECB-295D-429C-9D37-A5E4B824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7C0-A2F3-4EE8-A79A-57DD1DDE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AF74-C72C-4426-A164-6487654E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3A4A-F3C0-4837-A2A0-43C4F54C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3085-1C4B-4D1D-B342-2656921C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7D8D-A354-4014-B7C2-1D118291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AA48-45CA-4195-8F8D-A2E65DD4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A7C37-59CA-423E-BAD9-F1A6D133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7458-090E-4E88-8A0C-47228ADD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AF2EC-A3DA-4CA3-A049-9FD28BA5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D94A2-9E53-4923-9274-22F95652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9C5F6-8A94-4899-AAC7-23D71806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027-CCC3-49E8-985E-2054D669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85BF-CE9F-422C-897C-BA74DB37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A32F-17CF-4156-8D8A-0D463974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A390F-A834-4F9D-9E6F-306B6023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0C30B-FC29-42E5-8E16-D30A0689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80A5-C6FA-41F5-8AE8-EDAC4180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97D96-D48B-46A1-B5DC-44C6D7ED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6C6E1-2FAE-48C1-ACDC-C2D821FA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38889-1683-4670-AFF7-17045D49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1B7E4-409A-43BA-84F0-18C8E1CF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D9696-1CB7-41F1-B1C2-53950CE1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D3E-9BDB-4599-A05D-0C1260B7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AE54D-4665-407C-80CF-3A644D7D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CCFA5-3CE6-45EE-8C21-4694E001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A3FA2-C59E-4F1B-BB09-FCB0B516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DF7BB-DE58-43CF-9F5A-3D5649BF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88B61-663F-4007-9FFF-A07D7B6E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985B7-C551-4B23-9CD4-9C92A0E4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477E-33EC-4908-9EA1-0D9B5056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3523D-D03D-4BD7-A25D-7F0F979D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EDAFA-3FF5-47EA-9528-5F62BF5A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A92-27D6-4266-9AE2-50F87453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CB6-5DC0-4E93-9702-5846317B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4A1-BC19-437A-B5CF-E42E6CED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C00-BC84-4609-B623-0A98501E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DABD-6FE8-4E25-94A4-AC2AC83A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FAFA-B757-44A1-B8CB-7BA04236075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71C8-FA24-49A3-9ECA-B3B21E55D25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7F09-2E75-452C-8855-DCBA57C499D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365B-2C98-402A-B742-729D49A122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5440" y="2017800"/>
            <a:ext cx="83394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28240" y="5409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.Collin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SH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-AP Biolog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2362320" y="685800"/>
            <a:ext cx="3771720" cy="561960"/>
          </a:xfrm>
          <a:prstGeom prst="rect">
            <a:avLst/>
          </a:prstGeom>
          <a:solidFill>
            <a:srgbClr val="e9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0: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33526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quatic Gi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1920" y="137160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ter flows through the mouth then over the gills where oxygen is remov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bon dioxide and water are then pumped out through the opercul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sb4549f1"/>
          <p:cNvPicPr/>
          <p:nvPr/>
        </p:nvPicPr>
        <p:blipFill>
          <a:blip r:embed="rId1"/>
          <a:stretch/>
        </p:blipFill>
        <p:spPr>
          <a:xfrm>
            <a:off x="5648400" y="0"/>
            <a:ext cx="3495600" cy="45561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838080" y="1903320"/>
            <a:ext cx="142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bio_ch33_4550"/>
          <p:cNvPicPr/>
          <p:nvPr/>
        </p:nvPicPr>
        <p:blipFill>
          <a:blip r:embed="rId2"/>
          <a:stretch/>
        </p:blipFill>
        <p:spPr>
          <a:xfrm>
            <a:off x="579600" y="3733920"/>
            <a:ext cx="5795640" cy="2833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685800" y="658188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438280" y="6581880"/>
            <a:ext cx="71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800600" y="658188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352680" y="65818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015920" y="3733920"/>
            <a:ext cx="18795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strils, mouth, and thro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 s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Open circulatory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80" y="3505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lood is pumped through a system of vessels BUT is only partially contained in these vessels.  Most of the time the blood is pumped through open caviti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arthropods and mollusks because the blood comes into direct contact organs and tissu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0880" y="533412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losed system forces blood through vessels that extend throughout the body of the organism. Since the system is “closed”  the blood never leaves the ves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larger organisms because the blood is kept at a higher pressure which allows for more efficient circulation within the organis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457200" y="4952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Closed circulat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1523880"/>
            <a:ext cx="82296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rtebrate circulatory system can range from a system where cells simply do diffusion to take in oxygen or systems with many hearts and even  systems with one 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57200" y="819000"/>
            <a:ext cx="79246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bio_ch29_4282"/>
          <p:cNvPicPr/>
          <p:nvPr/>
        </p:nvPicPr>
        <p:blipFill>
          <a:blip r:embed="rId1"/>
          <a:stretch/>
        </p:blipFill>
        <p:spPr>
          <a:xfrm>
            <a:off x="444600" y="1809720"/>
            <a:ext cx="8254800" cy="2843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601560" y="5084640"/>
            <a:ext cx="334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818240" y="5084640"/>
            <a:ext cx="37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d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6763680" y="453708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7846200" y="424656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6905520" y="1843200"/>
            <a:ext cx="166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905520" y="2271600"/>
            <a:ext cx="22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vessels in t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957960" y="306720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1095480" y="19000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408840" y="2940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709720" y="388944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us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66294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162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ertebrate circulatory syste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ordate circulatory systems range from a single loop system (found in organisms with gills) to double loop syst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3" descr="bio_ch33_4551"/>
          <p:cNvPicPr/>
          <p:nvPr/>
        </p:nvPicPr>
        <p:blipFill>
          <a:blip r:embed="rId1"/>
          <a:stretch/>
        </p:blipFill>
        <p:spPr>
          <a:xfrm>
            <a:off x="1523880" y="2514600"/>
            <a:ext cx="5975640" cy="38624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4127040" y="220968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529280" y="236232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-Loo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676520" y="6324480"/>
            <a:ext cx="172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657600" y="6477120"/>
            <a:ext cx="172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T REP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410080" y="6324480"/>
            <a:ext cx="2200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CODILIANS, BIRD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AM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693432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 excre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aquatic invertebrates simply diffuse ammonia out their bodies into the surrounding water where it is diluted and carried awa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sponges, cnidarians, and some round wor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aquatic invertebrates swell up with water, dilute the wastes and excrete the wastes through tiny pores in their sk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457200" y="40384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 excr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0880" y="4678200"/>
            <a:ext cx="82296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terrestrial invertebrates convert ammonia into u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rea is a simpler nitrogenous compound that is much less toxic than ammo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urea is eliminated from the body in 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bio_ch29_4283"/>
          <p:cNvPicPr/>
          <p:nvPr/>
        </p:nvPicPr>
        <p:blipFill>
          <a:blip r:embed="rId1"/>
          <a:stretch/>
        </p:blipFill>
        <p:spPr>
          <a:xfrm>
            <a:off x="1881360" y="1515960"/>
            <a:ext cx="5378400" cy="39560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023920" y="492768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27720" y="549756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743880" y="152244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073920" y="5218200"/>
            <a:ext cx="11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pighian 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4464000" y="408780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3740040" y="386064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i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70040" y="2471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6777000" y="3290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777000" y="273672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734000" y="130824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121280" y="1797120"/>
            <a:ext cx="107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4029120" y="2171880"/>
            <a:ext cx="138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hrost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856800"/>
            <a:ext cx="678204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Excretory Systems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Excre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934640"/>
            <a:ext cx="5181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quatic vertebrates kidneys and rely on gill slits to release excretory wastes into surrounding water for dilu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restrial vertebrates rely on the kidney’s to filter out the ammonia and change it into urea and send it to be released in u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5" descr="http://library.thinkquest.org/22016/excretion/kidney2.jpg"/>
          <p:cNvPicPr/>
          <p:nvPr/>
        </p:nvPicPr>
        <p:blipFill>
          <a:blip r:embed="rId1"/>
          <a:stretch/>
        </p:blipFill>
        <p:spPr>
          <a:xfrm>
            <a:off x="5943600" y="1695600"/>
            <a:ext cx="31240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rvous syst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animals respond to their environment through specialized cells called nerve cell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most animals nerve cells hook together to form the nervous syst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ervous systems can range from fairly simple to extremely complex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arrangement of nerve cells from phylum to phylum can be dramatically differ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bio_ch29_4284"/>
          <p:cNvPicPr/>
          <p:nvPr/>
        </p:nvPicPr>
        <p:blipFill>
          <a:blip r:embed="rId1"/>
          <a:srcRect l="0" t="0" r="39547" b="0"/>
          <a:stretch/>
        </p:blipFill>
        <p:spPr>
          <a:xfrm>
            <a:off x="92160" y="1706400"/>
            <a:ext cx="5241960" cy="4008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4"/>
          <p:cNvSpPr/>
          <p:nvPr/>
        </p:nvSpPr>
        <p:spPr>
          <a:xfrm>
            <a:off x="4097520" y="267012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962280" y="288756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213640" y="16146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440880" y="3516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9880" y="1447920"/>
            <a:ext cx="11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478320" y="554364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79520" y="488160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Invertebrate Nervous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1" name="Picture 19" descr="http://researcheshealthcenter.webs.com/250px-TE-Nervous_system_diagram.svg.png"/>
          <p:cNvPicPr/>
          <p:nvPr/>
        </p:nvPicPr>
        <p:blipFill>
          <a:blip r:embed="rId2"/>
          <a:stretch/>
        </p:blipFill>
        <p:spPr>
          <a:xfrm>
            <a:off x="5486400" y="1905120"/>
            <a:ext cx="3540240" cy="41623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3"/>
          <p:cNvSpPr/>
          <p:nvPr/>
        </p:nvSpPr>
        <p:spPr>
          <a:xfrm>
            <a:off x="4952880" y="8380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Vertebrate Nervou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6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572000" y="187020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3633840" y="1297080"/>
            <a:ext cx="187632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2957400" y="2313000"/>
            <a:ext cx="324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057320" y="4805280"/>
            <a:ext cx="704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05732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5047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2287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6765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005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284796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457200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019400" y="5029200"/>
            <a:ext cx="110520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7434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519120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69152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63626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808668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75344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2687040" y="2433600"/>
            <a:ext cx="53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240336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63560" y="2433600"/>
            <a:ext cx="418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019400" y="2908440"/>
            <a:ext cx="110520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295596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457200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618804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777640" y="2433600"/>
            <a:ext cx="820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ry 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295596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457200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618804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563580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2719800" y="3537000"/>
            <a:ext cx="473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2403360" y="401148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5"/>
          <p:cNvSpPr/>
          <p:nvPr/>
        </p:nvSpPr>
        <p:spPr>
          <a:xfrm>
            <a:off x="295596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6"/>
          <p:cNvSpPr/>
          <p:nvPr/>
        </p:nvSpPr>
        <p:spPr>
          <a:xfrm>
            <a:off x="2955960" y="378936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619272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5819760" y="3537000"/>
            <a:ext cx="74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>
            <a:off x="6192720" y="378936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8770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hat do animals do to survive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Oval 41"/>
          <p:cNvSpPr/>
          <p:nvPr/>
        </p:nvSpPr>
        <p:spPr>
          <a:xfrm>
            <a:off x="3630600" y="1293840"/>
            <a:ext cx="1876320" cy="73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2"/>
          <p:cNvGrpSpPr/>
          <p:nvPr/>
        </p:nvGrpSpPr>
        <p:grpSpPr>
          <a:xfrm>
            <a:off x="501480" y="5025960"/>
            <a:ext cx="8134560" cy="517680"/>
            <a:chOff x="501480" y="5025960"/>
            <a:chExt cx="8134560" cy="517680"/>
          </a:xfrm>
        </p:grpSpPr>
        <p:sp>
          <p:nvSpPr>
            <p:cNvPr id="239" name="Oval 43"/>
            <p:cNvSpPr/>
            <p:nvPr/>
          </p:nvSpPr>
          <p:spPr>
            <a:xfrm>
              <a:off x="50148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d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44"/>
            <p:cNvSpPr/>
            <p:nvPr/>
          </p:nvSpPr>
          <p:spPr>
            <a:xfrm>
              <a:off x="167328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ir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45"/>
            <p:cNvSpPr/>
            <p:nvPr/>
          </p:nvSpPr>
          <p:spPr>
            <a:xfrm>
              <a:off x="28447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ircul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6"/>
            <p:cNvSpPr/>
            <p:nvPr/>
          </p:nvSpPr>
          <p:spPr>
            <a:xfrm>
              <a:off x="40165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cre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7"/>
            <p:cNvSpPr/>
            <p:nvPr/>
          </p:nvSpPr>
          <p:spPr>
            <a:xfrm>
              <a:off x="518796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8"/>
            <p:cNvSpPr/>
            <p:nvPr/>
          </p:nvSpPr>
          <p:spPr>
            <a:xfrm>
              <a:off x="635940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v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9"/>
            <p:cNvSpPr/>
            <p:nvPr/>
          </p:nvSpPr>
          <p:spPr>
            <a:xfrm>
              <a:off x="753120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50"/>
          <p:cNvGrpSpPr/>
          <p:nvPr/>
        </p:nvGrpSpPr>
        <p:grpSpPr>
          <a:xfrm>
            <a:off x="2400480" y="2933640"/>
            <a:ext cx="4336920" cy="517680"/>
            <a:chOff x="2400480" y="2933640"/>
            <a:chExt cx="4336920" cy="517680"/>
          </a:xfrm>
        </p:grpSpPr>
        <p:sp>
          <p:nvSpPr>
            <p:cNvPr id="247" name="Oval 51"/>
            <p:cNvSpPr/>
            <p:nvPr/>
          </p:nvSpPr>
          <p:spPr>
            <a:xfrm>
              <a:off x="240048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ukaryotic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52"/>
            <p:cNvSpPr/>
            <p:nvPr/>
          </p:nvSpPr>
          <p:spPr>
            <a:xfrm>
              <a:off x="401652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terotroph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3"/>
            <p:cNvSpPr/>
            <p:nvPr/>
          </p:nvSpPr>
          <p:spPr>
            <a:xfrm>
              <a:off x="563256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ssential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Oval 54"/>
          <p:cNvSpPr/>
          <p:nvPr/>
        </p:nvSpPr>
        <p:spPr>
          <a:xfrm>
            <a:off x="2400480" y="4008600"/>
            <a:ext cx="1104840" cy="517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 cell wal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vertebrate feeding and diges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vertebrates can either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in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x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igestio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acellular meaning that food is digested within each individual cell of th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Spong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means that digestion occurs inside a digestive tract or cavity, then absorbed into the body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mollusks, worms, arthropods, echinoder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bio_ch29_4280"/>
          <p:cNvPicPr/>
          <p:nvPr/>
        </p:nvPicPr>
        <p:blipFill>
          <a:blip r:embed="rId1"/>
          <a:stretch/>
        </p:blipFill>
        <p:spPr>
          <a:xfrm>
            <a:off x="1338120" y="1538280"/>
            <a:ext cx="6467760" cy="41464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6350040" y="415440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60960" y="2978280"/>
            <a:ext cx="9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098880" y="542304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692440" y="392904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605240" y="2509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078200" y="531504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618080" y="516888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7589880" y="27734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316880" y="365616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1639440" y="288144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185840" y="4979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921200" y="43610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7288200" y="2565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6915600" y="23763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5734440" y="4292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6623640" y="21891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6108120" y="19098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6409800" y="551016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6766560" y="52959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7312320" y="46782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577200" y="33814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4960800" y="5329080"/>
            <a:ext cx="134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igestive systems of many vertebrates have organs that are well adapted for different feeding hab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rnivores, such as sharks have short digestive tracts that produce fast-acting digestive enzy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rbivores have long intestines that have large colonies of bacteria that help in digesting the cellulose fibers in plant tissu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bio_ch33_4548"/>
          <p:cNvPicPr/>
          <p:nvPr/>
        </p:nvPicPr>
        <p:blipFill>
          <a:blip r:embed="rId1"/>
          <a:stretch/>
        </p:blipFill>
        <p:spPr>
          <a:xfrm>
            <a:off x="414360" y="1955880"/>
            <a:ext cx="8315280" cy="37148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702720" y="1954080"/>
            <a:ext cx="10922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a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000880" y="1751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3074400" y="1751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771800" y="17510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115680" y="17510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7670520" y="1751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04480" y="990720"/>
            <a:ext cx="8039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The Digestive Systems of Vertebrates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26967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quatic animals have natural moist respiratory surfaces, and some respire through diffusion through their skin and others use gi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28600" y="4373640"/>
            <a:ext cx="82296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e are many different respiratory specialized organs in terrestrial invertebrat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use parallel book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use openings called spiracles where air enters the body and passes through a network of tracheal tubes for gas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nails have a mantel cavity that is lined with moist tissue and an extensive surface area of blood vess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0492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04920" y="83808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4e6d"/>
                </a:solidFill>
                <a:latin typeface="Calibri"/>
              </a:rPr>
              <a:t>Respiration in anim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bio_ch29_4281"/>
          <p:cNvPicPr/>
          <p:nvPr/>
        </p:nvPicPr>
        <p:blipFill>
          <a:blip r:embed="rId1"/>
          <a:stretch/>
        </p:blipFill>
        <p:spPr>
          <a:xfrm>
            <a:off x="552600" y="1725480"/>
            <a:ext cx="8038800" cy="39402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601560" y="3484440"/>
            <a:ext cx="139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5334120" y="336060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219480" y="53830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325600" y="178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960640" y="2220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2494800" y="318456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636080" y="5361120"/>
            <a:ext cx="5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417120" y="49417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398560" y="16732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he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b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171920" y="3186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ra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33120"/>
            <a:ext cx="67057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Respir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respiratory syste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rdates have one of two basic structures for respira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lls – for aquatic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: tunicates, fish and amphibi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ungs - for terrestrial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s: adult amphibians, reptiles, birds, and mamma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9:09:12Z</dcterms:created>
  <dc:creator>AISD</dc:creator>
  <dc:description/>
  <dc:language>en-US</dc:language>
  <cp:lastModifiedBy>د أشرف مشالي</cp:lastModifiedBy>
  <dcterms:modified xsi:type="dcterms:W3CDTF">2013-09-02T10:25:08Z</dcterms:modified>
  <cp:revision>21</cp:revision>
  <dc:subject/>
  <dc:title>Animal Kingdom: Comparative Anatomy</dc:title>
</cp:coreProperties>
</file>