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C9BB-9723-4447-91B9-3E57E3CFA8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AFF6-972B-414C-915E-0D3BCCCAE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07FDA4A-C5A3-4EC0-9210-B0CAABB476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343-CAE4-4F48-BF53-2C60FDA1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792-6BAD-4A74-99E6-97603093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568-9E85-47A1-B3C1-407E33B8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B2D-3BB3-4A07-9CC9-3BD2EA78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6C6-55F5-4BC0-AC96-84C09885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147-A493-4BBE-AED1-EC4BDBEE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806-C56E-42EB-866C-ADD4ACCE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08D-9EDA-4508-B94D-FD920F80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C4E-8BDD-43FA-B6EF-08355901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361-2ED1-43C5-A310-0C1CBDB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CB7-434A-4EAC-B9EE-21448AE0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08F-9D39-493D-A992-83B58453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6FA0-75F6-4DDA-9AF5-885CD81244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C75C-1B9F-42AF-A681-D230C23007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0" y="2098440"/>
            <a:ext cx="4576680" cy="525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752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49720" y="348156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057560"/>
            <a:ext cx="5268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0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Gene to Protein (Transcri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AE9A-25D0-42A4-91B7-EEBC035F67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1920" y="75960"/>
            <a:ext cx="312444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on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rm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960" y="259920"/>
            <a:ext cx="464796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RNA polymerase moves along the DNA, i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tw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ouble helix, 10 to 20 bases 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zyme adds nucleotides to the 3’ end of the growing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ind the point of RNA synthesis, the double helix re-forms and the RNA molecule moves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ion proceeds   until after the RNA   polymerase transcribes 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min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uence  in th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800600" y="914400"/>
            <a:ext cx="4149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686800" cy="255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9933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1104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3657600"/>
            <a:ext cx="9067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68680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3’ end, an enzyme adds 50 to 250 adenine nucleotides,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ly(A) tail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ly(A) tail facilitate the export of mRNA from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oval of large portions of the RNA molecule that is initially synthesized (This cut-and-paste job,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splic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1104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7869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9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20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22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25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8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31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34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7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40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45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7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50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53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56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9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62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65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70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71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74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7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80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83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86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91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92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95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8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201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206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9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10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13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16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9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22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25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8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35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36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9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42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45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8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51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54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7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60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63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66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9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72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75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8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81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84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7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93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3048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d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plet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block of three consecutive nucleotide bases that specify a particular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 cod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odon that specifies the start of RNA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p codon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don that specifies the end of RNA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NA polymeras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NA transcription enzyme that first separates the DNA strands at the suitable point then start to add nucleotides to the 3’ end of the growing RNA polym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il comp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cription unit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cific sequences of nucleotides along the DNA that marks where RNA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motor 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fic short sequence on DNA at which RNA polymerase attaches and initiates transcription at the beginning of the transcription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pecific short sequence on DNA at whi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NA transcription ends (the end of the ge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38AE-8AE7-4341-B0C9-021679784FA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495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8DA6-B5B1-4C2D-912C-42EEB9BC6C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1440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R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transcription and translation are the two main processing that link gene to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ion is the DNA-directed synthesis of RNA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oser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s of an RNA Tran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Polymerase Binding and Initiation of Tran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ion of the RNA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of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genetic code, nucleotide triplets specify amino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cells modify RNA after tran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1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o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93840" y="237960"/>
            <a:ext cx="8292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NA transcription and translation are the two main processing that link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ene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t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81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83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86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88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438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lets 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 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, nucleotide triplets 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76320" y="2895480"/>
            <a:ext cx="487656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zalmusawi</cp:lastModifiedBy>
  <dcterms:modified xsi:type="dcterms:W3CDTF">2016-01-25T07:29:56Z</dcterms:modified>
  <cp:revision>1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