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5C27-A5DA-4B45-9DAF-447EDE0116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B71B-B82C-4637-862C-0BC0CC0756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9D3E51E-5963-4755-A5E7-F029DA81263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4CD-FC47-4236-A2CA-366F447E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4B7-0D21-4E64-B105-31C4966F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14B-646F-45DE-8EC0-F5918287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C32-BBCD-498F-B2DB-0B161AC3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040-1E0D-4D97-8B88-3C6B08FC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9C4-2390-4135-A879-2351F71A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86D-9011-447B-89EC-D9F76029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FAED-E5C0-41F0-A778-A4A27961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875-B066-4C46-913F-F44D23A5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38D-4245-410B-9B94-30F39922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749-91D2-4B7D-B0FF-B4271E3C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359-AF43-4348-9923-7B71D22F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A4C7-DF27-4649-923F-9FB7E38C06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B4EE-88A1-4813-A57F-40FE81290D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0" y="2098440"/>
            <a:ext cx="4576680" cy="525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752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49720" y="348156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06720" y="4057560"/>
            <a:ext cx="5268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20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 Ex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Gene to Protein (Transcri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2860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668F-04B3-4B79-A995-991F6093DD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1920" y="75960"/>
            <a:ext cx="3124440" cy="58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lon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ermin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960" y="259920"/>
            <a:ext cx="4647960" cy="60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RNA polymerase moves along the DNA, it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ntw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double helix, 10 to 20 bases 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zyme adds nucleotides to the 3’ end of the growing str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ind the point of RNA synthesis, the double helix re-forms and the RNA molecule moves a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cription proceeds   until after the RNA   polymerase transcribes  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rmin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quence  in the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800600" y="914400"/>
            <a:ext cx="4149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280" y="837720"/>
            <a:ext cx="8686800" cy="255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9933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1104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3657600"/>
            <a:ext cx="9067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837720"/>
            <a:ext cx="868680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3’ end, an enzyme adds 50 to 250 adenine nucleotides, t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ly(A) tail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ly(A) tail facilitate the export of mRNA from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moval of large portions of the RNA molecule that is initially synthesized (This cut-and-paste job, call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 splic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1104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7869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9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20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22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25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8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31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34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7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40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45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7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50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53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56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9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62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65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70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71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74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7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80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83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86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91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92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95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8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201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206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9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10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13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16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9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22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25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8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35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36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9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42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45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8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51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54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7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60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63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66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9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72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75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8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81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84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7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93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3048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5960" y="9140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d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plet 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block of three consecutive nucleotide bases that specify a particular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t cod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odon that specifies the start of RNA trans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op codon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don that specifies the end of RNA trans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NA polymeras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NA transcription enzyme that first separates the DNA strands at the suitable point then start to add nucleotides to the 3’ end of the growing RNA polym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til comple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cription unit (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cific sequences of nucleotides along the DNA that marks where RNA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motor 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fic short sequence on DNA at which RNA polymerase attaches and initiates transcription at the beginning of the transcription un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a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specific short sequence on DNA at whi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NA transcription ends (the end of the ge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B975-B4D7-48D3-B853-7898F929B319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495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8CF6-E03D-42DA-97A7-01DCFFB741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914400"/>
            <a:ext cx="9067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R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 transcription and translation are the two main processing that link gene to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cription is the DNA-directed synthesis of RNA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oser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s of an RNA Transcri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 Polymerase Binding and Initiation of Transcri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ongation of the RNA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on of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genetic code, nucleotide triplets specify amino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cells modify RNA after transcri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"/>
          <p:cNvPicPr/>
          <p:nvPr/>
        </p:nvPicPr>
        <p:blipFill>
          <a:blip r:embed="rId1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3124080" y="228600"/>
            <a:ext cx="391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0880" y="1143000"/>
            <a:ext cx="8458200" cy="4800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omes thus help to form polypept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251460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s of 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93840" y="237960"/>
            <a:ext cx="8292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NA transcription and translation are the two main processing that link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gene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to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81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83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86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88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4384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lets 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 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, nucleotide triplets 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76320" y="2895480"/>
            <a:ext cx="487656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zalmusawi</cp:lastModifiedBy>
  <dcterms:modified xsi:type="dcterms:W3CDTF">2016-01-25T07:29:56Z</dcterms:modified>
  <cp:revision>1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F1E7ADC-ED45-4FB5-8645-741C441AD272</vt:lpwstr>
  </property>
  <property fmtid="{D5CDD505-2E9C-101B-9397-08002B2CF9AE}" pid="3" name="ArticulatePath">
    <vt:lpwstr>Lecture 20</vt:lpwstr>
  </property>
</Properties>
</file>