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8.png" ContentType="image/png"/>
  <Override PartName="/ppt/media/image17.png" ContentType="image/png"/>
  <Override PartName="/ppt/media/image1.png" ContentType="image/png"/>
  <Override PartName="/ppt/media/image3.jpeg" ContentType="image/jpeg"/>
  <Override PartName="/ppt/media/image19.png" ContentType="image/png"/>
  <Override PartName="/ppt/media/image16.gif" ContentType="image/gif"/>
  <Override PartName="/ppt/media/image2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C457-40DB-410E-A442-B7C171C94AB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4A035BFE-1F6C-4D00-B5C4-E1EFBDB05A5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AA7D-86BE-498D-AB02-470452E6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D25-62B8-4DF6-AF04-89BEA777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544E-A8BE-4A0E-A28F-9978FCF9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CA3B-6F97-4228-99AD-4D215140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F53B-6BEB-45CC-8A6A-67F27802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58CB-A139-4F10-9A39-A5391E85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45F-208B-4D56-AD36-0FFF1CB6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448-FD29-4542-84C7-D4FF7CA2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779-EC2C-4833-952D-1B64C6E0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E709-CAED-4AC3-BE4A-2E3EEA50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5FF-3764-482B-9809-98CC2930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984-C872-45D9-B0E5-7C9D3E6A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6D5E-F1E0-45DE-ADED-0E2FB2C8DC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F67C-B46D-4696-BA96-539C66F8C2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286000" y="895320"/>
            <a:ext cx="4724280" cy="4597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- The Synthesis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295280" y="228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rcRect l="0" t="0" r="0" b="4466"/>
          <a:stretch/>
        </p:blipFill>
        <p:spPr>
          <a:xfrm>
            <a:off x="4267080" y="1536840"/>
            <a:ext cx="4713480" cy="51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rcRect l="4444" t="5184" r="4444" b="4101"/>
          <a:stretch/>
        </p:blipFill>
        <p:spPr>
          <a:xfrm>
            <a:off x="0" y="2209680"/>
            <a:ext cx="4267080" cy="3643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76320" y="1549440"/>
            <a:ext cx="8915400" cy="5181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75680" y="6129360"/>
            <a:ext cx="75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ttp://www.sumanasinc.com/webcontent/animations/content/transl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42560" y="6434280"/>
            <a:ext cx="83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utation_by_base_substitu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0" t="2556" r="19" b="6837"/>
          <a:stretch/>
        </p:blipFill>
        <p:spPr>
          <a:xfrm>
            <a:off x="0" y="228744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727520" y="47242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57200" y="5562720"/>
            <a:ext cx="792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ree and bound ribosomes are both active participants in prote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76320"/>
            <a:ext cx="86868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rmin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Occurs when one of the thre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p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ease f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ُحر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he stop codon and hydrolyzes the bond between the polypeptide and its tRNA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ees the polypeptide and the translation complex disassem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bosome requires less than a minute to translate an average-sized mRNA into a polypept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ibosom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trail along the sam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 single mRNA is used to mak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ny cop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polypeptide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0" t="0" r="0" b="5964"/>
          <a:stretch/>
        </p:blipFill>
        <p:spPr>
          <a:xfrm>
            <a:off x="76320" y="3200400"/>
            <a:ext cx="899136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676520" y="3729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lyriboso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ريبوزومات متعد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mRNA attaches to a ribosome at the AUG, which i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begi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transfer RNA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onds with the correct amino acid and becomes “charged.” (in the cytopla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The tRNA carrie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mino 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ribosome. Each tRNA has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se bases are complementary to a codon on the mRNA strand. The tRNA brings the correct amino acid to the ribo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ribosome moves along the mRNA and adds more amino acids to the grow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52280" y="4724280"/>
            <a:ext cx="5410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The process continues unti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bo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hes one of the thre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p cod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mRNA, and then the  ribosome falls off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The result i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in or protein that is ready for use 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3880" y="152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mRNA Transl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6172200" y="838080"/>
            <a:ext cx="2666880" cy="5943600"/>
            <a:chOff x="6172200" y="838080"/>
            <a:chExt cx="2666880" cy="5943600"/>
          </a:xfrm>
        </p:grpSpPr>
        <p:pic>
          <p:nvPicPr>
            <p:cNvPr id="103" name="Picture 5" descr=""/>
            <p:cNvPicPr/>
            <p:nvPr/>
          </p:nvPicPr>
          <p:blipFill>
            <a:blip r:embed="rId1"/>
            <a:srcRect l="3780" t="0" r="0" b="8356"/>
            <a:stretch/>
          </p:blipFill>
          <p:spPr>
            <a:xfrm>
              <a:off x="6172200" y="2819520"/>
              <a:ext cx="2666880" cy="19904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4" name="Picture 5" descr=""/>
            <p:cNvPicPr/>
            <p:nvPr/>
          </p:nvPicPr>
          <p:blipFill>
            <a:blip r:embed="rId2"/>
            <a:srcRect l="0" t="5263" r="2945" b="0"/>
            <a:stretch/>
          </p:blipFill>
          <p:spPr>
            <a:xfrm>
              <a:off x="6172200" y="4876920"/>
              <a:ext cx="2666880" cy="1904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5" name="Picture 9" descr=""/>
            <p:cNvPicPr/>
            <p:nvPr/>
          </p:nvPicPr>
          <p:blipFill>
            <a:blip r:embed="rId3"/>
            <a:stretch/>
          </p:blipFill>
          <p:spPr>
            <a:xfrm>
              <a:off x="6172200" y="838080"/>
              <a:ext cx="2666880" cy="1895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6" name="Text Box 10"/>
            <p:cNvSpPr/>
            <p:nvPr/>
          </p:nvSpPr>
          <p:spPr>
            <a:xfrm>
              <a:off x="6172200" y="8380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6172200" y="2819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6172200" y="59436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 flipV="1">
            <a:off x="393840" y="1066320"/>
            <a:ext cx="5778360" cy="334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imatio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-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aProteinSyn"/>
          <p:cNvPicPr/>
          <p:nvPr/>
        </p:nvPicPr>
        <p:blipFill>
          <a:blip r:embed="rId1"/>
          <a:stretch/>
        </p:blipFill>
        <p:spPr>
          <a:xfrm>
            <a:off x="1752480" y="1905120"/>
            <a:ext cx="5181840" cy="2733480"/>
          </a:xfrm>
          <a:prstGeom prst="rect">
            <a:avLst/>
          </a:prstGeom>
          <a:ln w="0">
            <a:noFill/>
          </a:ln>
        </p:spPr>
      </p:pic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70CE-E019-4179-8456-BB5247E440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rcRect l="0" t="3822" r="0" b="8819"/>
          <a:stretch/>
        </p:blipFill>
        <p:spPr>
          <a:xfrm>
            <a:off x="3048120" y="3301920"/>
            <a:ext cx="6095880" cy="3556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762760" cy="25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hanges in the genetic material of a cell (or vir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clude large-scale mutations in which long segments of DNA are affected (e.g.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locations, duplications, and inver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int mutation </a:t>
            </a:r>
            <a:r>
              <a:rPr b="0" lang="ar-EG" sz="2800" spc="-1" strike="noStrike" u="sng">
                <a:solidFill>
                  <a:srgbClr val="000000"/>
                </a:solidFill>
                <a:uFillTx/>
                <a:latin typeface="Arial"/>
              </a:rPr>
              <a:t>طفرة موضع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is a chemical change in just one base pair of a g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occur in cells producing gametes, they may be transmitted to future generations (offspr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tations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طفرات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ffect protein structure an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3451320"/>
            <a:ext cx="266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.g.,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sickle-cell disease is caused by a mutation of a single base pair in the gene that codes for one of the polypeptides of hemoglob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change in a single nucleotide from T to A in the DNA template leads to an abnormal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227C-D909-4D56-9E5C-0BE05C0D74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1417320"/>
            <a:ext cx="4572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 point mutation that results in replacement of a pair of complimentary nucleotides with another nucleotide p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ent mu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me base-pair substitutions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int mu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have little or no impac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أثير واض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tein function which lead to switches from one amino acid to another with similar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base-pair substitutions cause a detectable chang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ملحو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protein which impact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ؤثر على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is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point mutation that still code for an amino acid but change the resulting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ge an amino acid codon in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top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early always leading to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functional prote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بروتين غير وظيف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71600" y="228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Base-pair substitu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ستبدال زوج من ال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4594320" y="1066680"/>
            <a:ext cx="4549680" cy="579132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E85E-7C29-4D15-A10D-627728B96A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320" y="1527120"/>
            <a:ext cx="4572000" cy="48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utation in which additions or losses of nucleotide pairs occurs and caus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meshif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زا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have a disastr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 on the resulting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frameshift occurs, all the nucleotides downstream of the deletion or insertion will be improperly grouped into 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 will be extensive missense, ending sooner or later in nonsense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mature term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قف مبكر للترجم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14300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Insertions and 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ضافة أو حزف 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441"/>
          <a:stretch/>
        </p:blipFill>
        <p:spPr>
          <a:xfrm>
            <a:off x="4718160" y="1143000"/>
            <a:ext cx="4349520" cy="563868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97B8-19C7-4C22-BF2D-7FCD18959B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2280" y="177480"/>
            <a:ext cx="8839440" cy="65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can occur in a number of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 can occur during DNA replication, DNA repair, or DNA re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an lead to base-pair substitutions, insertions, or deletions, as well as mutations affecting longer stretches of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ntaneous mu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utage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ـببات الطف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are chemical or physical agents that interact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فاعل 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to cause m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 high-energy radiation lik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-r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traviolet l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شعة فوق البنفس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m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operate in several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s are base analogues that may be substituted into DNA, but that pair incorrectly during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utagens interfere with DNA replication by inserting into DNA and distorting the double hel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others cause chemical changes in bases that change their pairing proper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893F-2DB2-4FEB-8F1C-BA62700871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886200" y="1143000"/>
            <a:ext cx="50767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3657600" cy="44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ocess of translation, a cell sends a serie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ong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ق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s amino acids from the cytoplasm to a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s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no acid carried by tRNA to the growing end of the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152280"/>
            <a:ext cx="5791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lations is the RNA-directed synthesis of a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65C9-18F9-4136-ADD5-3DFDEA1EF00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each type of tRNA links a mRNA codon with the appropriat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RNA arriving at the ribosome carries a specific amino acid at one end and has a specific nucleotide triplet, 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othe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-pairs with a complementary codon on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the codon on mRNA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a tRNA with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A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nticodon and carrying phenyalanine will bin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on by codon, tRNAs deposit amino acids in the prescribed order and the ribosome joins them into a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32280" y="76320"/>
            <a:ext cx="5211720" cy="647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23888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8"/>
          <p:cNvGrpSpPr/>
          <p:nvPr/>
        </p:nvGrpSpPr>
        <p:grpSpPr>
          <a:xfrm>
            <a:off x="1066680" y="380880"/>
            <a:ext cx="7848720" cy="5867280"/>
            <a:chOff x="1066680" y="380880"/>
            <a:chExt cx="7848720" cy="5867280"/>
          </a:xfrm>
        </p:grpSpPr>
        <p:pic>
          <p:nvPicPr>
            <p:cNvPr id="70" name="Picture 5" descr=""/>
            <p:cNvPicPr/>
            <p:nvPr/>
          </p:nvPicPr>
          <p:blipFill>
            <a:blip r:embed="rId1"/>
            <a:srcRect l="1815" t="7773" r="5256" b="7798"/>
            <a:stretch/>
          </p:blipFill>
          <p:spPr>
            <a:xfrm>
              <a:off x="1066680" y="426960"/>
              <a:ext cx="7848720" cy="58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6"/>
            <p:cNvSpPr/>
            <p:nvPr/>
          </p:nvSpPr>
          <p:spPr>
            <a:xfrm>
              <a:off x="1066680" y="380880"/>
              <a:ext cx="502920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6095880" y="1066680"/>
              <a:ext cx="762120" cy="167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562360" cy="62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NA molecu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ranscribed from DNA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t reaches the cytoplasm, each tRNA is used repeatedly for the following functions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pick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حم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s relevant amino acid in the cytoso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deposi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mino acid at the ribos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return to the cytosol to pick up another copy of tha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i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مُعاكس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ome tRNAs recognize more than one co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725040"/>
            <a:ext cx="83822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bosom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tein mak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the coupling of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RNA anticodons with mRNA 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ibosome h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all subun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d in the 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is composed of proteins and ribosomal RNA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most abundant RNA 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R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cribed in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bind to speci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 to form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units in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exit the nucle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clear p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units join to for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unctional 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when they attach to an mR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B1A0-CE6B-4DD8-99DD-2C9488C288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848360" cy="29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ibosome has a binding site for mRNA and three binding sites for tRNA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olds the tRNA carrying the growing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ries the tRNA with the nex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which the discharged tRNA leave the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7294" t="65398" r="6200" b="3357"/>
          <a:stretch/>
        </p:blipFill>
        <p:spPr>
          <a:xfrm>
            <a:off x="4952880" y="3581280"/>
            <a:ext cx="3886200" cy="246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rcRect l="8111" t="36384" r="5172" b="35981"/>
          <a:stretch/>
        </p:blipFill>
        <p:spPr>
          <a:xfrm>
            <a:off x="304920" y="3581280"/>
            <a:ext cx="44956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F716-6256-4446-BD5A-B7618FF8A3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1668" t="3983" r="0" b="10797"/>
          <a:stretch/>
        </p:blipFill>
        <p:spPr>
          <a:xfrm>
            <a:off x="152280" y="3733920"/>
            <a:ext cx="8077320" cy="2889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876312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occurs in three stag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- initi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- elong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استطالة البنائ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lypeptide chai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- termin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يق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iti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brings together mRNA, a tRNA (with the first amino acid) and the two ribosomal subunits (large &amp; sm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a small ribosomal subunit binds with mRNA and a special initiator tRNA, which carrie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thion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attaches to th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tart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itiation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ring in the large subunit such that the initiator tRNA occupies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077320" y="55627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7.17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Page 3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76720" y="4282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uanosine tri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33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ethio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ong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series of three step cycles as each amino acid is added to the proceeding one in 3 step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 recogni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عرف على الشفر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ongation 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ists hydrogen bonding between the mRNA codon unde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with the corresponding anticodon of tRNA carrying the appropri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ناس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tep requires the hydrolysis of two guanosine triphosphate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T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ptide bond form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lecul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lyz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formation of a peptide bond between the polypeptide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with the new amino aci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. This step separates                                                               the tRNA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from the                                                                             growing polypeptide chain and                                                                     transfers the chain, now one                                                                              amino acid longer, to the tRNA                                                                            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lo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المكا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the ribosome moves the tRNA with                                                                           the attached polypeptide from                                                                           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to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B181-086F-4E8F-9FF6-4AE7C4E91D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8476" t="65304" r="4509" b="6854"/>
          <a:stretch/>
        </p:blipFill>
        <p:spPr>
          <a:xfrm>
            <a:off x="4724280" y="388620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04920" y="914400"/>
            <a:ext cx="8381880" cy="5891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838188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e steps of elongation continue codon by codon to add amino acids until the polypeptide chain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6:19:58Z</dcterms:created>
  <dc:creator>User</dc:creator>
  <dc:description/>
  <dc:language>en-US</dc:language>
  <cp:lastModifiedBy>ralajmi</cp:lastModifiedBy>
  <dcterms:modified xsi:type="dcterms:W3CDTF">2014-02-02T04:49:30Z</dcterms:modified>
  <cp:revision>17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A14E7B8-F233-4B18-AC24-398BCEBF4C8F</vt:lpwstr>
  </property>
  <property fmtid="{D5CDD505-2E9C-101B-9397-08002B2CF9AE}" pid="3" name="ArticulatePath">
    <vt:lpwstr>Lecture 21</vt:lpwstr>
  </property>
</Properties>
</file>