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5A1-1339-476C-B000-498C7B7FDC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75F1-5BBB-4DBD-9311-C7B10AC3FB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7B30-D9CA-475F-8635-C5ECDE5101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FBAD-34BF-481B-BCD2-FDF051A140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A786-8D4E-4B18-9B59-4A4EA6A5B7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FB7-141B-46F6-9359-6C79EE9657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C7A-5A21-42EB-9583-063DEA0229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044-EEDD-4996-BE95-8D70ABA931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4EC5-3E9A-4F8D-A0E5-F148363213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FC9E-35AA-4E71-977D-220C4EEB5A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44A9-37F9-46FA-8283-D5BE86BD12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643-CF5B-474D-8F3C-44BA84AA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005-FEC5-4FF2-90F6-C2069C9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51D-8720-495A-A4DB-5F5FB52D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ADE-A767-4F8D-9E07-30C6465A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AEA-5BDF-48D7-A793-8E6EA6D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7DC-0309-4BA7-A7A8-C6566C64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1BC-5615-4C86-8F00-D2EB8C4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3D5-76F6-4A9A-9E99-AD8FA23C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BF9-8DBE-4998-B6CC-2DF3D37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53D-3A63-4DAF-9196-7725498A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BEF-9EC8-40C5-931A-4DDD442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A34-444F-42A6-B5C4-9F713C6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541-BA33-49A5-BDBC-87003C8ABA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833640" y="1523880"/>
              <a:ext cx="5158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3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3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0"/>
            <p:cNvSpPr/>
            <p:nvPr/>
          </p:nvSpPr>
          <p:spPr>
            <a:xfrm>
              <a:off x="2286000" y="228600"/>
              <a:ext cx="4648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5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HE STRUCTURE AND FUNCTION OF MACRO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152280" y="1676520"/>
              <a:ext cx="586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3300"/>
                  </a:solidFill>
                  <a:uFillTx/>
                  <a:latin typeface="Arial"/>
                </a:rPr>
                <a:t>4- Nucleic Acids: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The Informational Poly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152280" y="3375000"/>
              <a:ext cx="48769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cleic acids store and transmit hereditary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nucleic acid strand is a polymer of nucleot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 startAt="3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heritance is based on replication of the DNA       double hel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4"/>
          <p:cNvSpPr/>
          <p:nvPr/>
        </p:nvSpPr>
        <p:spPr>
          <a:xfrm>
            <a:off x="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80 -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nucleic acid strand is                               a polymer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 الأحماض النوو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057400"/>
            <a:ext cx="8991360" cy="43178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7575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5, Page 2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base pairs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90960" y="647712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30, Page 8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60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284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287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290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295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298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01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04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07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10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13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16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6"/>
          <p:cNvGrpSpPr/>
          <p:nvPr/>
        </p:nvGrpSpPr>
        <p:grpSpPr>
          <a:xfrm>
            <a:off x="2438280" y="4495680"/>
            <a:ext cx="3505320" cy="1298160"/>
            <a:chOff x="2438280" y="4495680"/>
            <a:chExt cx="3505320" cy="1298160"/>
          </a:xfrm>
        </p:grpSpPr>
        <p:sp>
          <p:nvSpPr>
            <p:cNvPr id="326" name="Text Box 51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4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5960" y="93996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9047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NA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04920" y="76212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6505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69288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8077320" y="914400"/>
            <a:ext cx="5331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1752480" y="13716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6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8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9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0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1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1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2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2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35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5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4"/>
            <p:cNvSpPr/>
            <p:nvPr/>
          </p:nvSpPr>
          <p:spPr>
            <a:xfrm>
              <a:off x="609480" y="914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5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6"/>
          <p:cNvGrpSpPr/>
          <p:nvPr/>
        </p:nvGrpSpPr>
        <p:grpSpPr>
          <a:xfrm>
            <a:off x="127080" y="952560"/>
            <a:ext cx="609480" cy="5207040"/>
            <a:chOff x="127080" y="952560"/>
            <a:chExt cx="609480" cy="5207040"/>
          </a:xfrm>
        </p:grpSpPr>
        <p:sp>
          <p:nvSpPr>
            <p:cNvPr id="161" name="Line 97"/>
            <p:cNvSpPr/>
            <p:nvPr/>
          </p:nvSpPr>
          <p:spPr>
            <a:xfrm flipV="1">
              <a:off x="304920" y="137124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127080" y="5639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Arial"/>
                </a:rPr>
                <a:t>5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99"/>
            <p:cNvSpPr/>
            <p:nvPr/>
          </p:nvSpPr>
          <p:spPr>
            <a:xfrm>
              <a:off x="127080" y="952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7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170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173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187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191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192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99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03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06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09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14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17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720" y="653724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6.6, Page 2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28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29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32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44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260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263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rcRect l="0" t="0" r="0" b="2785"/>
          <a:stretch/>
        </p:blipFill>
        <p:spPr>
          <a:xfrm>
            <a:off x="76320" y="34920"/>
            <a:ext cx="8915400" cy="64245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51920" y="646128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9, Page 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Ahmed</cp:lastModifiedBy>
  <dcterms:modified xsi:type="dcterms:W3CDTF">2009-02-19T19:42:46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