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341-E101-49B9-B8FC-D9261F5961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EC1-C30C-4B63-9234-7F196BB032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CDA-89D4-43DB-BA44-6306A422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CE3-0E55-4EC0-969E-614ABAE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F10-2AA3-4FDA-BA0A-D09E8F01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6BD-C4D5-43B3-B4B6-AB9D70D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86F-48EE-4AEC-A3DB-FD713729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E9D-56D0-4CA0-B39F-5B523164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FD2-52FD-4F60-AB04-1F9B073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58E-59F9-4C0E-93CE-ECE947E3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BFC-BA2E-41AF-BAAC-F5409D2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B52-C59E-468C-857D-757752A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CEE-9CBB-46A7-AAE3-E1D55FD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810-939D-48FA-AB57-1C30683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5392-E8D5-4C2D-8D94-F57A64A3B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5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51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7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70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9" name="Line 6"/>
          <p:cNvSpPr/>
          <p:nvPr/>
        </p:nvSpPr>
        <p:spPr>
          <a:xfrm>
            <a:off x="8153280" y="6858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1752480" y="11430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393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396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399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404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407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410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413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416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419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422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425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57"/>
          <p:cNvGrpSpPr/>
          <p:nvPr/>
        </p:nvGrpSpPr>
        <p:grpSpPr>
          <a:xfrm>
            <a:off x="2438280" y="5334120"/>
            <a:ext cx="2895840" cy="459720"/>
            <a:chOff x="2438280" y="5334120"/>
            <a:chExt cx="2895840" cy="459720"/>
          </a:xfrm>
        </p:grpSpPr>
        <p:sp>
          <p:nvSpPr>
            <p:cNvPr id="435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58"/>
          <p:cNvSpPr/>
          <p:nvPr/>
        </p:nvSpPr>
        <p:spPr>
          <a:xfrm>
            <a:off x="7621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9"/>
          <p:cNvSpPr/>
          <p:nvPr/>
        </p:nvSpPr>
        <p:spPr>
          <a:xfrm>
            <a:off x="838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447920" y="2286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1136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hree parts of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covalent and hydrogen bonds in the structur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the base-pairing rules to the structur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6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7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8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1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1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1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42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5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6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71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8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6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90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91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93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5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8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9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10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12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1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22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5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7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40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43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8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5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9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2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8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81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5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9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300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7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11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4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7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22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5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كلية العوم</cp:lastModifiedBy>
  <dcterms:modified xsi:type="dcterms:W3CDTF">2013-01-27T05:12:08Z</dcterms:modified>
  <cp:revision>95</cp:revision>
  <dc:subject/>
  <dc:title>Slide 1</dc:title>
</cp:coreProperties>
</file>