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5.wmf" ContentType="image/x-wmf"/>
  <Override PartName="/ppt/media/image18.png" ContentType="image/png"/>
  <Override PartName="/ppt/media/image17.png" ContentType="image/png"/>
  <Override PartName="/ppt/media/image1.png" ContentType="image/png"/>
  <Override PartName="/ppt/media/image3.jpeg" ContentType="image/jpeg"/>
  <Override PartName="/ppt/media/image19.png" ContentType="image/png"/>
  <Override PartName="/ppt/media/image16.gif" ContentType="image/gif"/>
  <Override PartName="/ppt/media/image2.png" ContentType="image/png"/>
  <Override PartName="/ppt/media/image14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FB641-D278-4545-A202-258C0B894118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1031"/>
          <p:cNvSpPr/>
          <p:nvPr/>
        </p:nvSpPr>
        <p:spPr>
          <a:xfrm>
            <a:off x="3876840" y="8694720"/>
            <a:ext cx="29811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fld id="{A0546C30-1EFB-4433-9F46-74CA50FEA786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30400" y="674640"/>
            <a:ext cx="4597200" cy="344808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893880" y="4346640"/>
            <a:ext cx="5070240" cy="41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0B229-65FC-487E-ACBC-AC64EAF88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6268E-016D-4B9D-A74B-8BDBED417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9E4C9-2A32-495B-9BC1-CFE765E8F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C2E00-B4BB-42A4-A282-6C8EFDBF6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E09A4-C87F-46E6-8F45-6ADD4961C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42244-DC68-49D8-AF69-3029A7AA7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3F76D-A2DB-4A18-9632-EF038EEC9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71B8B-7566-4584-AA75-DB0A32C55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F2574-4F00-4D84-9508-4DB914C09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A7139-171E-4E3C-B224-364FA2652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282B1-90EE-49B4-BFE8-818E193AD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5260F-2A39-450E-B02A-4BF2ED850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8BED9-111C-433B-A779-6F213CEE334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wmf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3"/>
          <p:cNvSpPr/>
          <p:nvPr/>
        </p:nvSpPr>
        <p:spPr>
          <a:xfrm>
            <a:off x="6553080" y="60958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1C18A-8471-4270-AEBB-A8719A9963C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0" y="12600"/>
            <a:ext cx="9144000" cy="144792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00ffcc"/>
              </a:gs>
              <a:gs pos="100000">
                <a:srgbClr val="ffff99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"/>
          <p:cNvPicPr/>
          <p:nvPr/>
        </p:nvPicPr>
        <p:blipFill>
          <a:blip r:embed="rId1"/>
          <a:stretch/>
        </p:blipFill>
        <p:spPr>
          <a:xfrm>
            <a:off x="7729560" y="0"/>
            <a:ext cx="1262160" cy="16002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6"/>
          <p:cNvSpPr/>
          <p:nvPr/>
        </p:nvSpPr>
        <p:spPr>
          <a:xfrm>
            <a:off x="2286000" y="895320"/>
            <a:ext cx="4724280" cy="459720"/>
          </a:xfrm>
          <a:prstGeom prst="rect">
            <a:avLst/>
          </a:prstGeom>
          <a:solidFill>
            <a:srgbClr val="0000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B)- The Synthesis of Prote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7"/>
          <p:cNvSpPr/>
          <p:nvPr/>
        </p:nvSpPr>
        <p:spPr>
          <a:xfrm>
            <a:off x="1295280" y="228600"/>
            <a:ext cx="68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ROM GENE TO PROTE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9" descr=""/>
          <p:cNvPicPr/>
          <p:nvPr/>
        </p:nvPicPr>
        <p:blipFill>
          <a:blip r:embed="rId2"/>
          <a:srcRect l="0" t="0" r="0" b="4466"/>
          <a:stretch/>
        </p:blipFill>
        <p:spPr>
          <a:xfrm>
            <a:off x="4267080" y="1536840"/>
            <a:ext cx="4713480" cy="51051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0" descr=""/>
          <p:cNvPicPr/>
          <p:nvPr/>
        </p:nvPicPr>
        <p:blipFill>
          <a:blip r:embed="rId3"/>
          <a:srcRect l="4444" t="5184" r="4444" b="4101"/>
          <a:stretch/>
        </p:blipFill>
        <p:spPr>
          <a:xfrm>
            <a:off x="0" y="2209680"/>
            <a:ext cx="4267080" cy="364356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12"/>
          <p:cNvSpPr/>
          <p:nvPr/>
        </p:nvSpPr>
        <p:spPr>
          <a:xfrm>
            <a:off x="76320" y="1549440"/>
            <a:ext cx="8915400" cy="518148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2"/>
          <p:cNvSpPr/>
          <p:nvPr/>
        </p:nvSpPr>
        <p:spPr>
          <a:xfrm>
            <a:off x="175680" y="6129360"/>
            <a:ext cx="757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http://www.sumanasinc.com/webcontent/animations/content/translation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3"/>
          <p:cNvSpPr/>
          <p:nvPr/>
        </p:nvSpPr>
        <p:spPr>
          <a:xfrm>
            <a:off x="142560" y="6434280"/>
            <a:ext cx="834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http://highered.mcgraw-hill.com/sites/9834092339/student_view0/chapter15/mutation_by_base_substitution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"/>
          <p:cNvPicPr/>
          <p:nvPr/>
        </p:nvPicPr>
        <p:blipFill>
          <a:blip r:embed="rId4"/>
          <a:srcRect l="18585" t="8074" r="4048" b="0"/>
          <a:stretch/>
        </p:blipFill>
        <p:spPr>
          <a:xfrm>
            <a:off x="22320" y="42840"/>
            <a:ext cx="1279440" cy="140508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4" descr=""/>
          <p:cNvPicPr/>
          <p:nvPr/>
        </p:nvPicPr>
        <p:blipFill>
          <a:blip r:embed="rId1"/>
          <a:srcRect l="0" t="2556" r="19" b="6837"/>
          <a:stretch/>
        </p:blipFill>
        <p:spPr>
          <a:xfrm>
            <a:off x="0" y="2287440"/>
            <a:ext cx="9144000" cy="319896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5"/>
          <p:cNvSpPr/>
          <p:nvPr/>
        </p:nvSpPr>
        <p:spPr>
          <a:xfrm>
            <a:off x="4727520" y="4724280"/>
            <a:ext cx="8618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Fig. 17.19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7"/>
          <p:cNvSpPr/>
          <p:nvPr/>
        </p:nvSpPr>
        <p:spPr>
          <a:xfrm>
            <a:off x="457200" y="5562720"/>
            <a:ext cx="79246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free and bound ribosomes are both active participants in protein synthes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304920" y="76320"/>
            <a:ext cx="8686800" cy="247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499"/>
              </a:spcBef>
              <a:buClr>
                <a:srgbClr val="ff0000"/>
              </a:buClr>
              <a:buFont typeface="Arial"/>
              <a:buAutoNum type="arabicPeriod" startAt="3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Termination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Occurs when one of the three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stop codon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reaches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si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release facto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عامل مُحرر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inds to the stop codon and hydrolyzes the bond between the polypeptide and its tRNA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si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frees the polypeptide and the translation complex disassembles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يتفكك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0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228600" y="1447920"/>
            <a:ext cx="8610480" cy="174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ribosome requires less than a minute to translate an average-sized mRNA into a polypeptid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ple ribosomes,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polyribosom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may trail along the same mR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us, a single mRNA is used to make 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many copi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a polypeptide simultaneous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"/>
          <p:cNvPicPr/>
          <p:nvPr/>
        </p:nvPicPr>
        <p:blipFill>
          <a:blip r:embed="rId1"/>
          <a:srcRect l="0" t="0" r="0" b="5964"/>
          <a:stretch/>
        </p:blipFill>
        <p:spPr>
          <a:xfrm>
            <a:off x="76320" y="3200400"/>
            <a:ext cx="8991360" cy="3581280"/>
          </a:xfrm>
          <a:prstGeom prst="rect">
            <a:avLst/>
          </a:prstGeom>
          <a:ln w="0">
            <a:noFill/>
          </a:ln>
        </p:spPr>
      </p:pic>
      <p:sp>
        <p:nvSpPr>
          <p:cNvPr id="96" name="Text Box 7"/>
          <p:cNvSpPr/>
          <p:nvPr/>
        </p:nvSpPr>
        <p:spPr>
          <a:xfrm>
            <a:off x="1676520" y="372960"/>
            <a:ext cx="525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Polyribosome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800" spc="-1" strike="noStrike">
                <a:solidFill>
                  <a:srgbClr val="000000"/>
                </a:solidFill>
                <a:latin typeface="Arial"/>
              </a:rPr>
              <a:t>ريبوزومات متعددة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9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151920" y="1447560"/>
            <a:ext cx="579132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28120" indent="-528120">
              <a:lnSpc>
                <a:spcPct val="8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) mRNA attaches to a ribosome at the AUG, which is the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tart cod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This begins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ransl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lnSpc>
                <a:spcPct val="8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) The transfer RNA (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RN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bonds with the correct amino acid and becomes “charged.” (in the cytoplas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lnSpc>
                <a:spcPct val="8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) The tRNA carries the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mino aci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o the ribosome. Each tRNA has an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nticod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whose bases are complementary to a codon on the mRNA strand. The tRNA brings the correct amino acid to the riboso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lnSpc>
                <a:spcPct val="8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) The ribosome moves along the mRNA and adds more amino acids to the growing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polypeptid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r prot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3"/>
          <p:cNvSpPr/>
          <p:nvPr/>
        </p:nvSpPr>
        <p:spPr>
          <a:xfrm>
            <a:off x="152280" y="4724280"/>
            <a:ext cx="541044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) The process continues until the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iboso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eaches one of the three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top codon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n the mRNA, and then the  ribosome falls off the mR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) The result is a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polypeptid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hain or protein that is ready for use in the cel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1523880" y="152280"/>
            <a:ext cx="65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Summary of mRNA Translation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6"/>
          <p:cNvGrpSpPr/>
          <p:nvPr/>
        </p:nvGrpSpPr>
        <p:grpSpPr>
          <a:xfrm>
            <a:off x="6172200" y="838080"/>
            <a:ext cx="2666880" cy="5943600"/>
            <a:chOff x="6172200" y="838080"/>
            <a:chExt cx="2666880" cy="5943600"/>
          </a:xfrm>
        </p:grpSpPr>
        <p:pic>
          <p:nvPicPr>
            <p:cNvPr id="103" name="Picture 5" descr=""/>
            <p:cNvPicPr/>
            <p:nvPr/>
          </p:nvPicPr>
          <p:blipFill>
            <a:blip r:embed="rId1"/>
            <a:srcRect l="3780" t="0" r="0" b="8356"/>
            <a:stretch/>
          </p:blipFill>
          <p:spPr>
            <a:xfrm>
              <a:off x="6172200" y="2819520"/>
              <a:ext cx="2666880" cy="1990440"/>
            </a:xfrm>
            <a:prstGeom prst="rect">
              <a:avLst/>
            </a:prstGeom>
            <a:ln w="9360">
              <a:solidFill>
                <a:srgbClr val="0000ff"/>
              </a:solidFill>
              <a:miter/>
            </a:ln>
          </p:spPr>
        </p:pic>
        <p:pic>
          <p:nvPicPr>
            <p:cNvPr id="104" name="Picture 5" descr=""/>
            <p:cNvPicPr/>
            <p:nvPr/>
          </p:nvPicPr>
          <p:blipFill>
            <a:blip r:embed="rId2"/>
            <a:srcRect l="0" t="5263" r="2945" b="0"/>
            <a:stretch/>
          </p:blipFill>
          <p:spPr>
            <a:xfrm>
              <a:off x="6172200" y="4876920"/>
              <a:ext cx="2666880" cy="1904760"/>
            </a:xfrm>
            <a:prstGeom prst="rect">
              <a:avLst/>
            </a:prstGeom>
            <a:ln w="9360">
              <a:solidFill>
                <a:srgbClr val="0000ff"/>
              </a:solidFill>
              <a:miter/>
            </a:ln>
          </p:spPr>
        </p:pic>
        <p:pic>
          <p:nvPicPr>
            <p:cNvPr id="105" name="Picture 9" descr=""/>
            <p:cNvPicPr/>
            <p:nvPr/>
          </p:nvPicPr>
          <p:blipFill>
            <a:blip r:embed="rId3"/>
            <a:stretch/>
          </p:blipFill>
          <p:spPr>
            <a:xfrm>
              <a:off x="6172200" y="838080"/>
              <a:ext cx="2666880" cy="1895760"/>
            </a:xfrm>
            <a:prstGeom prst="rect">
              <a:avLst/>
            </a:prstGeom>
            <a:ln w="9360">
              <a:solidFill>
                <a:srgbClr val="0000ff"/>
              </a:solidFill>
              <a:miter/>
            </a:ln>
          </p:spPr>
        </p:pic>
        <p:sp>
          <p:nvSpPr>
            <p:cNvPr id="106" name="Text Box 10"/>
            <p:cNvSpPr/>
            <p:nvPr/>
          </p:nvSpPr>
          <p:spPr>
            <a:xfrm>
              <a:off x="6172200" y="838080"/>
              <a:ext cx="304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Text Box 11"/>
            <p:cNvSpPr/>
            <p:nvPr/>
          </p:nvSpPr>
          <p:spPr>
            <a:xfrm>
              <a:off x="6172200" y="2819520"/>
              <a:ext cx="304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Text Box 12"/>
            <p:cNvSpPr/>
            <p:nvPr/>
          </p:nvSpPr>
          <p:spPr>
            <a:xfrm>
              <a:off x="6172200" y="5943600"/>
              <a:ext cx="304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Line 6"/>
          <p:cNvSpPr/>
          <p:nvPr/>
        </p:nvSpPr>
        <p:spPr>
          <a:xfrm flipV="1">
            <a:off x="393840" y="1066320"/>
            <a:ext cx="5778360" cy="3348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4" descr=""/>
          <p:cNvPicPr/>
          <p:nvPr/>
        </p:nvPicPr>
        <p:blipFill>
          <a:blip r:embed="rId4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514600" y="228240"/>
            <a:ext cx="54100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Animations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NA-trans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3" descr="aProteinSyn"/>
          <p:cNvPicPr/>
          <p:nvPr/>
        </p:nvPicPr>
        <p:blipFill>
          <a:blip r:embed="rId1"/>
          <a:stretch/>
        </p:blipFill>
        <p:spPr>
          <a:xfrm>
            <a:off x="1752480" y="1905120"/>
            <a:ext cx="5181840" cy="2733480"/>
          </a:xfrm>
          <a:prstGeom prst="rect">
            <a:avLst/>
          </a:prstGeom>
          <a:ln w="0">
            <a:noFill/>
          </a:ln>
        </p:spPr>
      </p:pic>
      <p:sp>
        <p:nvSpPr>
          <p:cNvPr id="113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5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73B10-5EDE-4EDB-B48B-51674C50DC4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6" descr=""/>
          <p:cNvPicPr/>
          <p:nvPr/>
        </p:nvPicPr>
        <p:blipFill>
          <a:blip r:embed="rId1"/>
          <a:srcRect l="0" t="3822" r="0" b="8819"/>
          <a:stretch/>
        </p:blipFill>
        <p:spPr>
          <a:xfrm>
            <a:off x="3048120" y="3301920"/>
            <a:ext cx="6095880" cy="355608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75960" y="1066320"/>
            <a:ext cx="8762760" cy="251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9760" indent="-23976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utation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re changes in the genetic material of a cell (or viru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9760" indent="-23976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se include large-scale mutations in which long segments of DNA are affected (e.g.,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translocations, duplications, and inversion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9760" indent="-23976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Arial"/>
              <a:buAutoNum type="romanU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Point mutation </a:t>
            </a:r>
            <a:r>
              <a:rPr b="0" lang="ar-EG" sz="2800" spc="-1" strike="noStrike" u="sng">
                <a:solidFill>
                  <a:srgbClr val="000000"/>
                </a:solidFill>
                <a:uFillTx/>
                <a:latin typeface="Arial"/>
              </a:rPr>
              <a:t>طفرة موضعية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                                                                                                 is a chemical change in just one base pair of a ge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9760" indent="-23976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f these occur in cells producing gametes, they may be transmitted to future generations (offspring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1295280" y="151920"/>
            <a:ext cx="69343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Mutations: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طفرات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y affect protein structure and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7"/>
          <p:cNvSpPr/>
          <p:nvPr/>
        </p:nvSpPr>
        <p:spPr>
          <a:xfrm>
            <a:off x="228600" y="3451320"/>
            <a:ext cx="26668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 e.g.,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 sickle-cell disease is caused by a mutation of a single base pair in the gene that codes for one of the polypeptides of hemoglobin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Arial"/>
              </a:rPr>
              <a:t>A change in a single nucleotide from T to A in the DNA template leads to an abnormal protei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11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D0EAA-0A44-475E-B1B5-F6C78434FFB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76320" y="1417320"/>
            <a:ext cx="4572000" cy="52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 is a point mutation that results in replacement of a pair of complimentary nucleotides with another nucleotide pai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ff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Silent mutation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ome base-pair substitutions (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point mut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 have little or no impact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تأثير واضح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 protein function which lead to switches from one amino acid to another with similar properti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ther base-pair substitutions cause a detectable change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تغيير ملحو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a protein which impact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يؤثر على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unction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ff0000"/>
              </a:buClr>
              <a:buFont typeface="Arial"/>
              <a:buAutoNum type="alphaLcParenR" startAt="2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Missense mutations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a point mutation that still code for an amino acid but change the resulting protei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ff0000"/>
              </a:buClr>
              <a:buFont typeface="Arial"/>
              <a:buAutoNum type="alphaLcParenR" startAt="2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Nonsense mutations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change an amino acid codon into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a stop cod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, nearly always leading to a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nonfunctional prote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بروتين غير وظيف</a:t>
            </a:r>
            <a:r>
              <a:rPr b="0" lang="ar-SA" sz="16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4"/>
          <p:cNvSpPr/>
          <p:nvPr/>
        </p:nvSpPr>
        <p:spPr>
          <a:xfrm>
            <a:off x="1371600" y="228600"/>
            <a:ext cx="708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A)- Base-pair substitution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إستبدال زوج من القواع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5" descr=""/>
          <p:cNvPicPr/>
          <p:nvPr/>
        </p:nvPicPr>
        <p:blipFill>
          <a:blip r:embed="rId1"/>
          <a:srcRect l="0" t="0" r="0" b="3332"/>
          <a:stretch/>
        </p:blipFill>
        <p:spPr>
          <a:xfrm>
            <a:off x="4594320" y="1066680"/>
            <a:ext cx="4549680" cy="5791320"/>
          </a:xfrm>
          <a:prstGeom prst="rect">
            <a:avLst/>
          </a:prstGeom>
          <a:ln w="0">
            <a:noFill/>
          </a:ln>
        </p:spPr>
      </p:pic>
      <p:sp>
        <p:nvSpPr>
          <p:cNvPr id="126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8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A6144-C56B-4663-ABAD-2379BA05456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76320" y="1527120"/>
            <a:ext cx="4572000" cy="488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 is a mutation in which additions or losses of nucleotide pairs occurs and causes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Frameshift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إزاحة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muta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hese have a disastrou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كارث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effect on the resulting prot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en frameshift occurs, all the nucleotides downstream of the deletion or insertion will be improperly grouped into new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od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result will be extensive missense, ending sooner or later in nonsense -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premature termination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وقف مبكر للترجمة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4"/>
          <p:cNvSpPr/>
          <p:nvPr/>
        </p:nvSpPr>
        <p:spPr>
          <a:xfrm>
            <a:off x="1143000" y="76320"/>
            <a:ext cx="708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B)- Insertions and deletions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إضافة أو حزف قواع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5" descr=""/>
          <p:cNvPicPr/>
          <p:nvPr/>
        </p:nvPicPr>
        <p:blipFill>
          <a:blip r:embed="rId1"/>
          <a:srcRect l="0" t="0" r="0" b="4441"/>
          <a:stretch/>
        </p:blipFill>
        <p:spPr>
          <a:xfrm>
            <a:off x="4718160" y="1143000"/>
            <a:ext cx="4349520" cy="5638680"/>
          </a:xfrm>
          <a:prstGeom prst="rect">
            <a:avLst/>
          </a:prstGeom>
          <a:ln w="0">
            <a:noFill/>
          </a:ln>
        </p:spPr>
      </p:pic>
      <p:sp>
        <p:nvSpPr>
          <p:cNvPr id="132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9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ED70C-9AC1-417C-8DD0-DDFDA947CAC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152280" y="177480"/>
            <a:ext cx="8839440" cy="653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utations can occur in a number of way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rrors can occur during DNA replication, DNA repair, or DNA recombin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se can lead to base-pair substitutions, insertions, or deletions, as well as mutations affecting longer stretches of D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se are calle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pontaneous muta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Mutagen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مُسـببات الطفرات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are chemical or physical agents that interact with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تتفاعل مع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NA to cause mut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hysical ag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nclude high-energy radiation like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X-ray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ultraviolet ligh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أشعة فوق البنفسجي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hemical ag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ay operate in several way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e chemicals are base analogues that may be substituted into DNA, but that pair incorrectly during DNA replic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utagens interfere with DNA replication by inserting into DNA and distorting the double helix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ill others cause chemical changes in bases that change their pairing properties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0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500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500"/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" dur="500"/>
                                        <p:tgtEl>
                                          <p:spTgt spid="1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500"/>
                                        <p:tgtEl>
                                          <p:spTgt spid="13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500"/>
                                        <p:tgtEl>
                                          <p:spTgt spid="13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500"/>
                                        <p:tgtEl>
                                          <p:spTgt spid="13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1E305-5674-4700-A6A5-CA6ED8832B0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5" descr=""/>
          <p:cNvPicPr/>
          <p:nvPr/>
        </p:nvPicPr>
        <p:blipFill>
          <a:blip r:embed="rId1"/>
          <a:srcRect l="0" t="0" r="0" b="5002"/>
          <a:stretch/>
        </p:blipFill>
        <p:spPr>
          <a:xfrm>
            <a:off x="3886200" y="1143000"/>
            <a:ext cx="5076720" cy="57150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152280" y="1600200"/>
            <a:ext cx="3657600" cy="446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the process of translation, a cell sends a series of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odon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long a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mRN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lecu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ansfer RNA (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tRN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(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ناق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ansfers amino acids from the cytoplasm to a riboso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ribosom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dds each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mino acid carried by tRNA to the growing end of the polypeptide cha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6"/>
          <p:cNvSpPr/>
          <p:nvPr/>
        </p:nvSpPr>
        <p:spPr>
          <a:xfrm>
            <a:off x="1600200" y="152280"/>
            <a:ext cx="579132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Translations is the RNA-directed synthesis of a polypept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10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917A2-6893-4A5B-8C2F-4498F570DAE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151920" y="228240"/>
            <a:ext cx="3886200" cy="635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uring translation, each type of tRNA links a mRNA codon with the appropriate amino aci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tRNA arriving at the ribosome carries a specific amino acid at one end and has a specific nucleotide triplet, an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anticod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t the other e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nticod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base-pairs with a complementary codon on mR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If the codon on mRNA is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UUU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, a tRNA with an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AA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anticodon and carrying phenyalanine will bind to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don by codon, tRNAs deposit amino acids in the prescribed order and the ribosome joins them into a polypeptid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"/>
          <p:cNvPicPr/>
          <p:nvPr/>
        </p:nvPicPr>
        <p:blipFill>
          <a:blip r:embed="rId1"/>
          <a:srcRect l="0" t="0" r="0" b="5002"/>
          <a:stretch/>
        </p:blipFill>
        <p:spPr>
          <a:xfrm>
            <a:off x="3932280" y="76320"/>
            <a:ext cx="5211720" cy="6476760"/>
          </a:xfrm>
          <a:prstGeom prst="rect">
            <a:avLst/>
          </a:prstGeom>
          <a:ln w="0">
            <a:noFill/>
          </a:ln>
        </p:spPr>
      </p:pic>
      <p:sp>
        <p:nvSpPr>
          <p:cNvPr id="68" name="Text Box 5"/>
          <p:cNvSpPr/>
          <p:nvPr/>
        </p:nvSpPr>
        <p:spPr>
          <a:xfrm>
            <a:off x="7238880" y="6507000"/>
            <a:ext cx="16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. 17.12, Page 3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8"/>
          <p:cNvGrpSpPr/>
          <p:nvPr/>
        </p:nvGrpSpPr>
        <p:grpSpPr>
          <a:xfrm>
            <a:off x="1066680" y="380880"/>
            <a:ext cx="7848720" cy="5867280"/>
            <a:chOff x="1066680" y="380880"/>
            <a:chExt cx="7848720" cy="5867280"/>
          </a:xfrm>
        </p:grpSpPr>
        <p:pic>
          <p:nvPicPr>
            <p:cNvPr id="70" name="Picture 5" descr=""/>
            <p:cNvPicPr/>
            <p:nvPr/>
          </p:nvPicPr>
          <p:blipFill>
            <a:blip r:embed="rId1"/>
            <a:srcRect l="1815" t="7773" r="5256" b="7798"/>
            <a:stretch/>
          </p:blipFill>
          <p:spPr>
            <a:xfrm>
              <a:off x="1066680" y="426960"/>
              <a:ext cx="7848720" cy="581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Rectangle 6"/>
            <p:cNvSpPr/>
            <p:nvPr/>
          </p:nvSpPr>
          <p:spPr>
            <a:xfrm>
              <a:off x="1066680" y="380880"/>
              <a:ext cx="5029200" cy="5867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ectangle 7"/>
            <p:cNvSpPr/>
            <p:nvPr/>
          </p:nvSpPr>
          <p:spPr>
            <a:xfrm>
              <a:off x="6095880" y="1066680"/>
              <a:ext cx="762120" cy="16761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304560" y="304560"/>
            <a:ext cx="5562360" cy="62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RNA molecules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re transcribed from DNA in the nucleu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ce it reaches the cytoplasm, each tRNA is used repeatedly for the following functions: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buClr>
                <a:srgbClr val="0000ff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to pick up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يحمل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its relevant amino acid in the cytosol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buClr>
                <a:srgbClr val="0000ff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to deposit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يضع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the amino acid at the ribosom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buClr>
                <a:srgbClr val="0000ff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to return to the cytosol to pick up another copy of that amino aci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nticodon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شفرة المُعاكس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f some tRNAs recognize more than one cod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380880" y="725040"/>
            <a:ext cx="8382240" cy="554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Ribosomes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protein making mach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cilitate the coupling of the 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</a:rPr>
              <a:t>tRNA anticodons with mRNA codon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ch ribosome has a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larg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a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mall subuni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med in the nucleolu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ibosome is composed of proteins and ribosomal RNA (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RN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, the most abundant RNA in the c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rR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s transcribed in th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nucleu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n bind to special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eins to form th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ribosomal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bunits in th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nucleolu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subunits exit the nucleus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vi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nuclear por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smal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subunits join to form a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functional ribosom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only when they attach to an mRNA molecu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10026-5AA7-4A0A-B5BC-5A9022092E5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533160" y="380880"/>
            <a:ext cx="7848360" cy="298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ch ribosome has a binding site for mRNA and three binding sites for tRNA molecu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499"/>
              </a:spcBef>
              <a:buClr>
                <a:srgbClr val="ff0000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 sit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holds the tRNA carrying the growing polypeptide cha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499"/>
              </a:spcBef>
              <a:buClr>
                <a:srgbClr val="ff0000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sit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rries the tRNA with the next amino aci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499"/>
              </a:spcBef>
              <a:buClr>
                <a:srgbClr val="ff0000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 sit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t which the discharged tRNA leave the riboso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5" descr=""/>
          <p:cNvPicPr/>
          <p:nvPr/>
        </p:nvPicPr>
        <p:blipFill>
          <a:blip r:embed="rId1"/>
          <a:srcRect l="7294" t="65398" r="6200" b="3357"/>
          <a:stretch/>
        </p:blipFill>
        <p:spPr>
          <a:xfrm>
            <a:off x="4952880" y="3581280"/>
            <a:ext cx="3886200" cy="24624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6" descr=""/>
          <p:cNvPicPr/>
          <p:nvPr/>
        </p:nvPicPr>
        <p:blipFill>
          <a:blip r:embed="rId2"/>
          <a:srcRect l="8111" t="36384" r="5172" b="35981"/>
          <a:stretch/>
        </p:blipFill>
        <p:spPr>
          <a:xfrm>
            <a:off x="304920" y="3581280"/>
            <a:ext cx="4495680" cy="251460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47F1C-DB68-4E66-88F4-AD866E4959B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"/>
          <p:cNvPicPr/>
          <p:nvPr/>
        </p:nvPicPr>
        <p:blipFill>
          <a:blip r:embed="rId1"/>
          <a:srcRect l="1668" t="3983" r="0" b="10797"/>
          <a:stretch/>
        </p:blipFill>
        <p:spPr>
          <a:xfrm>
            <a:off x="152280" y="3733920"/>
            <a:ext cx="8077320" cy="28890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28600" y="76320"/>
            <a:ext cx="8763120" cy="358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11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nslation occurs in three stages: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- initiation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بد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translation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     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2- elongation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استطالة البنائية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polypeptide chain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     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3- termination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إيقا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trans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Initiation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brings together mRNA, a tRNA (with the first amino acid) and the two ribosomal subunits (large &amp; small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rst, a small ribosomal subunit binds with mRNA and a special initiator tRNA, which carries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methionin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and attaches to the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start cod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nitiation factor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bring in the large subunit such that the initiator tRNA occupies the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it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5"/>
          <p:cNvSpPr/>
          <p:nvPr/>
        </p:nvSpPr>
        <p:spPr>
          <a:xfrm>
            <a:off x="8077320" y="5562720"/>
            <a:ext cx="863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Fig. 17.17</a:t>
            </a: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, Page 317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6"/>
          <p:cNvSpPr/>
          <p:nvPr/>
        </p:nvSpPr>
        <p:spPr>
          <a:xfrm>
            <a:off x="3276720" y="4282920"/>
            <a:ext cx="1676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Guanosine triphosph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7"/>
          <p:cNvSpPr/>
          <p:nvPr/>
        </p:nvSpPr>
        <p:spPr>
          <a:xfrm>
            <a:off x="533520" y="4191120"/>
            <a:ext cx="121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Methion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152280" y="151920"/>
            <a:ext cx="8839440" cy="646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99"/>
              </a:spcBef>
              <a:buClr>
                <a:srgbClr val="ff0000"/>
              </a:buClr>
              <a:buFont typeface="Arial"/>
              <a:buAutoNum type="arabicPeriod" startAt="2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Elongation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sists of a series of three step cycles as each amino acid is added to the proceeding one in 3 steps: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ff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odon recognition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التعرف على الشفرات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n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longation facto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sists hydrogen bonding between the mRNA codon under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te with the corresponding anticodon of tRNA carrying the appropriate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المناسب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mino acid [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s step requires the hydrolysis of two guanosine triphosphate (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GT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]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ff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Peptide bond formation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n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RN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olecul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talyz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he formation of a peptide bond between the polypeptide in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ite with the new amino acid in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te. This step separates                                                               the tRNA at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ite from the                                                                             growing polypeptide chain and                                                                     transfers the chain, now one                                                                              amino acid longer, to the tRNA                                                                             at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i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224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ff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Translocation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تغيير المكان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N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                                                                       the ribosome moves the tRNA with                                                                           the attached polypeptide from                                                                           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ite to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i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C5BA1-1AFA-41C8-B119-1F66EBE8143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"/>
          <p:cNvPicPr/>
          <p:nvPr/>
        </p:nvPicPr>
        <p:blipFill>
          <a:blip r:embed="rId1"/>
          <a:srcRect l="8476" t="65304" r="4509" b="6854"/>
          <a:stretch/>
        </p:blipFill>
        <p:spPr>
          <a:xfrm>
            <a:off x="4724280" y="3886200"/>
            <a:ext cx="4343400" cy="243828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0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4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304920" y="914400"/>
            <a:ext cx="8381880" cy="589104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304560" y="75960"/>
            <a:ext cx="8381880" cy="64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hree steps of elongation continue codon by codon to add amino acids until the polypeptide chain is complete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7T06:19:58Z</dcterms:created>
  <dc:creator>User</dc:creator>
  <dc:description/>
  <dc:language>en-US</dc:language>
  <cp:lastModifiedBy>HP</cp:lastModifiedBy>
  <dcterms:modified xsi:type="dcterms:W3CDTF">2014-01-07T17:04:38Z</dcterms:modified>
  <cp:revision>17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ticulateGUID">
    <vt:lpwstr>3A14E7B8-F233-4B18-AC24-398BCEBF4C8F</vt:lpwstr>
  </property>
  <property fmtid="{D5CDD505-2E9C-101B-9397-08002B2CF9AE}" pid="3" name="ArticulatePath">
    <vt:lpwstr>Lecture 21</vt:lpwstr>
  </property>
</Properties>
</file>