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9D86-B2AF-4A8D-B810-C03266E23B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B77C5C0-9AB3-4B1E-8B4D-5DDAC55A9A9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F72-F9A8-4500-B7F6-D9A24E41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CCF-0C5E-4EE8-BE69-CE3C7A1E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F6D-DFAD-4C81-A470-735A414C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00F-DE2D-4CE9-996E-6E0F2A17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1A5-184D-4F0A-904E-A713A089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BE0-1425-40D8-A826-D1A8F9C3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BF5-DA44-4AD1-BF00-F7A74160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621-1B6D-4FB9-BC5B-5EB9970C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49E-FAC5-4C25-8BDC-2AE1212F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66E-36CF-4D49-BE36-3CD3DA90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240-606E-40A6-9DAA-B77A2B58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EAA-E7A3-4D06-B472-88E9E570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EF6A-141C-4B35-B2BE-85843A2CA8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2D5D-2B6C-4761-BBB5-6480B414BF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21EE-9862-4B39-ADE9-9D129BF39F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6294-F8A9-4E31-ABD3-8BC65D9C7C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8EF7-21C8-4563-ABCA-BC7C641CB2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9DA-7A5B-41FE-B95F-66FBCA7FC0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A23B-2308-49F5-9365-47A2610EB7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E741-D7E3-41B2-BC8E-FDBA9074FB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يحم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يضع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A8D4-9D17-4C79-8D43-C8B910B773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D20B-4D5D-45FA-BA6F-CE4BB53F2B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B197-C5D5-403E-A503-A141495AFF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ash</cp:lastModifiedBy>
  <dcterms:modified xsi:type="dcterms:W3CDTF">2013-01-09T21:37:51Z</dcterms:modified>
  <cp:revision>170</cp:revision>
  <dc:subject/>
  <dc:title>Slide 1</dc:title>
</cp:coreProperties>
</file>