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8.png" ContentType="image/png"/>
  <Override PartName="/ppt/media/image17.png" ContentType="image/png"/>
  <Override PartName="/ppt/media/image1.png" ContentType="image/png"/>
  <Override PartName="/ppt/media/image3.jpeg" ContentType="image/jpeg"/>
  <Override PartName="/ppt/media/image19.png" ContentType="image/png"/>
  <Override PartName="/ppt/media/image16.gif" ContentType="image/gif"/>
  <Override PartName="/ppt/media/image2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598C-DE6C-455C-AC11-EE40EEADFED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31"/>
          <p:cNvSpPr/>
          <p:nvPr/>
        </p:nvSpPr>
        <p:spPr>
          <a:xfrm>
            <a:off x="3876840" y="8694720"/>
            <a:ext cx="2981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C7C1ADD1-427C-4770-91C0-514482AADB3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081A-8815-48A6-99B4-FF982F71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3EF7-C01F-4C61-A495-3AAC2005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A5DB-A12A-49EE-A02A-7F2053605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59AE-91ED-42ED-A450-3DB7F5E24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AF6D-BF4E-4E3E-AD95-E5572A30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B034-EF25-4DAA-AD7D-E70D25FE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E61D-8BB7-4DAF-9724-1EA73795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E4D2-BF05-42CA-BD8D-EF986DD1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EA84-0803-4B49-8D3D-7397D12B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49E1-E9E2-474C-B3AF-A9D6442A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6E00-E9D9-48FB-9CE1-2E7CFD58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A740-2552-4B79-AD4C-5E8A2A6C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C5D8-3E30-412F-B26B-97ADD93B26E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095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3CF2-71B0-4B36-A47E-87C4CC4AB2A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00ffcc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2286000" y="895320"/>
            <a:ext cx="4724280" cy="4597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)- The Synthesis of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295280" y="2286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GENE TO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2"/>
          <a:srcRect l="0" t="0" r="0" b="4466"/>
          <a:stretch/>
        </p:blipFill>
        <p:spPr>
          <a:xfrm>
            <a:off x="4267080" y="1536840"/>
            <a:ext cx="4713480" cy="5105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3"/>
          <a:srcRect l="4444" t="5184" r="4444" b="4101"/>
          <a:stretch/>
        </p:blipFill>
        <p:spPr>
          <a:xfrm>
            <a:off x="0" y="2209680"/>
            <a:ext cx="4267080" cy="36435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76320" y="1549440"/>
            <a:ext cx="8915400" cy="51814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175680" y="6129360"/>
            <a:ext cx="75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ttp://www.sumanasinc.com/webcontent/animations/content/translatio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142560" y="6434280"/>
            <a:ext cx="83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http://highered.mcgraw-hill.com/sites/9834092339/student_view0/chapter15/mutation_by_base_substitu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4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rcRect l="0" t="2556" r="19" b="6837"/>
          <a:stretch/>
        </p:blipFill>
        <p:spPr>
          <a:xfrm>
            <a:off x="0" y="2287440"/>
            <a:ext cx="9144000" cy="31989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4727520" y="4724280"/>
            <a:ext cx="861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7.1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57200" y="5562720"/>
            <a:ext cx="7924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free and bound ribosomes are both active participants in protein synth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920" y="76320"/>
            <a:ext cx="8686800" cy="24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ermin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Occurs when one of the thre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op cod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aches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lease fac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امل مُحر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nds to the stop codon and hydrolyzes the bond between the polypeptide and its tRNA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frees the polypeptide and the translation complex disassemb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تفك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8610480" cy="17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ibosome requires less than a minute to translate an average-sized mRNA into a polypept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ribosomes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lyrib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ay trail along the same m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a single mRNA is used to mak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any cop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 polypeptide simultaneous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rcRect l="0" t="0" r="0" b="5964"/>
          <a:stretch/>
        </p:blipFill>
        <p:spPr>
          <a:xfrm>
            <a:off x="76320" y="3200400"/>
            <a:ext cx="8991360" cy="35812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1676520" y="37296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olyribosom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ريبوزومات متعدد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51920" y="1447560"/>
            <a:ext cx="57913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mRNA attaches to a ribosome at the AUG, which is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art 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is begin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ans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The transfer RNA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bonds with the correct amino acid and becomes “charged.” (in the cytopla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The tRNA carries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mino ac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ribosome. Each tRNA has a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ti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ose bases are complementary to a codon on the mRNA strand. The tRNA brings the correct amino acid to the ribos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The ribosome moves along the mRNA and adds more amino acids to the growing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olypept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52280" y="4724280"/>
            <a:ext cx="54104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The process continues until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iboso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aches one of the thre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op cod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the mRNA, and then the  ribosome falls off the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 The result is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olypept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in or protein that is ready for use 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523880" y="1522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mmary of mRNA Transl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6"/>
          <p:cNvGrpSpPr/>
          <p:nvPr/>
        </p:nvGrpSpPr>
        <p:grpSpPr>
          <a:xfrm>
            <a:off x="6172200" y="838080"/>
            <a:ext cx="2666880" cy="5943600"/>
            <a:chOff x="6172200" y="838080"/>
            <a:chExt cx="2666880" cy="5943600"/>
          </a:xfrm>
        </p:grpSpPr>
        <p:pic>
          <p:nvPicPr>
            <p:cNvPr id="103" name="Picture 5" descr=""/>
            <p:cNvPicPr/>
            <p:nvPr/>
          </p:nvPicPr>
          <p:blipFill>
            <a:blip r:embed="rId1"/>
            <a:srcRect l="3780" t="0" r="0" b="8356"/>
            <a:stretch/>
          </p:blipFill>
          <p:spPr>
            <a:xfrm>
              <a:off x="6172200" y="2819520"/>
              <a:ext cx="2666880" cy="199044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104" name="Picture 5" descr=""/>
            <p:cNvPicPr/>
            <p:nvPr/>
          </p:nvPicPr>
          <p:blipFill>
            <a:blip r:embed="rId2"/>
            <a:srcRect l="0" t="5263" r="2945" b="0"/>
            <a:stretch/>
          </p:blipFill>
          <p:spPr>
            <a:xfrm>
              <a:off x="6172200" y="4876920"/>
              <a:ext cx="2666880" cy="19047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105" name="Picture 9" descr=""/>
            <p:cNvPicPr/>
            <p:nvPr/>
          </p:nvPicPr>
          <p:blipFill>
            <a:blip r:embed="rId3"/>
            <a:stretch/>
          </p:blipFill>
          <p:spPr>
            <a:xfrm>
              <a:off x="6172200" y="838080"/>
              <a:ext cx="2666880" cy="18957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06" name="Text Box 10"/>
            <p:cNvSpPr/>
            <p:nvPr/>
          </p:nvSpPr>
          <p:spPr>
            <a:xfrm>
              <a:off x="6172200" y="83808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"/>
            <p:cNvSpPr/>
            <p:nvPr/>
          </p:nvSpPr>
          <p:spPr>
            <a:xfrm>
              <a:off x="6172200" y="281952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2"/>
            <p:cNvSpPr/>
            <p:nvPr/>
          </p:nvSpPr>
          <p:spPr>
            <a:xfrm>
              <a:off x="6172200" y="594360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Line 6"/>
          <p:cNvSpPr/>
          <p:nvPr/>
        </p:nvSpPr>
        <p:spPr>
          <a:xfrm flipV="1">
            <a:off x="393840" y="1066320"/>
            <a:ext cx="5778360" cy="3348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4" descr=""/>
          <p:cNvPicPr/>
          <p:nvPr/>
        </p:nvPicPr>
        <p:blipFill>
          <a:blip r:embed="rId4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imation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NA-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aProteinSyn"/>
          <p:cNvPicPr/>
          <p:nvPr/>
        </p:nvPicPr>
        <p:blipFill>
          <a:blip r:embed="rId1"/>
          <a:stretch/>
        </p:blipFill>
        <p:spPr>
          <a:xfrm>
            <a:off x="1752480" y="1905120"/>
            <a:ext cx="5181840" cy="2733480"/>
          </a:xfrm>
          <a:prstGeom prst="rect">
            <a:avLst/>
          </a:prstGeom>
          <a:ln w="0">
            <a:noFill/>
          </a:ln>
        </p:spPr>
      </p:pic>
      <p:sp>
        <p:nvSpPr>
          <p:cNvPr id="11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CB55-F27C-445B-9FCC-8D2333B1F38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rcRect l="0" t="3822" r="0" b="8819"/>
          <a:stretch/>
        </p:blipFill>
        <p:spPr>
          <a:xfrm>
            <a:off x="3048120" y="3301920"/>
            <a:ext cx="6095880" cy="3556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960" y="1066320"/>
            <a:ext cx="8762760" cy="251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ut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changes in the genetic material of a cell (or viru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include large-scale mutations in which long segments of DNA are affected (e.g.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anslocations, duplications, and inver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Point mutation </a:t>
            </a:r>
            <a:r>
              <a:rPr b="0" lang="ar-EG" sz="2800" spc="-1" strike="noStrike" u="sng">
                <a:solidFill>
                  <a:srgbClr val="000000"/>
                </a:solidFill>
                <a:uFillTx/>
                <a:latin typeface="Arial"/>
              </a:rPr>
              <a:t>طفرة موضع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                          is a chemical change in just one base pair of a ge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se occur in cells producing gametes, they may be transmitted to future generations (offspring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utations: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طفرات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affect protein structure and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28600" y="3451320"/>
            <a:ext cx="2666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e.g.,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sickle-cell disease is caused by a mutation of a single base pair in the gene that codes for one of the polypeptides of hemoglob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A change in a single nucleotide from T to A in the DNA template leads to an abnormal prot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2459-72FE-4735-BBC4-AC821C053F3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320" y="1417320"/>
            <a:ext cx="45720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a point mutation that results in replacement of a pair of complimentary nucleotides with another nucleotide pai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lent mutatio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ome base-pair substitutions (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oint mut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have little or no impact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أثير واضح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protein function which lead to switches from one amino acid to another with similar proper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base-pair substitutions cause a detectable chang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غيير ملحو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 protein which impact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ؤثر على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Missense mutation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 point mutation that still code for an amino acid but change the resulting prot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nsense mutation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ange an amino acid codon into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 stop cod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nearly always leading to 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nfunctional prote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بروتين غير وظيف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371600" y="2286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)- Base-pair substitu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ستبدال زوج من القواع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rcRect l="0" t="0" r="0" b="3332"/>
          <a:stretch/>
        </p:blipFill>
        <p:spPr>
          <a:xfrm>
            <a:off x="4594320" y="1066680"/>
            <a:ext cx="4549680" cy="5791320"/>
          </a:xfrm>
          <a:prstGeom prst="rect">
            <a:avLst/>
          </a:prstGeom>
          <a:ln w="0">
            <a:noFill/>
          </a:ln>
        </p:spPr>
      </p:pic>
      <p:sp>
        <p:nvSpPr>
          <p:cNvPr id="12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02C6-9151-4BEB-B293-B6AF6D7F544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6320" y="1527120"/>
            <a:ext cx="4572000" cy="48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a mutation in which additions or losses of nucleotide pairs occurs and cause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rameshif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زاحة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u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se have a disastrou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ث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ffect on the resulting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frameshift occurs, all the nucleotides downstream of the deletion or insertion will be improperly grouped into ne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d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sult will be extensive missense, ending sooner or later in nonsense 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emature termin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قف مبكر للترجمة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143000" y="763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)- Insertions and dele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ضافة أو حزف قواع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0" t="0" r="0" b="4441"/>
          <a:stretch/>
        </p:blipFill>
        <p:spPr>
          <a:xfrm>
            <a:off x="4718160" y="1143000"/>
            <a:ext cx="4349520" cy="5638680"/>
          </a:xfrm>
          <a:prstGeom prst="rect">
            <a:avLst/>
          </a:prstGeom>
          <a:ln w="0">
            <a:noFill/>
          </a:ln>
        </p:spPr>
      </p:pic>
      <p:sp>
        <p:nvSpPr>
          <p:cNvPr id="13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1ED7-8DD7-4CEA-BB93-15279B7B486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52280" y="177480"/>
            <a:ext cx="8839440" cy="65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tations can occur in a number of 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s can occur during DNA replication, DNA repair, or DNA recombin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can lead to base-pair substitutions, insertions, or deletions, as well as mutations affecting longer stretches of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are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ontaneous mu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utagen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سـببات الطفر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are chemical or physical agents that interact with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فاعل م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to cause mu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hysical ag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clude high-energy radiation lik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-ray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ltraviolet ligh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أشعة فوق البنفسج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hemical ag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ay operate in several 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chemicals are base analogues that may be substituted into DNA, but that pair incorrectly during DNA re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utagens interfere with DNA replication by inserting into DNA and distorting the double helix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ill others cause chemical changes in bases that change their pairing properti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26CB-4C57-4C08-97D6-AF8D8D5D242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886200" y="1143000"/>
            <a:ext cx="5076720" cy="5715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52280" y="1600200"/>
            <a:ext cx="3657600" cy="446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process of translation, a cell sends a series of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d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long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 RNA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اق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s amino acids from the cytoplasm to a rib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ib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dds eac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ino acid carried by tRNA to the growing end of the polypeptid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600200" y="152280"/>
            <a:ext cx="57913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ranslations is the RNA-directed synthesis of a polypept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188F-175F-491B-B343-AD89328F8FD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3886200" cy="635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each type of tRNA links a mRNA codon with the appropriate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RNA arriving at the ribosome carries a specific amino acid at one end and has a specific nucleotide triplet, a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ticod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t the other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ticod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se-pairs with a complementary codon on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f the codon on mRNA i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UU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a tRNA with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A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anticodon and carrying phenyalanine will bind to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on by codon, tRNAs deposit amino acids in the prescribed order and the ribosome joins them into a polypeptid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932280" y="76320"/>
            <a:ext cx="5211720" cy="64767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7238880" y="65070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17.12, Page 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8"/>
          <p:cNvGrpSpPr/>
          <p:nvPr/>
        </p:nvGrpSpPr>
        <p:grpSpPr>
          <a:xfrm>
            <a:off x="1066680" y="380880"/>
            <a:ext cx="7848720" cy="5867280"/>
            <a:chOff x="1066680" y="380880"/>
            <a:chExt cx="7848720" cy="5867280"/>
          </a:xfrm>
        </p:grpSpPr>
        <p:pic>
          <p:nvPicPr>
            <p:cNvPr id="70" name="Picture 5" descr=""/>
            <p:cNvPicPr/>
            <p:nvPr/>
          </p:nvPicPr>
          <p:blipFill>
            <a:blip r:embed="rId1"/>
            <a:srcRect l="1815" t="7773" r="5256" b="7798"/>
            <a:stretch/>
          </p:blipFill>
          <p:spPr>
            <a:xfrm>
              <a:off x="1066680" y="426960"/>
              <a:ext cx="7848720" cy="58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6"/>
            <p:cNvSpPr/>
            <p:nvPr/>
          </p:nvSpPr>
          <p:spPr>
            <a:xfrm>
              <a:off x="1066680" y="380880"/>
              <a:ext cx="5029200" cy="586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"/>
            <p:cNvSpPr/>
            <p:nvPr/>
          </p:nvSpPr>
          <p:spPr>
            <a:xfrm>
              <a:off x="6095880" y="1066680"/>
              <a:ext cx="762120" cy="1676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5562360" cy="62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NA molecule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transcribed from DNA in the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it reaches the cytoplasm, each tRNA is used repeatedly for the following functions: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pick up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حم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ts relevant amino acid in the cytoso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deposi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ض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amino acid at the riboso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return to the cytosol to pick up another copy of that amino ac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ticod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شفرة المُعاكس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some tRNAs recognize more than one cod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880" y="725040"/>
            <a:ext cx="838224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ibosome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tein making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ilitate the coupling of th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RNA anticodons with mRNA cod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ribosome h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mall subun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ed in the 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 is composed of proteins and ribosomal RNA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the most abundant RNA in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R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ranscribed in th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ucleu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bind to specia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ins to form th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ibosoma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units in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units exit the nucleu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uclear p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m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ubunits join to form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unctional rib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ly when they attach to an mRNA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DFB4-E6B9-4541-B339-7F053390E0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3160" y="380880"/>
            <a:ext cx="7848360" cy="29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ribosome has a binding site for mRNA and three binding sites for tRNA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olds the tRNA carrying the growing polypeptid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rries the tRNA with the next amino ac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 which the discharged tRNA leave the rib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rcRect l="7294" t="65398" r="6200" b="3357"/>
          <a:stretch/>
        </p:blipFill>
        <p:spPr>
          <a:xfrm>
            <a:off x="4952880" y="3581280"/>
            <a:ext cx="3886200" cy="2462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rcRect l="8111" t="36384" r="5172" b="35981"/>
          <a:stretch/>
        </p:blipFill>
        <p:spPr>
          <a:xfrm>
            <a:off x="304920" y="3581280"/>
            <a:ext cx="449568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9376-CF8E-4C79-866C-A0BEB045D24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rcRect l="1668" t="3983" r="0" b="10797"/>
          <a:stretch/>
        </p:blipFill>
        <p:spPr>
          <a:xfrm>
            <a:off x="152280" y="3733920"/>
            <a:ext cx="8077320" cy="2889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28600" y="76320"/>
            <a:ext cx="8763120" cy="35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ation occurs in three stage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- initi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بد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ransl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- elong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استطالة البنائ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polypeptide chai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- termin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يقا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niti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brings together mRNA, a tRNA (with the first amino acid) and the two ribosomal subunits (large &amp; smal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, a small ribosomal subunit binds with mRNA and a special initiator tRNA, which carries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ethioni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attaches to the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tart cod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itiation facto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bring in the large subunit such that the initiator tRNA occupies th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i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8077320" y="5562720"/>
            <a:ext cx="86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Fig. 17.17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, Page 31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276720" y="428292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Guanosine triphosph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33520" y="41911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ethion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839440" cy="64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long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sts of a series of three step cycles as each amino acid is added to the proceeding one in 3 steps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don recogni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تعرف على الشفرا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longation fa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sists hydrogen bonding between the mRNA codon unde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 with the corresponding anticodon of tRNA carrying the appropri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مناس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ino acid 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step requires the hydrolysis of two guanosine triphosphate (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GT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eptide bond form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olecul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talyz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formation of a peptide bond between the polypeptide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with the new amino acid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. This step separates                                                               the tRNA at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from the                                                                             growing polypeptide chain and                                                                     transfers the chain, now one                                                                              amino acid longer, to the tRNA                                                                             at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ansloc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غيير المكا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the ribosome moves the tRNA with                                                                           the attached polypeptide from                                                                           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to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37F1-D930-48FB-9434-46D559E509B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rcRect l="8476" t="65304" r="4509" b="6854"/>
          <a:stretch/>
        </p:blipFill>
        <p:spPr>
          <a:xfrm>
            <a:off x="4724280" y="3886200"/>
            <a:ext cx="434340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04920" y="914400"/>
            <a:ext cx="8381880" cy="5891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560" y="75960"/>
            <a:ext cx="8381880" cy="6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hree steps of elongation continue codon by codon to add amino acids until the polypeptide chain is comple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06:19:58Z</dcterms:created>
  <dc:creator>User</dc:creator>
  <dc:description/>
  <dc:language>en-US</dc:language>
  <cp:lastModifiedBy>HP</cp:lastModifiedBy>
  <dcterms:modified xsi:type="dcterms:W3CDTF">2014-01-07T17:04:38Z</dcterms:modified>
  <cp:revision>17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3A14E7B8-F233-4B18-AC24-398BCEBF4C8F</vt:lpwstr>
  </property>
  <property fmtid="{D5CDD505-2E9C-101B-9397-08002B2CF9AE}" pid="3" name="ArticulatePath">
    <vt:lpwstr>Lecture 21</vt:lpwstr>
  </property>
</Properties>
</file>