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7CE8-5885-42F7-8FA4-39BCF4D3B67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576AE99A-0AF2-460A-90CE-456607DD54F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0BFF-921A-4E4B-B3CC-5EA3B205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BC6-33D0-4479-A427-C8F4291F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42F-B579-439E-9789-22B7ED0D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606-59FC-4F29-8D8A-7032ABB2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EA0-42B3-4C94-A09B-44292C2A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83C-CBDF-495F-9906-C2E5ED1B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44C-042A-4E18-85F8-D1CE818F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2F8-4400-4E09-96C1-5EDD8E4E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6A2-E854-4030-B6AA-39C1299D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768-34FC-465B-BB52-C2F18FAF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8B6-BA1E-4489-9D64-6B880412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F47-2211-44FD-A0A8-806ECFA9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D884-4BB0-4FD0-BF7A-B6EB1588F0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A3FC-4FED-48B2-B73F-5887B7C9FB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ProteinSyn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0FB3-74C8-4DD7-88B3-7AB060A65F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30DE-0189-46E3-A4CA-105A782DEA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5A27-1A93-4BCF-82F0-12E6EDE4A7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D374-15E3-459F-B627-A8821192C2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D595-E232-4043-AED8-ED6D7271FF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926B-DCF8-4E13-8507-34CEF5F5F2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حم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B0DC-26DD-4ADC-8522-04F28415F2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1B0D-D89F-480E-8B90-4A96ED552C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358F-2F3A-4934-A874-C7E637B464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HP</cp:lastModifiedBy>
  <dcterms:modified xsi:type="dcterms:W3CDTF">2014-01-07T17:04:38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A14E7B8-F233-4B18-AC24-398BCEBF4C8F</vt:lpwstr>
  </property>
  <property fmtid="{D5CDD505-2E9C-101B-9397-08002B2CF9AE}" pid="3" name="ArticulatePath">
    <vt:lpwstr>Lecture 21</vt:lpwstr>
  </property>
</Properties>
</file>