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A3CA-AB7C-49DF-8CEA-BAE06DA93F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32D-ED8E-441E-84F2-0A8F628FA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735E0FB-BF1E-4F37-BEC4-7DCF340EF5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C37-7039-4171-8679-A437293A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385-194C-4932-B12F-B2208701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F20-8E5D-4B31-9455-743595C7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283-7F9C-4EC4-9A5B-2F35D9B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F61-22A8-4D3A-AFD1-F58ABC59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FE4-65D5-4E83-80A3-4738934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73C-E4A2-4ABB-AC4D-4C2C64F9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D2F-6020-46F6-A472-C468A44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1A1-13D9-4BBC-8562-4EF8066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FE6-5E74-439C-82CD-9D1DAD2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2E6-3DA5-451A-AA46-382198C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D3E-4DD6-4B60-98A4-913C23A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014-0969-48AF-980B-DF9554343C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4A4-815B-46D5-84E1-B53A1CF85D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Gene to Protein (Trans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longa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on recogn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ion fa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ists hydrogen bonding between the mRNA codon under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with the corresponding anticodon of tRNA carrying the appropriate amino acid [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ep requires the hydrolysis of two guanosine triphosphate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T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ptide bond forma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ecul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talyz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rmation of a peptide bond between the polypeptide in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with the new amino acid in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. This step separates the tRNA at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from the  growing polypeptide chain and    transfers the chain, now one  amino acid longer, to the tRNA  at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oc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ibosome moves the tRNA with  the attached polypeptide from   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to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A83F-7E90-41A1-8464-3866F87C74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3733920" y="4282920"/>
            <a:ext cx="43434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40840" y="1234800"/>
            <a:ext cx="86108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676520" y="3729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1920" y="838080"/>
            <a:ext cx="5791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mRNA attaches to a ribosome at the AUG, which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 cod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beg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e transfer RNA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onds with the correct amino acid and becomes “charged.” (in the cytopla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he tRNA carrie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o a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ribosome. Each tRNA has 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d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se bases are complementary to a codon on the mRNA strand. The tRNA brings the correct amino acid to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he ribosome moves along the mRNA and adds more amino acids to the grow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ypept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The process continues until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bo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ches one of the thre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 cod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mRNA, and then the  ribosome falls off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The result i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ypept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in or protein that is ready for use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9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10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02E-84D9-4ED2-A218-212644C1DD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899E-FF60-470D-92D3-5A827E62D4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DA93-B0E2-4D30-90EA-4249E48FB1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876E-B586-4B55-BA78-496C9BE3C5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90720"/>
            <a:ext cx="91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hesis of Prot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is the RNA-directed synthesis of a polypeptide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r l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Components of Trans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Transfer 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so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occurs in three stages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1- initiation of translat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2- elongation of polypeptide ch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3- termination of trans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ribosome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mut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single nucleotide-pair sub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(2) nucleotide-pair insertions or dele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29B7-4A7C-4D5E-93EF-AE3DB344DBF1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1616-5A1F-4951-AEDF-358592609B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1C5-3C51-4F48-A277-8280493CA9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D0E-F1DC-40FF-BCB7-027F4D53FC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3657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ocess of translation, a cell sends a serie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g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RNA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amino acids from the cytoplasm to a rib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ibo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s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 carried by tRNA to the growing end of the polypeptid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38080" y="15228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0489-4A5B-4D4B-B6DE-4AF828A62D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tructure and Function of Transfe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600200"/>
            <a:ext cx="6324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NA molecu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pick up its relevant amino acid in the cytoso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deposit the amino acid at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return to the cytosol to pick up another copy of tha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d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فرة المُعاكس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6172200" y="591804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gure 17.1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ransfer RNA (tR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548-EC88-4273-B87D-552DDAC13A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320" y="380880"/>
            <a:ext cx="90676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5029200" y="3954600"/>
            <a:ext cx="3886200" cy="2462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228600" y="396864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968-5494-42DE-A6D8-A5C02FD44C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76320"/>
            <a:ext cx="88394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occurs in three stag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initiatio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ransl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 elongatio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olypeptide cha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 terminatio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itia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a small ribosomal subunit binds with mRNA and a special initiator tRNA, which carrie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hion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taches to th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art cod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 fact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ing in the large subunit such that the initiator tRNA occupies the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mohamed</cp:lastModifiedBy>
  <dcterms:modified xsi:type="dcterms:W3CDTF">2016-01-22T18:02:19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