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750C-32AD-4692-A2A8-A610E3A650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E023-FDEA-4490-BD87-9E35ADB621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3F73F769-8D22-422F-A678-7C5495693E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2FC-37AA-4720-B995-FDBB7CEB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315-B9A5-4A12-BCD9-9D4D8D6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541-2772-4B2A-917D-07A6BA66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E38-A0F0-4792-A97D-6E5AE518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0DC-301C-46D2-A8F2-D1471BD1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CA3-2F69-4AD8-AAEE-C0A866C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5DE-D0CE-4FC2-B93C-EA546A4A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9C4-C0CF-4689-9C11-2C983D1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668-57E9-4573-B950-20C3D78D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075D-4EB4-4E80-9B5F-A41EA8F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0E9-D557-41F3-B2FC-141F4146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E3E-E31D-4606-92FD-AD075880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464-8901-42E8-8ECF-CF465058B8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0A2E-332C-429C-8BA6-C3E1712A16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Gene to Protein (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long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on recogn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ion fac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sists hydrogen bonding between the mRNA codon under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with the corresponding anticodon of tRNA carrying the appropriate amino acid 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ep requires the hydrolysis of two guanosine triphosphate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T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ptide bond forma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ecul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talyz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formation of a peptide bond between the polypeptide in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with the new amino acid in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. This step separates the tRNA at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from the  growing polypeptide chain and    transfers the chain, now one  amino acid longer, to the tRNA  at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ocation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e ribosome moves the tRNA with  the attached polypeptide from   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 to th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21CC-FD6A-4082-9B24-C3DC868030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3733920" y="4282920"/>
            <a:ext cx="434340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40840" y="1234800"/>
            <a:ext cx="861084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676520" y="3729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1920" y="838080"/>
            <a:ext cx="5791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mRNA attaches to a ribosome at the AUG, which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begin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e transfer RNA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bonds with the correct amino acid and becomes “charged.” (in the cytopla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he tRNA carrie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o a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ribosome. Each tRNA has 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d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se bases are complementary to a codon on the mRNA strand. The tRNA brings the correct amino acid to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he ribosome moves along the mRNA and adds more amino acids to the grow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pept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The process continues until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bo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ches one of the thre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 cod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mRNA, and then the  ribosome falls off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The result i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pepti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in or protein that is ready for use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9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10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DF1B-4BD1-4C31-8584-B7FFE512C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710A-4C57-4791-B8A5-015F18406E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1CE2-E368-4C79-A84C-7935C7C2B8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C36A-769F-44F4-8C7E-BB610C1168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1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hesis of Prot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is the RNA-directed synthesis of a polypeptide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Components of Trans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Transfer 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so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occurs in three stages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1- initiation of translat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2- elongation of polypeptide chai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3- termination of trans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ribosomes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mut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single nucleotide-pair sub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(2) nucleotide-pair insertions or dele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5966-A36B-4AF2-95C0-CDD1A068B25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99D3-6F8C-4277-9522-8F98C23EF1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E860-8A0E-40F2-BB7F-2C71BBC56D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1CB6-517A-44DA-AA46-02F683ECE0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3657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 of translation, a cell sends a series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d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g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RNA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amino acids from the cytoplasm to a rib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ibos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s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 carried by tRNA to the growing end of the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38080" y="15228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52D3-2AB9-462A-9630-2DE892EF05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Structure and Function of Transfer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600200"/>
            <a:ext cx="63244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NA molecu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pick up its relevant amino acid in the cytoso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deposit the amino acid at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return to the cytosol to pick up another copy of tha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d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فرة المُعاكس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6172200" y="591804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gure 17.15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transfer RNA (tRN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A24B-F2E0-473A-8097-911CC92060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380880"/>
            <a:ext cx="90676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5029200" y="3954600"/>
            <a:ext cx="3886200" cy="2462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228600" y="396864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1941-DAE0-4E18-80E1-05073C781B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2280" y="76320"/>
            <a:ext cx="88394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occurs in three stag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initi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ransl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 elong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olypeptide chai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- termination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itiation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a small ribosomal subunit binds with mRNA and a special initiator tRNA, which carries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hion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taches to the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fact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ing in the large subunit such that the initiator tRNA occupies the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mohamed</cp:lastModifiedBy>
  <dcterms:modified xsi:type="dcterms:W3CDTF">2016-01-22T18:02:19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