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5AAAA-BFCF-48C8-8937-481E62AED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1BE2F-27D1-4FE3-9063-4E4663534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128DA-619B-440C-9F6C-108A69DF0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F89AA-BF02-45B9-B2CE-8B71B8758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0DEB9-2ACE-492C-BEE8-A68C66B54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DEB60-7FDC-4CB9-81AD-D0B9B6E38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5C885-7E30-45ED-87CA-CF61124F8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443D1-5EBC-41CA-AF61-9788C59F5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1C8DF-B10F-47DD-93BC-F0AE78181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04703-D4E5-44CF-BC97-E7A94C677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2D202-EF25-438D-B636-FA9F4FF50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EA713-5CF3-479E-8C5A-4CACA6875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04B36-80D3-4AD2-9271-7BB264A86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3D5C0-3014-4822-B9F1-710A5382D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A38A1-4824-45A4-BAA7-0126352D8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B5DA6-17F9-43E5-9DBD-3ADB08D88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5F91A-D88D-467B-B2B9-38484CC0E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5F41F7-46B6-490F-9157-8ECF59DC85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53BFEA-64FA-41C7-89D8-AF7149A6AC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42AFE-0AC1-4DA2-88E1-C6235A553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37547-974F-417E-B2FF-F0471453D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DDFDD7-D347-4934-B6E5-421153725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4B5D1-F34A-4B40-A1DB-AE3E47CB8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F327B-B128-4B29-B1D5-9985FB9CB5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FBB1A-BCF7-41AB-9AB3-301206F80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7F444-8A25-4D72-8831-4A0527DA8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66BBA-6FF3-412F-B821-3B2861DFF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0C5AC-907A-4F39-90D0-70A065B597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18B8C3-B171-4D13-AED6-68D534F954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7B6483-E18D-4646-B1DA-FDA83AE10E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FB78ED-B74F-4E62-AFEB-28A47B6A5E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CC3667-FBDB-40DA-AD0F-2F89E526B0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9980AF-683B-4FE5-BC1D-417EF42D99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023A2-0CAB-4857-A681-F8E138171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69316F-00A4-4946-A80E-783AA1E3D2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250CE6-C24A-447D-AD0E-14802D122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1D92D-5C63-4952-8AB7-EE4F10837E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7BC6F-2D2E-48A2-A560-49A128470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2C9730-6BC5-4923-A97D-7A6E99523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290CB-6FD0-4BEA-86C9-449BA5F06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936DA-58D6-41CD-8ED5-8AE9380DDD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BE86D0-49E3-4FAE-A69D-1EE45B21D7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31BD63-49AE-46E3-84D6-2EB44DF3CE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FBED37-2276-47E9-BA36-179330E4B1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43BDD-7470-4EF4-9384-E0CE490ED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1979CE-5E61-4DFC-A55D-43BD12469D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E38621-CF61-4578-A6D3-80EFA084D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BEFFF2-B526-4642-904E-49386EB8FE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ACF6F-BB24-4171-AF7A-1F516C46D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09BD6B-5680-49D9-A5F8-E24E916CA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CD0BC0-CA35-43C3-B855-E9B191914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8375F-EB44-4A26-8970-C68FA0CAF2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2A97C-96CA-41D9-A838-C034F7910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71286C-ADAE-4F04-B3E8-887154C082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8B485C-8418-48C9-AD0B-37FC6B90DB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941A5-0D53-43EF-9493-6AA842439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37EDAD-AF0A-448C-A162-910C486D22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E70CEB-B4AD-4604-AE29-CF12E71DEF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A0D0C6-DF96-49F0-988F-D81C1E2A44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31A4C6-039F-4936-9B76-8E73E86211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67BE83-D44F-43A7-BEA3-4327910B1A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898CC1-8CCA-45EF-BFF6-CA98F68C8D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3437E3-C8AB-4692-AD2B-5E79201A46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10AB20-70B7-4E47-8F50-D0194B41F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630506-CA6F-4C64-953D-4B7EBD41D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C95E4E-C8C8-4B28-91AA-DD83FAEF3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2D74-6A0F-496E-A247-B83D43D9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138C5B-3CE0-4EB5-BCB8-CAC6E66A14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1C6156-F49E-41C1-96D0-BBF55C0C5D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237F99-548C-4CDF-BC2B-83B3A3F215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9BD01-F7A2-4D1D-9490-EBBF27D3B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A12AE-D9D4-4D60-A14E-006CD1D3C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8E9B-50AB-4716-A759-121C3586549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4BD1-24E4-43A5-8ABF-8E46460E35C3}"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5B28-C05B-47FF-9082-497D5F70B52A}"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80B6-9820-44A8-AE0A-7051B3375C9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15D9-201B-4EBA-80AE-B37B5830EF6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783A-E46C-461B-A79A-B63BD59FD9F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mc.maricopa.edu/faculty/farabee/BIOBK/BioBookglossM.html#muscular syste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Control Systems of homeostasis</a:t>
            </a:r>
            <a:br>
              <a:rPr sz="2400"/>
            </a:br>
            <a:r>
              <a:rPr b="1" lang="ar-SA" sz="2000" spc="-1" strike="noStrike">
                <a:solidFill>
                  <a:srgbClr val="04617b"/>
                </a:solidFill>
                <a:latin typeface="Arial"/>
              </a:rPr>
              <a:t>الأجهزة التي تتحكم في الثبات الفسيولوجي</a:t>
            </a:r>
            <a:r>
              <a:rPr b="1" lang="en-US" sz="2400" spc="-1" strike="noStrike">
                <a:solidFill>
                  <a:srgbClr val="04617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Muscular System</a:t>
            </a:r>
            <a:r>
              <a:rPr b="1" lang="en-US" sz="2000" spc="-1" strike="noStrike">
                <a:solidFill>
                  <a:srgbClr val="0000ff"/>
                </a:solidFill>
                <a:latin typeface="Constantia"/>
              </a:rPr>
              <a:t>:</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د أشرف مشالي</cp:lastModifiedBy>
  <dcterms:modified xsi:type="dcterms:W3CDTF">2013-09-02T10:26:20Z</dcterms:modified>
  <cp:revision>58</cp:revision>
  <dc:subject/>
  <dc:title>Principals of General Zoology (Zoo-103) </dc:title>
</cp:coreProperties>
</file>