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BE23C-BE5D-4E8D-BDA1-29BC47EA5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74447-FB14-4C47-BA7C-C0C78ED2C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1D0FF-F1A1-4BC5-9103-FFA961AC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5BE54-0A0C-4AF8-8576-D0C2AA644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B209A-8807-4E71-92A9-F77B4DBFB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30777-A2A4-414A-8F19-2D6620E30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1D97B-D2DE-471C-96BC-6822E3664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87923-858C-4DCE-946D-C57D5D9BB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D5AE8-F927-4D7D-BF15-8702B6B1C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9188B-F75C-47FE-9FA8-012E0C331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DDAAE-96E8-40A1-97BC-D106EB1DF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6D37-3A63-4614-9166-081DDC65D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96A0-3588-4C37-94ED-414E2C835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32BE-4B27-4DC2-9767-83269C4FC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62270-8866-477F-95F0-0F94A6E29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70FCD-13A7-49ED-A2B1-D749C82BF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9A7A5-D9EB-4A62-9496-7B0FA9547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67644-FD17-4E12-BC9D-D6E06121C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B82FE-3D54-40B1-94B3-48A06F98E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C29F6-838E-4C28-89FD-0A88F1B41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EF87D-99EA-4DA7-9C57-C4F3B235E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3048B-28BC-484B-A719-49D4569DE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769F-8F8D-4E47-94E7-ACCB3A26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DE231-4848-4E96-ABCF-796EA61B2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CFC8B-E4F1-4281-81CB-E029E74AE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25A5C-7092-4423-8B92-1A9FA6071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CB0AD-EA80-4CD9-B9C9-5FA9E441C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72505-FBF0-4DE3-95E4-A297580FD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E6C35-28C8-428B-80AF-C203DABCA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30BA36-2FB9-4845-B2FD-7E0349D1C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59A812-B14E-424C-9E16-D32C7D6E9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0B531-0F1C-4F2E-9155-BF52CBED6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9D9B0-7FFE-43CA-8160-97EB6A830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DA6CC-6609-456D-AF8C-6B0DB968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7F170-D1C4-46D0-9E2F-603A92766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EF7D6-3635-4B73-8901-25816A869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4B85E-2533-442B-9CD3-2FF548BF3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ABF40-E807-4731-95C5-177A9D9D5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FABEB-2389-41E2-A927-72C349320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ACA63-5F30-449D-800A-EAAFBFF83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6A86F-CCE8-4AA0-96DE-7E673770F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DBA77-6580-4B3B-AEE2-7A7606C9E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B8ECB-7E2C-42F2-BA3E-414E636EB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AB5D4-34A5-457D-A378-5F3D383A6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D5FF6-B003-497F-9C56-F1938617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18E56-8034-4ABB-89A9-948F70D14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693A5-8C5D-438B-A9AE-D28F7451C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3B637-838D-4452-A3B8-94FF92F8C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A9B34-CA76-490F-A01F-DDE7D56FD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420D6-8AB5-46F5-A2FB-E894976B5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42EC6-829A-4B41-932F-E643DB480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F8C25-76E2-4C8E-A1D8-418E91889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51547-5903-4198-827D-42CCE7B2C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AFE9F-AF1D-4CDD-972E-87D0902EB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CCE8D4-5BF3-4A4F-B52E-497CE099C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1F5D3-F596-4CDD-A03C-D6E2DBD75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656B74-F1D8-4443-B964-54AF6E433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64A787-903F-4084-8E4D-2EBE76D930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846E4-E10F-4664-A73F-B59F10DE6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F5DCC-F81F-4BAC-A493-467DE2FF0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036A2-95B3-4BAF-BE16-6DBC42EE8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BEF71-1264-4754-9A55-9C3C811380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27ED7-8812-45DF-AA09-DC886E1B9F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15DCC-2902-4F2E-ADF9-5E8FB78FB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55ABD-3E93-498C-98F2-18DE7A1D9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BB819-F10E-4320-9A40-6D9F7ADDD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2AD3-504E-4E28-860A-FEE28460A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DB638-7982-4C9E-989A-B79AB3941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4A3316-B0E5-44A2-B719-5D645E0D59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5FCB32-B6E1-40B6-A1F6-C7F94BA8B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D267-8598-4A1D-9CB0-6D74DCAB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EB68-9F7D-435C-98C4-305D7CA5D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33C7-D53B-4504-8BE3-451F711D2EB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33FB-B57E-43A4-A391-4B5DB9C1372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5C0-B0AD-4112-8A62-EF59A8090F10}"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220A-5A3C-4157-8817-980AC5C8969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92A8-9EDF-4336-9705-F47B58A55BF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BDE0-A731-4DC7-A394-CFA4AFEC186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nodeType="afterEffect"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ea typeface="Arial"/>
              </a:rPr>
              <a:t>Control Systems of homeostasis</a:t>
            </a:r>
            <a:br>
              <a:rPr sz="2400"/>
            </a:br>
            <a:r>
              <a:rPr b="1" lang="ar-SA" sz="2000" spc="-1" strike="noStrike">
                <a:solidFill>
                  <a:srgbClr val="04617b"/>
                </a:solidFill>
                <a:latin typeface="Arial"/>
                <a:cs typeface="Arial"/>
              </a:rPr>
              <a:t>الأجهزة التي تتحكم في الثبات الفسيولوجي</a:t>
            </a:r>
            <a:r>
              <a:rPr b="1" lang="en-US" sz="2400" spc="-1" strike="noStrike">
                <a:solidFill>
                  <a:srgbClr val="04617b"/>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scular System:</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5-03-10T18:04:24Z</dcterms:modified>
  <cp:revision>59</cp:revision>
  <dc:subject/>
  <dc:title>Principals of General Zoology (Zoo-103)</dc:title>
</cp:coreProperties>
</file>