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57725-08A4-4FC5-8E41-53D10F723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8B8CB-1752-480F-8832-BB151CB79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712B5-F549-4120-BB6E-68151648D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936A6-A32C-48B8-ABE9-E44EF56CB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80FAA-0F59-4C42-87D4-CD377CEA6D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C07A3-6D33-4BE7-8C52-AD67FC6FE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9A271-8A38-4CBB-B1A0-3AA494409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80F55-730B-415F-9F12-3377F9E6B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F05AA-6559-41FF-BC49-10E59DDDB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CA593-8383-4929-951B-39A44D04F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D55A4-D106-4223-83E2-231B4D0E3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7FFEE-3520-405C-B04D-3553A9A50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A56FB-A9B8-4E83-A10A-93F3E740B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FC1AA-D6CB-45A5-83FA-8475E6BF3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0A9F3-6119-4B24-99A9-0E69CC922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72975-BDC9-45AD-AB61-B3B115A2A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FA0E4-DC80-44FB-B1F3-5DCFF4F77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94285C-3C44-45DE-AF2E-2558E0741D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E02D18-1660-4610-AF2D-049F30143A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F86020-AD9F-454F-A274-4D5A818A75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6FB0A8-904E-4A8C-B252-C24D2F4CD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ECEB7C-1C08-4496-AEDB-623758CB38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6B91E-ECD8-426B-B0C6-8897664E3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5A37F2-3F9D-44FB-81BC-2697667F05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9F2B4-C401-4E59-8C2A-CB0961C2E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420A7-3972-4688-91BB-60EE2A194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40F8D-DF3D-42AA-899C-1407776E3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94CE57-EB8D-4A7B-BDC5-14376C0D9D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D6E3B0-2BCD-4B91-B0C7-E2389BF89F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5B1015-B650-43AA-8547-990BB73F6A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4962DF-4E6A-436B-8C76-737C395E98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FD31EF-A223-4068-B1F9-0BDEFCB9DC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9A5505-6E52-47EA-B732-B630427050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065DC-0E03-44BB-87DF-D85F1E018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EE31E-B79E-4578-B957-6A676268A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9E1F68-7ECC-4249-AB9B-4E5223B9E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88945D-4A97-45B2-8E30-DF0E46A832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2B47D-5442-403B-B41C-3947FE2D6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18A61-D7AC-4FF3-AA43-2FD938589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A3F60-534D-4F59-ABA2-371236082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19DC8E-6789-42EB-85EF-0293E3CDAA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D0321D-C97A-4B13-A42E-44A331D2CA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7F0094-0090-4408-AC4B-60732A7BFF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7991AB-C221-4D90-B898-3AC55AFFFF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4D3F7-C4F1-4DAB-95A5-85142C4C4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AD8ADA-448D-43BC-91C0-5268FB8E93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07063B-FD46-4DC0-87C2-9CEDEF25CC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3E8034-099D-4D95-8D00-49F0175099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B84494-B79A-4777-8082-F313DD5E15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DDD383-CA86-48D9-A87C-828EDDC337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CF9E6-A52A-4E2F-BF06-56D9786A5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589636-45F8-4806-BE7E-3322F0070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7D04B3-DF8E-44B7-907F-0C7CF0167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096F9-5DEB-483E-BF06-2014FC7EF9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817469-49B8-4CDE-BD80-E40C8679DD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495A2-EA23-4A6F-B7E5-BE78B9CDB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BCAA60-127B-495F-8F93-814368BFAE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6FE95A-ADF8-4B0C-BA6B-81C0A8F1F5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29ABCB-6A57-40C8-AA09-7BD4028172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D53530-1E95-4DA6-A926-AD1D001F3D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1C55BE-BA84-4499-B35D-DA9F3B7D9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8BCEE1-E53E-4180-A17F-9D6A539B41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D3ED60-7C33-424D-AC3F-C52210D021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542FAC-87F2-4C00-8A87-F261DF5C3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C31B9-AC66-4E57-B66A-E60B4E0B0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3E9DF5-5263-4C81-8C25-13C6D830C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94824-0119-4FB2-B479-736F349F2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2D911-43BA-4BD2-AD22-DCB2144D62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A24521-B4F6-4BB6-A317-31B57EFC40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77CA15-1B01-4E3C-AB37-1CD4878553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7090F-35C4-493C-8E07-3148731F5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3B0EA-AD1F-4334-882A-6AFE8DC2A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8CE7-51F9-49A3-B580-5C643F0F4EE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B979-1561-42F5-B389-58037225E96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B85F-A494-478E-BB9C-8B19A0B672B4}"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A296-B361-4766-8088-22A607CBBF5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6435-04B4-4557-8E80-15F51E2C242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5F0B-DD52-4AE8-BA07-9A9611CC716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mc.maricopa.edu/faculty/farabee/BIOBK/BioBookglossM.html#muscular syste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Control Systems of homeostasis</a:t>
            </a:r>
            <a:br>
              <a:rPr sz="2400"/>
            </a:br>
            <a:r>
              <a:rPr b="1" lang="ar-SA" sz="2000" spc="-1" strike="noStrike">
                <a:solidFill>
                  <a:srgbClr val="04617b"/>
                </a:solidFill>
                <a:latin typeface="Arial"/>
              </a:rPr>
              <a:t>الأجهزة التي تتحكم في الثبات الفسيولوجي</a:t>
            </a:r>
            <a:r>
              <a:rPr b="1" lang="en-US" sz="2400" spc="-1" strike="noStrike">
                <a:solidFill>
                  <a:srgbClr val="04617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Muscular System</a:t>
            </a:r>
            <a:r>
              <a:rPr b="1" lang="en-US" sz="2000" spc="-1" strike="noStrike">
                <a:solidFill>
                  <a:srgbClr val="0000ff"/>
                </a:solidFill>
                <a:latin typeface="Constantia"/>
              </a:rPr>
              <a:t>:</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د أشرف مشالي</cp:lastModifiedBy>
  <dcterms:modified xsi:type="dcterms:W3CDTF">2013-09-02T10:26:20Z</dcterms:modified>
  <cp:revision>58</cp:revision>
  <dc:subject/>
  <dc:title>Principals of General Zoology (Zoo-103) </dc:title>
</cp:coreProperties>
</file>