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21797-0876-4BAF-A260-C40E8A334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49CE8-70C1-4C32-BCC9-605F0602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F8303-4402-4FEE-AA21-1C8280A67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BCBB6-8C10-4E35-9384-60008D16F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D3816-8063-4D61-BFB2-59E0FE23E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E69FE-0700-464A-8707-DB8DC7801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74CC9-B772-4178-9F48-8256BAB25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C1B5F-AED0-4901-BD3E-7B663469A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061E2-1AD7-4B12-913C-A528310F6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605C7-E13E-4C02-B7D6-46D9E8FFF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8F4AC-CA47-487F-B282-4288CA2C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1225-FD81-419D-B1EC-F3B8A131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463A-3A3C-4E4A-9D65-129E6C7CE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348EB-76CB-46BF-910B-86344D84E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6C969-5929-4BF8-ADB0-3C9F8D42F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CF330-1E9E-44A3-BA9E-C5E87117B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A8FCA-4703-48D5-A062-98E272336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47516E-4459-415A-91F3-71E5F8A22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EDEBE-8601-4CC2-AE48-3EE2E190D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C9F53-4B0F-4787-9ACE-74388127F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85B67-756E-4A05-9D80-64FE993E7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4D429-F399-49F9-B211-B963A59B8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A25E7-FAC6-4D8B-B48F-C4326C4B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48F89-828D-49BC-B144-701ECD04E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AB5DE-19B3-4DC9-8E16-107950AB7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719ED-34B9-4AE2-941D-C433856A8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A766F-5D14-4EB1-8808-3FB8E46ED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EE753-301E-4AE0-BA93-BB9AF0924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6B3A4B-0286-41EA-AFAA-52B63F3916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CEA53-930F-4398-8054-C0855D7B4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787901-98EA-4F1A-94B4-520C5F44B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6BF74-00A4-4BA2-BBCB-402112E0B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6342B-1CFD-4C39-B979-6AA1A68BA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C14E-99BE-445B-9E02-4658C312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574C9-BD6F-48B3-A1A3-A8DC0BC51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261D3-EC74-4FD6-B46C-05EEA9A4E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847BD-DE8E-44CD-9DF4-5B81BE2DF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2DA89-66E2-4A74-9718-F0976D214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96F14-CD7A-47EE-AFA8-6234B7CDF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44377-5E0B-41AF-9088-5D3D588C5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104B2-9060-4C23-967F-E66ABB621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A6DC2-C30B-400E-A66E-FFF4603FBD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1A4A8-AA34-401B-B469-5A7082081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0F3F0-5F29-4961-8CE9-C94AF2AC0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6882E-1650-43B9-B496-7F4773B1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056523-D8A9-4C12-9A4C-E6E4EFA4C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A2F10-743A-47CD-BC4E-FDD9267B0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8C19F-8573-49B6-8FB8-BF0F9030E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58B50-CC59-4DDA-8F31-FCDC75293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1D6D0-D3C2-430B-8EA3-D27A75798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E0488-D9C7-420F-870F-67EC67D35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A6960-39C8-4A6A-A8B5-247D2D55E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80585-8155-4281-86F4-7D3D02B7A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B3300F-4575-42A7-BC45-029A9F672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E8FC84-E030-4915-8C57-5A267CB73E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F2C7-DCAE-400F-B12A-D46D3A45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B940C5-AD17-4D41-B23A-57292F9426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906492-D532-4EF7-9DAB-072A4EA84F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ECEC9-F065-483E-8E66-0EDC5F6AC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940DC-55A4-4D5B-851F-BEDE16968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08DD1-65F7-4CBE-AC06-D5FEBBF47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2A1B2-4CA1-4103-B3F8-943FB34BF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8DC25-7FD8-4B62-B3E4-18A46412E4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1CF08-81A6-4663-8E5D-6A5A6C83C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353F2-B53A-47D2-9C48-C6D4A45A5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6E48F-0B43-4030-AAFE-9E43B8371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B7B7-D86B-45A7-89C1-836A3457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7C3B9-4A57-48D7-A8EC-8F0F2522C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326AE6-D061-409C-A796-60CAB88AD2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59AFC-9D90-47CE-87FE-E1F5AC8E5D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D252-FF47-44A5-9D26-0F46E77B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60B7-A749-4514-8D3D-4874EC39C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FB6C-ED70-4A79-8996-02AD3625A95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8492-5968-4DA0-AEDA-CBC601239BC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374C-E37C-40FA-B89E-9C351B9520AF}"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0991-4CEC-4DE9-BAC1-AFAF0BAF55E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7C3A-F8D3-4ADA-A131-6E148548BA4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9F0D-1D6E-49E9-B056-2B55A591D5B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4-08-27T10:30:10Z</dcterms:modified>
  <cp:revision>58</cp:revision>
  <dc:subject/>
  <dc:title>Principals of General Zoology (Zoo-103)</dc:title>
</cp:coreProperties>
</file>