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E9F6-9F8D-417A-890E-28B3431519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DA21-C1B5-4F5C-8EE0-6C7CAB8579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FA05-75D1-4808-B3D3-D238C3388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01F0-8AEB-49F3-81CD-3D1959277F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1DEE-8C5E-49B1-A5A5-F881020497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B370-8222-4C06-BAC2-B4BEB23302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00A0-F912-4B7E-AF92-082534C794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6BF1-5125-4A53-87C7-DAF74E377D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0A8D-085D-422B-9CD1-6C4D02A9E2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B842-E3D6-4313-B3BA-021D3A5FE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DF52-00E6-4917-814D-99FF91F94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BCA2-6F7A-49F7-A398-3528F42551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4C4E-E01E-4C2D-8B50-1070F93592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688C-5332-4F49-B891-8DB44F66E7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E095-3EF0-4751-A279-33189EDCA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E051-6817-4467-8803-5E508E1CB9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FC70-13B1-4911-B0B4-62B12E6A3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EE8-2936-45CC-A72C-552C79F0B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0A69-A583-4DD9-86EF-8BF87B1C47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8EB0-1627-490B-AAF3-E1F99F8CC2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0486-27C3-4AB4-9EAC-D9B275DEB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CC5C-1689-487A-993F-BFFEE405E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AE8-B9E2-481E-9557-9B103527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BF9-C478-404E-9C01-4FF8DEF6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776F-A88F-4526-B18C-BC1EBF6A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A37-6EBD-4BC9-A7D0-5C0BA156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109-9CF4-4BE1-B80F-8CCA2B11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DFB-7397-4FB3-AE38-270474DC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B7C9-8046-400E-9397-0E2B32CF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9F6-A998-4DD0-A423-196AEF41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9FA-9CF6-49A7-AE8F-28BF4608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F67-2283-4154-B904-0972781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1DE-8675-4B43-A157-F9F3B3D6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F82E-2ED5-4B08-9A05-CCC53C96A8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../Book%20CD/C4EWIN95.EX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6D76-9DEB-44D4-B861-E60A99CC8F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1219320" y="1676520"/>
            <a:ext cx="6858000" cy="52056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A: DNA as the Genetic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2"/>
          <p:cNvGrpSpPr/>
          <p:nvPr/>
        </p:nvGrpSpPr>
        <p:grpSpPr>
          <a:xfrm>
            <a:off x="838080" y="2514600"/>
            <a:ext cx="7543800" cy="3886200"/>
            <a:chOff x="838080" y="2514600"/>
            <a:chExt cx="7543800" cy="3886200"/>
          </a:xfrm>
        </p:grpSpPr>
        <p:sp>
          <p:nvSpPr>
            <p:cNvPr id="55" name="Rectangle 20"/>
            <p:cNvSpPr/>
            <p:nvPr/>
          </p:nvSpPr>
          <p:spPr>
            <a:xfrm>
              <a:off x="838080" y="2514600"/>
              <a:ext cx="7543800" cy="3886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9" descr=""/>
            <p:cNvPicPr/>
            <p:nvPr/>
          </p:nvPicPr>
          <p:blipFill>
            <a:blip r:embed="rId3"/>
            <a:srcRect l="0" t="0" r="0" b="4968"/>
            <a:stretch/>
          </p:blipFill>
          <p:spPr>
            <a:xfrm>
              <a:off x="914400" y="2590560"/>
              <a:ext cx="7416720" cy="372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 Box 21"/>
          <p:cNvSpPr/>
          <p:nvPr/>
        </p:nvSpPr>
        <p:spPr>
          <a:xfrm>
            <a:off x="1752480" y="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16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OLECULE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38B0-22FB-4F3A-A19A-0E7DAE9EDB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"/>
          <p:cNvSpPr/>
          <p:nvPr/>
        </p:nvSpPr>
        <p:spPr>
          <a:xfrm>
            <a:off x="228600" y="838080"/>
            <a:ext cx="85345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90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miconserva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DNA Replication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28600" y="1066680"/>
            <a:ext cx="876312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ز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elic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mera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CB3F-4C51-48CA-8B59-C0AFD930BC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28600" y="1233000"/>
            <a:ext cx="86868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tak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ess th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 hou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opy each of the 5 million base pairs in its single chromosome and divide to form two identical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human cell can copy its 6 billion base pairs and divide into daughter cells in onl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w ho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 remarkably accurate, with only one error per billion nucleot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helicase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ntwis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َلغى الإلتفا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eparates the template DNA strands at the replication f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ingle-strand binding proteins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eep the unpaired template strand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ar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نفصلي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lication of a DNA molecule begins at special site called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origin of repl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ـنشأ التضا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ch is a single specific sequence of nucleotides that is recognized by the replication enz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Replication enzym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 the strands, forming a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replication “bubbl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قعة التضا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lication proceeds in both directions until the entire molecule is copie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A large team of enzymes and other proteins carries out DNA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9445-205E-4DC7-AB48-4D17B63647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2895480"/>
            <a:ext cx="5333760" cy="29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rands in the double helix a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tiparallel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زيين و متضادين فى الإتجاه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gar-phosphate backbones run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DNA str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has a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d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ree O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 attached to deoxyribose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5’ e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ree phosph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group attached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oxyribo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5’ -&gt; 3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irection of one strand runs counter to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مُعاكس ل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</a:rPr>
              <a:t>3’ -&gt; 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’ direction of the other str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816520" y="1447920"/>
            <a:ext cx="3251160" cy="5029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3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2, Page 2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04920" y="76320"/>
            <a:ext cx="868680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DNA polymera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زيم نسخ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ـ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 د ن 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alyze the elongation of new DNA at a replication f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nucleotides alig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ت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complementary bases along the template strand, they are added to the growing en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هاية المتنام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new strand by the polymer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aw nucleotides are nucleoside triphosph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ach has a nitrogen base, deoxyribose, and                                                             a triphosphate ta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6244-D48A-4D4B-AFA3-6262E1CF52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0" t="0" r="0" b="35572"/>
          <a:stretch/>
        </p:blipFill>
        <p:spPr>
          <a:xfrm>
            <a:off x="152280" y="2286000"/>
            <a:ext cx="8763120" cy="4178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3240" y="656100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134080" y="7920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[Replication Mechanism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711000"/>
            <a:ext cx="861048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eukaryotes, there may be hundreds or thousands of bubbl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has origin sites for repl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per chromoso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origin sites, the DNA strands separate forming a replication “bubble” with replication fork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وكة النس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each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lication bubbles elong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ستطي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the DNA is replicated and eventually fu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دمج مع بعضه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BE61-1262-4CDF-AD98-747BFD8856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4038480" cy="23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Prim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بدى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hort segment of RNA, 10 nucleotides lo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required to start a new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rim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RNA polymer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links ribonucleotides that are complementary to the DNA template into the pri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6320" y="2666880"/>
            <a:ext cx="380988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formation of the primer, DNA polymerases can add deoxyribonucleotides to the 3’ end of the ribonucleo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ther DNA polymerase later replaces the primer ribonucleotides with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oxyribonucleotide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imentary to the templ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13804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4, Page 2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>
            <a:hlinkClick r:id="rId2"/>
          </p:cNvPr>
          <p:cNvSpPr/>
          <p:nvPr/>
        </p:nvSpPr>
        <p:spPr>
          <a:xfrm>
            <a:off x="76320" y="62485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365" h="21600">
                <a:moveTo>
                  <a:pt x="17676" y="3794"/>
                </a:moveTo>
                <a:lnTo>
                  <a:pt x="31689" y="10800"/>
                </a:lnTo>
                <a:lnTo>
                  <a:pt x="1767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3, Ch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9D35-0445-4125-9D65-E85790FFCF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52280" y="3298680"/>
            <a:ext cx="4724640" cy="29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parental stran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-&gt;3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agg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s copied away from the fork in short segmen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kazaki fragment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ـِطـَع صغير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azaki fragment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bout 100-200 nucleoti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re joined by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NA liga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 الرا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the sugar-phosphate backbone of a single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447920"/>
            <a:ext cx="3905280" cy="518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00100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polymerases can only add nucleotides to the free 3’ end of a growing DNA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new DNA strand can only elongate in the 5’-&gt;3’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the replication fork, one parental strand                                                             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-&gt; 5’ into the for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eading str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can be used by polymerases as a template                                                                  for a continuous complimentary str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73824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3, Page 2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8077320" y="62485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EAF4-3516-4F6D-BBD6-1459E3656A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1447920" y="4470480"/>
            <a:ext cx="38088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2485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mmary of DNA Replication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4920" y="6858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 DNA-strands separate forming replication bub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1143000"/>
            <a:ext cx="876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ach strand functions as a template for synthesizing new complementary &amp; lagging strand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rimer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olymerase and lig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1905120" y="2882880"/>
            <a:ext cx="5410080" cy="635040"/>
            <a:chOff x="1905120" y="2882880"/>
            <a:chExt cx="5410080" cy="635040"/>
          </a:xfrm>
        </p:grpSpPr>
        <p:sp>
          <p:nvSpPr>
            <p:cNvPr id="138" name="AutoShape 7"/>
            <p:cNvSpPr/>
            <p:nvPr/>
          </p:nvSpPr>
          <p:spPr>
            <a:xfrm flipV="1" rot="16200000">
              <a:off x="5028840" y="302256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8"/>
            <p:cNvSpPr/>
            <p:nvPr/>
          </p:nvSpPr>
          <p:spPr>
            <a:xfrm rot="16200000">
              <a:off x="3429000" y="302256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 rot="5400000">
              <a:off x="5778360" y="30099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10"/>
            <p:cNvSpPr/>
            <p:nvPr/>
          </p:nvSpPr>
          <p:spPr>
            <a:xfrm rot="16200000">
              <a:off x="1905120" y="299736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3517920" y="29210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5105520" y="2984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13"/>
            <p:cNvSpPr/>
            <p:nvPr/>
          </p:nvSpPr>
          <p:spPr>
            <a:xfrm flipV="1" rot="5400000">
              <a:off x="2609640" y="304164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4"/>
            <p:cNvSpPr/>
            <p:nvPr/>
          </p:nvSpPr>
          <p:spPr>
            <a:xfrm flipV="1" rot="16200000">
              <a:off x="4228560" y="299700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5867640" y="2984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6"/>
            <p:cNvSpPr/>
            <p:nvPr/>
          </p:nvSpPr>
          <p:spPr>
            <a:xfrm rot="16200000">
              <a:off x="6616800" y="302292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2006640" y="29084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905120" y="328932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9"/>
            <p:cNvSpPr/>
            <p:nvPr/>
          </p:nvSpPr>
          <p:spPr>
            <a:xfrm>
              <a:off x="4330800" y="2946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20"/>
            <p:cNvSpPr/>
            <p:nvPr/>
          </p:nvSpPr>
          <p:spPr>
            <a:xfrm>
              <a:off x="2743200" y="29973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21"/>
            <p:cNvSpPr/>
            <p:nvPr/>
          </p:nvSpPr>
          <p:spPr>
            <a:xfrm>
              <a:off x="6705720" y="29084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22"/>
          <p:cNvGrpSpPr/>
          <p:nvPr/>
        </p:nvGrpSpPr>
        <p:grpSpPr>
          <a:xfrm>
            <a:off x="1905120" y="2286000"/>
            <a:ext cx="5410080" cy="697680"/>
            <a:chOff x="1905120" y="2286000"/>
            <a:chExt cx="5410080" cy="697680"/>
          </a:xfrm>
        </p:grpSpPr>
        <p:sp>
          <p:nvSpPr>
            <p:cNvPr id="154" name="AutoShape 23"/>
            <p:cNvSpPr/>
            <p:nvPr/>
          </p:nvSpPr>
          <p:spPr>
            <a:xfrm flipV="1" rot="5400000">
              <a:off x="5016600" y="255276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4"/>
            <p:cNvSpPr/>
            <p:nvPr/>
          </p:nvSpPr>
          <p:spPr>
            <a:xfrm rot="5400000">
              <a:off x="3428640" y="255240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25"/>
            <p:cNvSpPr/>
            <p:nvPr/>
          </p:nvSpPr>
          <p:spPr>
            <a:xfrm rot="5400000">
              <a:off x="6616800" y="2552760"/>
              <a:ext cx="53352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26"/>
            <p:cNvSpPr/>
            <p:nvPr/>
          </p:nvSpPr>
          <p:spPr>
            <a:xfrm flipV="1" rot="5400000">
              <a:off x="2660760" y="2583360"/>
              <a:ext cx="469800" cy="304920"/>
            </a:xfrm>
            <a:custGeom>
              <a:avLst/>
              <a:gdLst>
                <a:gd name="textAreaLeft" fmla="*/ 0 w 469800"/>
                <a:gd name="textAreaRight" fmla="*/ 470160 w 46980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7"/>
            <p:cNvSpPr/>
            <p:nvPr/>
          </p:nvSpPr>
          <p:spPr>
            <a:xfrm>
              <a:off x="5079960" y="25401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28"/>
            <p:cNvSpPr/>
            <p:nvPr/>
          </p:nvSpPr>
          <p:spPr>
            <a:xfrm flipV="1" rot="5400000">
              <a:off x="5778720" y="256428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29"/>
            <p:cNvSpPr/>
            <p:nvPr/>
          </p:nvSpPr>
          <p:spPr>
            <a:xfrm rot="16200000">
              <a:off x="4210200" y="2533320"/>
              <a:ext cx="571320" cy="30492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30"/>
            <p:cNvSpPr/>
            <p:nvPr/>
          </p:nvSpPr>
          <p:spPr>
            <a:xfrm rot="16200000">
              <a:off x="1866960" y="2502000"/>
              <a:ext cx="609840" cy="3045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1"/>
            <p:cNvSpPr/>
            <p:nvPr/>
          </p:nvSpPr>
          <p:spPr>
            <a:xfrm>
              <a:off x="1905120" y="2286000"/>
              <a:ext cx="5410080" cy="22860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198144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3"/>
            <p:cNvSpPr/>
            <p:nvPr/>
          </p:nvSpPr>
          <p:spPr>
            <a:xfrm>
              <a:off x="586764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4"/>
            <p:cNvSpPr/>
            <p:nvPr/>
          </p:nvSpPr>
          <p:spPr>
            <a:xfrm>
              <a:off x="433080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5"/>
            <p:cNvSpPr/>
            <p:nvPr/>
          </p:nvSpPr>
          <p:spPr>
            <a:xfrm>
              <a:off x="273060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6"/>
            <p:cNvSpPr/>
            <p:nvPr/>
          </p:nvSpPr>
          <p:spPr>
            <a:xfrm>
              <a:off x="6705720" y="25146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7"/>
            <p:cNvSpPr/>
            <p:nvPr/>
          </p:nvSpPr>
          <p:spPr>
            <a:xfrm>
              <a:off x="3517920" y="25527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38"/>
          <p:cNvGrpSpPr/>
          <p:nvPr/>
        </p:nvGrpSpPr>
        <p:grpSpPr>
          <a:xfrm>
            <a:off x="1828800" y="4559400"/>
            <a:ext cx="5410080" cy="697320"/>
            <a:chOff x="1828800" y="4559400"/>
            <a:chExt cx="5410080" cy="697320"/>
          </a:xfrm>
        </p:grpSpPr>
        <p:sp>
          <p:nvSpPr>
            <p:cNvPr id="170" name="AutoShape 39"/>
            <p:cNvSpPr/>
            <p:nvPr/>
          </p:nvSpPr>
          <p:spPr>
            <a:xfrm flipV="1" rot="5400000">
              <a:off x="4940640" y="4825800"/>
              <a:ext cx="53280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40"/>
            <p:cNvSpPr/>
            <p:nvPr/>
          </p:nvSpPr>
          <p:spPr>
            <a:xfrm rot="5400000">
              <a:off x="3352680" y="4825440"/>
              <a:ext cx="53280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41"/>
            <p:cNvSpPr/>
            <p:nvPr/>
          </p:nvSpPr>
          <p:spPr>
            <a:xfrm rot="5400000">
              <a:off x="6540840" y="4825800"/>
              <a:ext cx="532800" cy="30456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42"/>
            <p:cNvSpPr/>
            <p:nvPr/>
          </p:nvSpPr>
          <p:spPr>
            <a:xfrm flipV="1" rot="5400000">
              <a:off x="2584440" y="4857120"/>
              <a:ext cx="469440" cy="304920"/>
            </a:xfrm>
            <a:custGeom>
              <a:avLst/>
              <a:gdLst>
                <a:gd name="textAreaLeft" fmla="*/ 0 w 469440"/>
                <a:gd name="textAreaRight" fmla="*/ 469800 w 46944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5003640" y="4813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44"/>
            <p:cNvSpPr/>
            <p:nvPr/>
          </p:nvSpPr>
          <p:spPr>
            <a:xfrm flipV="1" rot="5400000">
              <a:off x="5702400" y="483732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45"/>
            <p:cNvSpPr/>
            <p:nvPr/>
          </p:nvSpPr>
          <p:spPr>
            <a:xfrm rot="16200000">
              <a:off x="4133880" y="4806360"/>
              <a:ext cx="570960" cy="304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6"/>
            <p:cNvSpPr/>
            <p:nvPr/>
          </p:nvSpPr>
          <p:spPr>
            <a:xfrm rot="16200000">
              <a:off x="1791000" y="4775040"/>
              <a:ext cx="609120" cy="30456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7"/>
            <p:cNvSpPr/>
            <p:nvPr/>
          </p:nvSpPr>
          <p:spPr>
            <a:xfrm>
              <a:off x="1828800" y="4559400"/>
              <a:ext cx="5410080" cy="22824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48"/>
            <p:cNvSpPr/>
            <p:nvPr/>
          </p:nvSpPr>
          <p:spPr>
            <a:xfrm>
              <a:off x="190512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49"/>
            <p:cNvSpPr/>
            <p:nvPr/>
          </p:nvSpPr>
          <p:spPr>
            <a:xfrm>
              <a:off x="579132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0"/>
            <p:cNvSpPr/>
            <p:nvPr/>
          </p:nvSpPr>
          <p:spPr>
            <a:xfrm>
              <a:off x="425448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265428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2"/>
            <p:cNvSpPr/>
            <p:nvPr/>
          </p:nvSpPr>
          <p:spPr>
            <a:xfrm>
              <a:off x="6629400" y="4787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3"/>
            <p:cNvSpPr/>
            <p:nvPr/>
          </p:nvSpPr>
          <p:spPr>
            <a:xfrm>
              <a:off x="3441600" y="48258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54"/>
          <p:cNvSpPr/>
          <p:nvPr/>
        </p:nvSpPr>
        <p:spPr>
          <a:xfrm>
            <a:off x="2362320" y="452124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124080" y="44956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6"/>
          <p:cNvSpPr/>
          <p:nvPr/>
        </p:nvSpPr>
        <p:spPr>
          <a:xfrm>
            <a:off x="3962520" y="449568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7"/>
          <p:cNvSpPr/>
          <p:nvPr/>
        </p:nvSpPr>
        <p:spPr>
          <a:xfrm>
            <a:off x="4724280" y="44956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8"/>
          <p:cNvSpPr/>
          <p:nvPr/>
        </p:nvSpPr>
        <p:spPr>
          <a:xfrm>
            <a:off x="5486400" y="4495680"/>
            <a:ext cx="152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9"/>
          <p:cNvSpPr/>
          <p:nvPr/>
        </p:nvSpPr>
        <p:spPr>
          <a:xfrm>
            <a:off x="6324480" y="4495680"/>
            <a:ext cx="152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60"/>
          <p:cNvGrpSpPr/>
          <p:nvPr/>
        </p:nvGrpSpPr>
        <p:grpSpPr>
          <a:xfrm>
            <a:off x="1905120" y="2895480"/>
            <a:ext cx="5410080" cy="635040"/>
            <a:chOff x="1905120" y="2895480"/>
            <a:chExt cx="5410080" cy="635040"/>
          </a:xfrm>
        </p:grpSpPr>
        <p:sp>
          <p:nvSpPr>
            <p:cNvPr id="192" name="AutoShape 61"/>
            <p:cNvSpPr/>
            <p:nvPr/>
          </p:nvSpPr>
          <p:spPr>
            <a:xfrm flipV="1" rot="16200000">
              <a:off x="5028840" y="3035160"/>
              <a:ext cx="533520" cy="304920"/>
            </a:xfrm>
            <a:prstGeom prst="flowChartOnlineStorag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2"/>
            <p:cNvSpPr/>
            <p:nvPr/>
          </p:nvSpPr>
          <p:spPr>
            <a:xfrm rot="16200000">
              <a:off x="3429000" y="3035160"/>
              <a:ext cx="533520" cy="30492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63"/>
            <p:cNvSpPr/>
            <p:nvPr/>
          </p:nvSpPr>
          <p:spPr>
            <a:xfrm rot="5400000">
              <a:off x="5778360" y="3022560"/>
              <a:ext cx="533160" cy="30492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64"/>
            <p:cNvSpPr/>
            <p:nvPr/>
          </p:nvSpPr>
          <p:spPr>
            <a:xfrm rot="16200000">
              <a:off x="1905120" y="3009960"/>
              <a:ext cx="533520" cy="30456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65"/>
            <p:cNvSpPr/>
            <p:nvPr/>
          </p:nvSpPr>
          <p:spPr>
            <a:xfrm>
              <a:off x="3517920" y="29336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6"/>
            <p:cNvSpPr/>
            <p:nvPr/>
          </p:nvSpPr>
          <p:spPr>
            <a:xfrm>
              <a:off x="5105520" y="2997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67"/>
            <p:cNvSpPr/>
            <p:nvPr/>
          </p:nvSpPr>
          <p:spPr>
            <a:xfrm flipV="1" rot="5400000">
              <a:off x="2609640" y="3054240"/>
              <a:ext cx="571680" cy="30492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68"/>
            <p:cNvSpPr/>
            <p:nvPr/>
          </p:nvSpPr>
          <p:spPr>
            <a:xfrm flipV="1" rot="16200000">
              <a:off x="4228560" y="300960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-360 h 304920"/>
                <a:gd name="textAreaBottom" fmla="*/ 30492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9"/>
            <p:cNvSpPr/>
            <p:nvPr/>
          </p:nvSpPr>
          <p:spPr>
            <a:xfrm>
              <a:off x="5867640" y="29973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70"/>
            <p:cNvSpPr/>
            <p:nvPr/>
          </p:nvSpPr>
          <p:spPr>
            <a:xfrm rot="16200000">
              <a:off x="6616800" y="3035520"/>
              <a:ext cx="533520" cy="304560"/>
            </a:xfrm>
            <a:prstGeom prst="roundRect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71"/>
            <p:cNvSpPr/>
            <p:nvPr/>
          </p:nvSpPr>
          <p:spPr>
            <a:xfrm>
              <a:off x="2006640" y="292104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72"/>
            <p:cNvSpPr/>
            <p:nvPr/>
          </p:nvSpPr>
          <p:spPr>
            <a:xfrm>
              <a:off x="1905120" y="3301920"/>
              <a:ext cx="5410080" cy="2286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73"/>
            <p:cNvSpPr/>
            <p:nvPr/>
          </p:nvSpPr>
          <p:spPr>
            <a:xfrm>
              <a:off x="4330800" y="2959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74"/>
            <p:cNvSpPr/>
            <p:nvPr/>
          </p:nvSpPr>
          <p:spPr>
            <a:xfrm>
              <a:off x="2743200" y="300996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5"/>
            <p:cNvSpPr/>
            <p:nvPr/>
          </p:nvSpPr>
          <p:spPr>
            <a:xfrm>
              <a:off x="6705720" y="29210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76"/>
          <p:cNvGrpSpPr/>
          <p:nvPr/>
        </p:nvGrpSpPr>
        <p:grpSpPr>
          <a:xfrm>
            <a:off x="7391160" y="2514240"/>
            <a:ext cx="1676520" cy="2972160"/>
            <a:chOff x="7391160" y="2514240"/>
            <a:chExt cx="1676520" cy="2972160"/>
          </a:xfrm>
        </p:grpSpPr>
        <p:sp>
          <p:nvSpPr>
            <p:cNvPr id="208" name="Text Box 77"/>
            <p:cNvSpPr/>
            <p:nvPr/>
          </p:nvSpPr>
          <p:spPr>
            <a:xfrm>
              <a:off x="7620120" y="3794400"/>
              <a:ext cx="144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empla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78"/>
            <p:cNvSpPr/>
            <p:nvPr/>
          </p:nvSpPr>
          <p:spPr>
            <a:xfrm flipH="1" flipV="1">
              <a:off x="7391160" y="2514240"/>
              <a:ext cx="990360" cy="129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9"/>
            <p:cNvSpPr/>
            <p:nvPr/>
          </p:nvSpPr>
          <p:spPr>
            <a:xfrm flipH="1">
              <a:off x="7543440" y="4191120"/>
              <a:ext cx="7621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80"/>
          <p:cNvGrpSpPr/>
          <p:nvPr/>
        </p:nvGrpSpPr>
        <p:grpSpPr>
          <a:xfrm>
            <a:off x="1447920" y="1905120"/>
            <a:ext cx="6400800" cy="938880"/>
            <a:chOff x="1447920" y="1905120"/>
            <a:chExt cx="6400800" cy="938880"/>
          </a:xfrm>
        </p:grpSpPr>
        <p:sp>
          <p:nvSpPr>
            <p:cNvPr id="212" name="Text Box 81"/>
            <p:cNvSpPr/>
            <p:nvPr/>
          </p:nvSpPr>
          <p:spPr>
            <a:xfrm>
              <a:off x="7315200" y="1905120"/>
              <a:ext cx="5335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82"/>
            <p:cNvSpPr/>
            <p:nvPr/>
          </p:nvSpPr>
          <p:spPr>
            <a:xfrm>
              <a:off x="1447920" y="1981440"/>
              <a:ext cx="380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3"/>
          <p:cNvGrpSpPr/>
          <p:nvPr/>
        </p:nvGrpSpPr>
        <p:grpSpPr>
          <a:xfrm>
            <a:off x="1371600" y="5470560"/>
            <a:ext cx="6400800" cy="475200"/>
            <a:chOff x="1371600" y="5470560"/>
            <a:chExt cx="6400800" cy="475200"/>
          </a:xfrm>
        </p:grpSpPr>
        <p:sp>
          <p:nvSpPr>
            <p:cNvPr id="215" name="Text Box 84"/>
            <p:cNvSpPr/>
            <p:nvPr/>
          </p:nvSpPr>
          <p:spPr>
            <a:xfrm>
              <a:off x="7391520" y="54705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85"/>
            <p:cNvSpPr/>
            <p:nvPr/>
          </p:nvSpPr>
          <p:spPr>
            <a:xfrm>
              <a:off x="1371600" y="5546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89"/>
          <p:cNvSpPr/>
          <p:nvPr/>
        </p:nvSpPr>
        <p:spPr>
          <a:xfrm rot="5400000">
            <a:off x="1790640" y="4305240"/>
            <a:ext cx="99072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0"/>
          <p:cNvSpPr/>
          <p:nvPr/>
        </p:nvSpPr>
        <p:spPr>
          <a:xfrm>
            <a:off x="6095880" y="3809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3"/>
          <p:cNvGrpSpPr/>
          <p:nvPr/>
        </p:nvGrpSpPr>
        <p:grpSpPr>
          <a:xfrm>
            <a:off x="3594240" y="3504960"/>
            <a:ext cx="1968480" cy="733320"/>
            <a:chOff x="3594240" y="3504960"/>
            <a:chExt cx="1968480" cy="733320"/>
          </a:xfrm>
        </p:grpSpPr>
        <p:sp>
          <p:nvSpPr>
            <p:cNvPr id="220" name="Text Box 92"/>
            <p:cNvSpPr/>
            <p:nvPr/>
          </p:nvSpPr>
          <p:spPr>
            <a:xfrm>
              <a:off x="3594240" y="365760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lementary (</a:t>
              </a:r>
              <a:r>
                <a:rPr b="1" lang="en-GB" sz="1600" spc="-1" strike="noStrike">
                  <a:solidFill>
                    <a:srgbClr val="ff3300"/>
                  </a:solidFill>
                  <a:latin typeface="Arial"/>
                </a:rPr>
                <a:t>leading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 str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3"/>
            <p:cNvSpPr/>
            <p:nvPr/>
          </p:nvSpPr>
          <p:spPr>
            <a:xfrm flipV="1">
              <a:off x="4660920" y="3504960"/>
              <a:ext cx="9018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04"/>
          <p:cNvGrpSpPr/>
          <p:nvPr/>
        </p:nvGrpSpPr>
        <p:grpSpPr>
          <a:xfrm>
            <a:off x="2362320" y="4647960"/>
            <a:ext cx="1904760" cy="1768320"/>
            <a:chOff x="2362320" y="4647960"/>
            <a:chExt cx="1904760" cy="1768320"/>
          </a:xfrm>
        </p:grpSpPr>
        <p:sp>
          <p:nvSpPr>
            <p:cNvPr id="223" name="Text Box 95"/>
            <p:cNvSpPr/>
            <p:nvPr/>
          </p:nvSpPr>
          <p:spPr>
            <a:xfrm>
              <a:off x="2362320" y="5835600"/>
              <a:ext cx="1904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agging strand (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lementary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96"/>
            <p:cNvSpPr/>
            <p:nvPr/>
          </p:nvSpPr>
          <p:spPr>
            <a:xfrm flipV="1">
              <a:off x="3505320" y="464796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AutoShape 97"/>
          <p:cNvSpPr/>
          <p:nvPr/>
        </p:nvSpPr>
        <p:spPr>
          <a:xfrm rot="5400000">
            <a:off x="6514920" y="2933640"/>
            <a:ext cx="990720" cy="914400"/>
          </a:xfrm>
          <a:prstGeom prst="flowChartMagneticDisk">
            <a:avLst/>
          </a:prstGeom>
          <a:gradFill rotWithShape="0">
            <a:gsLst>
              <a:gs pos="0">
                <a:srgbClr val="313100"/>
              </a:gs>
              <a:gs pos="50000">
                <a:srgbClr val="ffff00"/>
              </a:gs>
              <a:gs pos="100000">
                <a:srgbClr val="3131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98"/>
          <p:cNvSpPr/>
          <p:nvPr/>
        </p:nvSpPr>
        <p:spPr>
          <a:xfrm>
            <a:off x="7315200" y="3200400"/>
            <a:ext cx="38088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99"/>
          <p:cNvGrpSpPr/>
          <p:nvPr/>
        </p:nvGrpSpPr>
        <p:grpSpPr>
          <a:xfrm>
            <a:off x="7620120" y="2971800"/>
            <a:ext cx="1447560" cy="459720"/>
            <a:chOff x="7620120" y="2971800"/>
            <a:chExt cx="1447560" cy="459720"/>
          </a:xfrm>
        </p:grpSpPr>
        <p:sp>
          <p:nvSpPr>
            <p:cNvPr id="228" name="Text Box 87"/>
            <p:cNvSpPr/>
            <p:nvPr/>
          </p:nvSpPr>
          <p:spPr>
            <a:xfrm>
              <a:off x="7696080" y="29718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ff"/>
                  </a:solidFill>
                  <a:latin typeface="Arial"/>
                </a:rPr>
                <a:t>Prim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88"/>
            <p:cNvSpPr/>
            <p:nvPr/>
          </p:nvSpPr>
          <p:spPr>
            <a:xfrm flipH="1">
              <a:off x="7620120" y="3276720"/>
              <a:ext cx="38088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02"/>
          <p:cNvGrpSpPr/>
          <p:nvPr/>
        </p:nvGrpSpPr>
        <p:grpSpPr>
          <a:xfrm>
            <a:off x="1600200" y="3429000"/>
            <a:ext cx="5791320" cy="459720"/>
            <a:chOff x="1600200" y="3429000"/>
            <a:chExt cx="5791320" cy="459720"/>
          </a:xfrm>
        </p:grpSpPr>
        <p:sp>
          <p:nvSpPr>
            <p:cNvPr id="231" name="Text Box 100"/>
            <p:cNvSpPr/>
            <p:nvPr/>
          </p:nvSpPr>
          <p:spPr>
            <a:xfrm>
              <a:off x="6858000" y="3429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/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101"/>
            <p:cNvSpPr/>
            <p:nvPr/>
          </p:nvSpPr>
          <p:spPr>
            <a:xfrm>
              <a:off x="1600200" y="3429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ff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10"/>
          <p:cNvGrpSpPr/>
          <p:nvPr/>
        </p:nvGrpSpPr>
        <p:grpSpPr>
          <a:xfrm>
            <a:off x="5181480" y="4647960"/>
            <a:ext cx="1447920" cy="1724040"/>
            <a:chOff x="5181480" y="4647960"/>
            <a:chExt cx="1447920" cy="1724040"/>
          </a:xfrm>
        </p:grpSpPr>
        <p:sp>
          <p:nvSpPr>
            <p:cNvPr id="234" name="Text Box 106"/>
            <p:cNvSpPr/>
            <p:nvPr/>
          </p:nvSpPr>
          <p:spPr>
            <a:xfrm>
              <a:off x="5181480" y="5791320"/>
              <a:ext cx="137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 frag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07"/>
            <p:cNvSpPr/>
            <p:nvPr/>
          </p:nvSpPr>
          <p:spPr>
            <a:xfrm flipV="1">
              <a:off x="5943600" y="4647960"/>
              <a:ext cx="68580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08"/>
            <p:cNvSpPr/>
            <p:nvPr/>
          </p:nvSpPr>
          <p:spPr>
            <a:xfrm flipV="1">
              <a:off x="5867280" y="464796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09"/>
            <p:cNvSpPr/>
            <p:nvPr/>
          </p:nvSpPr>
          <p:spPr>
            <a:xfrm flipH="1" flipV="1">
              <a:off x="5257800" y="4647960"/>
              <a:ext cx="53352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AutoShape 111"/>
          <p:cNvSpPr/>
          <p:nvPr/>
        </p:nvSpPr>
        <p:spPr>
          <a:xfrm>
            <a:off x="6019920" y="4038480"/>
            <a:ext cx="761760" cy="457200"/>
          </a:xfrm>
          <a:prstGeom prst="downArrowCallout">
            <a:avLst>
              <a:gd name="adj1" fmla="val 41657"/>
              <a:gd name="adj2" fmla="val 41654"/>
              <a:gd name="adj3" fmla="val 16667"/>
              <a:gd name="adj4" fmla="val 66667"/>
            </a:avLst>
          </a:prstGeom>
          <a:solidFill>
            <a:srgbClr val="d6009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Lig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0.01111 L -0.00695 0.33372 E">
                                      <p:cBhvr>
                                        <p:cTn id="266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21184E-006 L -0.65834 -0.00555 E">
                                      <p:cBhvr>
                                        <p:cTn id="300" dur="6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5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43188E-006 L 0.6 6.43188E-006 E">
                                      <p:cBhvr>
                                        <p:cTn id="351" dur="10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1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2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3.3765E-006 L -0.08611 3.3765E-006 E">
                                      <p:cBhvr>
                                        <p:cTn id="377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3.3765E-006 L -0.17778 3.3765E-006 E">
                                      <p:cBhvr>
                                        <p:cTn id="38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78 3.3765E-006 L -0.26111 3.3765E-006 E">
                                      <p:cBhvr>
                                        <p:cTn id="392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111 3.3765E-006 L -0.35278 3.3765E-006 E">
                                      <p:cBhvr>
                                        <p:cTn id="399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8000"/>
                            </p:stCondLst>
                            <p:childTnLst>
                              <p:par>
                                <p:cTn id="4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278 3.3765E-006 L -0.43611 3.3765E-006 E">
                                      <p:cBhvr>
                                        <p:cTn id="40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7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8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66C6-23F0-4007-80F7-54EE7080B65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0" t="0" r="0" b="3913"/>
          <a:stretch/>
        </p:blipFill>
        <p:spPr>
          <a:xfrm>
            <a:off x="0" y="2052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23292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15, Page 2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25560" y="228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25560" y="29718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25560" y="3784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25560" y="4559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1181160" y="33274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بـَـــدْ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1523880" y="411480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إستطا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E732-036B-4131-B6AC-C4089A075E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Helicas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untwists the double helix to separates the DNA strands by form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replication bu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lication enzymes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s DNA strands, forming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plication “bubble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lication bubbl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ed at the origin sites of replication as DNA strand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separate, and hence, replication forks formed at each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plication si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 also called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rigin of repl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is a single specif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sequence of nucleotides that is recognized by the replication enzym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and at which replication st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Primer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a short piece of RNA (10 nucleotide long) which is synthesise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by </a:t>
            </a: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prima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used to initiate the leading strands of the new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NA-polymeras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ilds up the new DNA strand by adding nucleotides to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the primer (from 5’ to 3’ e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Leading strand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e elongation stran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’-&gt; 5’ into the 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hat initiate th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new DNA after recognizing the sequence of the primer by special protei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agging strand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other parental stran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’-&gt;3’ into the 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is copi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away from the fork in short segments (Okazaki fragmen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kazaki fragments: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ly formed segment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5’-&gt;3’, away from the 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then, form the lagging strand when connected by lig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wards the f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NA-ligas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joins the Okazaki fragments of the newly formed bases to for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the new lagging DNA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590920" y="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ummary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replication is semiconservative i.e. the daughter DNA consists of one strand from parent cell and the other is newly synthesized from free nucleotides present 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0C8C-F468-49A4-AEC8-953E31E606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5027-315E-4244-BF18-4C77425F13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228600" y="152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son and Crick discovered the double helix by building models to conform to X-r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80880" y="1066680"/>
            <a:ext cx="83059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304920" y="4952880"/>
            <a:ext cx="85341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pril 1953, Jame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Wats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Franc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r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hook the scientific world with an elegant double-helical mode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موزج 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tructure of deoxyribonucleic acid or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30492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son and Crick began to work on a model of DNA with two strands, the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ouble helix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 المزدو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6"/>
          <p:cNvGrpSpPr/>
          <p:nvPr/>
        </p:nvGrpSpPr>
        <p:grpSpPr>
          <a:xfrm>
            <a:off x="228600" y="1447920"/>
            <a:ext cx="8763120" cy="3200400"/>
            <a:chOff x="228600" y="1447920"/>
            <a:chExt cx="8763120" cy="3200400"/>
          </a:xfrm>
        </p:grpSpPr>
        <p:grpSp>
          <p:nvGrpSpPr>
            <p:cNvPr id="64" name="Group 10"/>
            <p:cNvGrpSpPr/>
            <p:nvPr/>
          </p:nvGrpSpPr>
          <p:grpSpPr>
            <a:xfrm>
              <a:off x="228600" y="1469880"/>
              <a:ext cx="8688240" cy="3101760"/>
              <a:chOff x="228600" y="1469880"/>
              <a:chExt cx="8688240" cy="3101760"/>
            </a:xfrm>
          </p:grpSpPr>
          <p:pic>
            <p:nvPicPr>
              <p:cNvPr id="65" name="Picture 9" descr=""/>
              <p:cNvPicPr/>
              <p:nvPr/>
            </p:nvPicPr>
            <p:blipFill>
              <a:blip r:embed="rId1"/>
              <a:srcRect l="0" t="0" r="0" b="4968"/>
              <a:stretch/>
            </p:blipFill>
            <p:spPr>
              <a:xfrm>
                <a:off x="228600" y="1469880"/>
                <a:ext cx="6172200" cy="31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Picture 6" descr="PICT0002"/>
              <p:cNvPicPr/>
              <p:nvPr/>
            </p:nvPicPr>
            <p:blipFill>
              <a:blip r:embed="rId2"/>
              <a:stretch/>
            </p:blipFill>
            <p:spPr>
              <a:xfrm>
                <a:off x="4876920" y="1523880"/>
                <a:ext cx="4039920" cy="30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" name="Rectangle 15"/>
            <p:cNvSpPr/>
            <p:nvPr/>
          </p:nvSpPr>
          <p:spPr>
            <a:xfrm>
              <a:off x="228600" y="1447920"/>
              <a:ext cx="876312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NA replication step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533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-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rand separation (unwinding of parental DNA and formation of replication fork): This can be achieved by special of proteins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trand DNA- binding protein (SSBs): They keep the two strands of DNA separated in the area of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helices: It binds to the single stranded DNA near the replication fork and forces the separation of the two str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-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mation of RNA primer: It is a short fragment of RNA synthesized under control of pri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It is complementary and antiparallel to the DNA temp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It is common in lagging strand but they are few in leading st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It has free –OH group at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 RNA primers are later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F324-B58D-4ED2-AA5F-D7F0043A83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51920" y="151920"/>
            <a:ext cx="899172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- Synthesis of new DNA stra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-The DNA polymerase III moves along the template strand, and the different nucleotides are added according to the paring rule i.e. A with T and G with 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- The chain growth occurs only in the 5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end to 3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end directio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e leading strand is synthesized almost continuousl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he lagging strand is synthesized discontinuously, but forming small fragments     called Okazaki fragments. After these fragments are formed, they joined to become a single continuous stran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D- Excision of RNA primers and their replacement with DN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- DNA polymerase III continues to synthesize DNA until it is blocked by a fragment of the  RNA prim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- When this occurs, the RNA excised, and the gaps resulting from the excited RNA primers are filled by DNA polymerase 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- The remaining nicks (space) are sealed by DNA ligas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3F52-2413-402D-B8B2-5B07213A47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84B1-C02D-46CE-83C6-635627015D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8915400" cy="56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genetic endowment is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ou inherited from you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unique in their ability to direct their own re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semblance of offspring to their parents depends on the precise replication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ts transmission from one generation to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is the genetic material in eukaryotes, thus, cells double the amount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ior to mitosis and then distribute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qually to each daughter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ploid sets of chromosomes have twice as muc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the haploid sets in gametes of the sam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polymer of nucleotides consisting of a nitrogenous base, deoxyribose, and a phosphate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es are adenin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thymin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guanin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or cytosine (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BBE6-A7E5-4BF0-899C-1DFA328C89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191120" y="152280"/>
            <a:ext cx="4806720" cy="6477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07640" y="647712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152280" y="304920"/>
            <a:ext cx="3733920" cy="600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phosphate    group of one nucleotide is attached to the sugar of the next nucleotide in 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backbone” of alternat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م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proje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7754-C5D0-4E08-90D8-E25487FD74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12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Watson and Crick determined that chemical side groups of the nitrogen bases would form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onnecting the two str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e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ould for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 b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wit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ym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u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ould for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ydrogen bo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ly with </a:t>
            </a:r>
            <a:br>
              <a:rPr sz="1800"/>
            </a:b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ytos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gene has a unique                                                                                 ord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رتي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nitrogen b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mber of adenines is                                                                             equal to the number of thymines                                                                          (%T = %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mber of guanines was                                                            approximately equal to the number                                                           of cytosines (%G = %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NA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0.9% ade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9.4% thym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.9% guan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.8% cytos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43680" y="1066680"/>
            <a:ext cx="3695400" cy="5105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7651440" y="6567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6, Page 29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4191120" y="6172200"/>
            <a:ext cx="1295280" cy="609480"/>
          </a:xfrm>
          <a:custGeom>
            <a:avLst/>
            <a:gdLst>
              <a:gd name="textAreaLeft" fmla="*/ 39240 w 1295280"/>
              <a:gd name="textAreaRight" fmla="*/ 1256040 w 1295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890" h="21600">
                <a:moveTo>
                  <a:pt x="0" y="0"/>
                </a:moveTo>
                <a:lnTo>
                  <a:pt x="45890" y="0"/>
                </a:lnTo>
                <a:lnTo>
                  <a:pt x="45890" y="21600"/>
                </a:lnTo>
                <a:lnTo>
                  <a:pt x="0" y="21600"/>
                </a:lnTo>
                <a:close/>
              </a:path>
              <a:path fill="lightenLess" w="45890" h="21600">
                <a:moveTo>
                  <a:pt x="0" y="0"/>
                </a:moveTo>
                <a:lnTo>
                  <a:pt x="45890" y="0"/>
                </a:lnTo>
                <a:lnTo>
                  <a:pt x="44490" y="1400"/>
                </a:lnTo>
                <a:lnTo>
                  <a:pt x="1400" y="1400"/>
                </a:lnTo>
                <a:close/>
              </a:path>
              <a:path fill="darken" w="45890" h="21600">
                <a:moveTo>
                  <a:pt x="45890" y="0"/>
                </a:moveTo>
                <a:lnTo>
                  <a:pt x="45890" y="21600"/>
                </a:lnTo>
                <a:lnTo>
                  <a:pt x="44490" y="20200"/>
                </a:lnTo>
                <a:lnTo>
                  <a:pt x="44490" y="1400"/>
                </a:lnTo>
                <a:close/>
              </a:path>
              <a:path fill="darkenLess" w="45890" h="21600">
                <a:moveTo>
                  <a:pt x="4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490" y="20200"/>
                </a:lnTo>
                <a:close/>
              </a:path>
              <a:path fill="lighten" w="4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890" h="21600">
                <a:moveTo>
                  <a:pt x="15939" y="3794"/>
                </a:moveTo>
                <a:lnTo>
                  <a:pt x="29952" y="10800"/>
                </a:lnTo>
                <a:lnTo>
                  <a:pt x="1593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U3, Ch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514B-8538-4833-BB7C-F86FD79CC4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680840" y="6567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5, Page 29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5486400" y="62485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6ED-387F-4BCA-A764-555CE64346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228600" y="838080"/>
            <a:ext cx="85345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28600" y="9036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ction B: DNA Replication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نـَسْـــــ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28600" y="1355760"/>
            <a:ext cx="876312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NA replication, base pai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زدواج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existing DNA strands to serve a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empla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موزج/قال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ew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mplimentary str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جانب المُكم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enzymes and other proteins carry out DNA replication (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elicase, Primase, Polymerase &amp; Lig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ds of DNA molecules are replicated by a special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A728-DA4C-417D-A68E-19C9BA3851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- During DNA replication, base pairing enables existing DNA strands to serve as templates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الب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or new complimentary 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كمِّ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194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cell copies a DNA molecule, each strand serves as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empl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موز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ordering nucleotides into a new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pliment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r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انب المُكمِّ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cleotides line up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َتـَرا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ong the template strand according to the base-pai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ucleotides are linked to form new strands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mplement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rcRect l="0" t="0" r="0" b="8826"/>
          <a:stretch/>
        </p:blipFill>
        <p:spPr>
          <a:xfrm>
            <a:off x="228600" y="3048120"/>
            <a:ext cx="8839080" cy="3433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80640" y="649116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7, Page 2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0752-DE19-426C-8E31-7D11916900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2280" y="612720"/>
            <a:ext cx="8839440" cy="12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emiconservative repli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most common and accepted b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tson and Crick). The double helix replicates each of the daughter molecules will have one old strand and one newly mad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ther two models are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serv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isper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rcRect l="0" t="0" r="0" b="7274"/>
          <a:stretch/>
        </p:blipFill>
        <p:spPr>
          <a:xfrm>
            <a:off x="228600" y="2151000"/>
            <a:ext cx="8686800" cy="42498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4248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8, Page 29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209680" y="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ypes of DNA re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962520" y="2286000"/>
            <a:ext cx="2361960" cy="4114800"/>
          </a:xfrm>
          <a:prstGeom prst="rect">
            <a:avLst/>
          </a:prstGeom>
          <a:noFill/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1:30Z</dcterms:created>
  <dc:creator>User</dc:creator>
  <dc:description/>
  <dc:language>en-US</dc:language>
  <cp:lastModifiedBy>Ahmed</cp:lastModifiedBy>
  <dcterms:modified xsi:type="dcterms:W3CDTF">2009-05-20T07:11:32Z</dcterms:modified>
  <cp:revision>158</cp:revision>
  <dc:subject/>
  <dc:title>Slide 1</dc:title>
</cp:coreProperties>
</file>