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0583-078C-4B69-90B0-4DE844A828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990D-4961-47BD-9608-AA06DF27B1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150D-977D-48B3-B692-2189B18506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73BD-02A1-4704-A59E-B6507EB485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BEF4-370E-45E7-BE5C-D2531AA357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AFF6-2C4A-4BFC-BEA8-3FB7BA3B6F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70E9-02A3-4D2E-89CA-06A08C9CA7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4140-59C3-416E-850E-7801C6BF8C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1378-BE69-4AD3-9320-E64A04E558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048D-3108-40DC-9586-B356ECDF04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1E0D-19C6-419E-96F5-932E74DEBD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3A6D-C90D-4EF8-A2DA-FF9BC00848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B28C-74F6-4F6D-9FCC-5561F1EE5D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E302-1621-451E-A0D9-122F7C36EC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D088-7891-4B66-8E37-A8A3F384D5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CBFF-2FC1-4BB8-A1B7-42BF8CDC62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9CC6-B966-49B8-B853-DEB49985EC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021F-68E4-4780-9923-D731B4A837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6B04-B3F9-439D-86B4-7CD4D92A22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1F27-9704-4537-8022-0D454E6D97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619C-5EF2-40C1-9414-806FD0F51A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566-9A53-47EE-9B59-FF7CC9F4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FF8-5BE8-4622-BDA9-D4503E63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89B3-84F7-4757-91F5-2EFDC47D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EDE3-061B-49F0-9AB3-CE606DA1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C3E-32CB-4B25-B9EA-81D07791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9FB-7F21-4107-AD39-4966FBA1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E63-2AB5-4975-8B67-9846F70B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A03-B236-41B4-B094-7BA39A3F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547-6174-4639-8736-1DC3705E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492-F2C3-4660-AA7C-1705C59E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A0D-FF10-4C37-B0ED-3CD66081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F59-55EE-4739-8B06-A6AC6C1D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937B-BB52-478F-8B66-CD2066F144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../Book%20CD/C4EWIN95.EX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DB27-6463-494C-A6AA-69180BC636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560" y="302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2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5" name="Rectangle 20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9" descr=""/>
            <p:cNvPicPr/>
            <p:nvPr/>
          </p:nvPicPr>
          <p:blipFill>
            <a:blip r:embed="rId3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Text Box 21"/>
          <p:cNvSpPr/>
          <p:nvPr/>
        </p:nvSpPr>
        <p:spPr>
          <a:xfrm>
            <a:off x="1752480" y="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16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AE4B-5EAC-49A7-8423-B69505F9BF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"/>
          <p:cNvSpPr/>
          <p:nvPr/>
        </p:nvSpPr>
        <p:spPr>
          <a:xfrm>
            <a:off x="228600" y="838080"/>
            <a:ext cx="85345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903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ز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251A-DECC-45F9-9B54-6D7E4D378E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600" y="1233000"/>
            <a:ext cx="86868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َلغى الإلتفا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lication proceeds in both directions until the entire molecule is copi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80F5-CCCA-4A34-879A-EDE09A3AB1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2895480"/>
            <a:ext cx="5333760" cy="29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16520" y="1447920"/>
            <a:ext cx="3251160" cy="5029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43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2, Page 29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04920" y="76320"/>
            <a:ext cx="868680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DNA polymera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زيم نسخ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 د ن 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yze the elongation of new DNA at a replication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nucleotides alig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complementary bases along the template strand, they are added to the growing e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هاية المتنام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new strand by the polymer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aw nucleotides are nucleoside triphosph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has a nitrogen base, deoxyribose, and                                                             a triphosphate ta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2413-1CBC-4254-93B8-3E560447C5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0" t="0" r="0" b="35572"/>
          <a:stretch/>
        </p:blipFill>
        <p:spPr>
          <a:xfrm>
            <a:off x="152280" y="2286000"/>
            <a:ext cx="8763120" cy="4178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3240" y="656100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134080" y="7920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[Replication Mechanis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711000"/>
            <a:ext cx="861048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2D0C-77A9-41CA-B1CE-72859821B6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ى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6320" y="2666880"/>
            <a:ext cx="3809880" cy="33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13804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4, Page 29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>
            <a:hlinkClick r:id="rId2"/>
          </p:cNvPr>
          <p:cNvSpPr/>
          <p:nvPr/>
        </p:nvSpPr>
        <p:spPr>
          <a:xfrm>
            <a:off x="76320" y="62485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65" h="21600">
                <a:moveTo>
                  <a:pt x="17676" y="3794"/>
                </a:moveTo>
                <a:lnTo>
                  <a:pt x="31689" y="10800"/>
                </a:lnTo>
                <a:lnTo>
                  <a:pt x="1767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U3, Ch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3E9B-D82D-4CC7-AF75-B74732F202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73824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3, Page 29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80773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E0BF-DE55-4A36-85E8-D9900C7E1A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47920" y="4470480"/>
            <a:ext cx="38088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248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04920" y="685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04920" y="114300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1905120" y="2882880"/>
            <a:ext cx="5410080" cy="635040"/>
            <a:chOff x="1905120" y="2882880"/>
            <a:chExt cx="5410080" cy="635040"/>
          </a:xfrm>
        </p:grpSpPr>
        <p:sp>
          <p:nvSpPr>
            <p:cNvPr id="138" name="AutoShape 7"/>
            <p:cNvSpPr/>
            <p:nvPr/>
          </p:nvSpPr>
          <p:spPr>
            <a:xfrm flipV="1" rot="16200000">
              <a:off x="5028840" y="302256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8"/>
            <p:cNvSpPr/>
            <p:nvPr/>
          </p:nvSpPr>
          <p:spPr>
            <a:xfrm rot="16200000">
              <a:off x="3429000" y="302256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9"/>
            <p:cNvSpPr/>
            <p:nvPr/>
          </p:nvSpPr>
          <p:spPr>
            <a:xfrm rot="5400000">
              <a:off x="5778360" y="30099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0"/>
            <p:cNvSpPr/>
            <p:nvPr/>
          </p:nvSpPr>
          <p:spPr>
            <a:xfrm rot="16200000">
              <a:off x="1905120" y="299736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1"/>
            <p:cNvSpPr/>
            <p:nvPr/>
          </p:nvSpPr>
          <p:spPr>
            <a:xfrm>
              <a:off x="3517920" y="29210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5105520" y="2984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3"/>
            <p:cNvSpPr/>
            <p:nvPr/>
          </p:nvSpPr>
          <p:spPr>
            <a:xfrm flipV="1" rot="5400000">
              <a:off x="2609640" y="304164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14"/>
            <p:cNvSpPr/>
            <p:nvPr/>
          </p:nvSpPr>
          <p:spPr>
            <a:xfrm flipV="1" rot="16200000">
              <a:off x="4228560" y="299700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5"/>
            <p:cNvSpPr/>
            <p:nvPr/>
          </p:nvSpPr>
          <p:spPr>
            <a:xfrm>
              <a:off x="5867640" y="2984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6"/>
            <p:cNvSpPr/>
            <p:nvPr/>
          </p:nvSpPr>
          <p:spPr>
            <a:xfrm rot="16200000">
              <a:off x="6616800" y="302292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2006640" y="29084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8"/>
            <p:cNvSpPr/>
            <p:nvPr/>
          </p:nvSpPr>
          <p:spPr>
            <a:xfrm>
              <a:off x="1905120" y="328932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9"/>
            <p:cNvSpPr/>
            <p:nvPr/>
          </p:nvSpPr>
          <p:spPr>
            <a:xfrm>
              <a:off x="4330800" y="2946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0"/>
            <p:cNvSpPr/>
            <p:nvPr/>
          </p:nvSpPr>
          <p:spPr>
            <a:xfrm>
              <a:off x="2743200" y="29973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1"/>
            <p:cNvSpPr/>
            <p:nvPr/>
          </p:nvSpPr>
          <p:spPr>
            <a:xfrm>
              <a:off x="6705720" y="29084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22"/>
          <p:cNvGrpSpPr/>
          <p:nvPr/>
        </p:nvGrpSpPr>
        <p:grpSpPr>
          <a:xfrm>
            <a:off x="1905120" y="2286000"/>
            <a:ext cx="5410080" cy="697680"/>
            <a:chOff x="1905120" y="2286000"/>
            <a:chExt cx="5410080" cy="697680"/>
          </a:xfrm>
        </p:grpSpPr>
        <p:sp>
          <p:nvSpPr>
            <p:cNvPr id="154" name="AutoShape 23"/>
            <p:cNvSpPr/>
            <p:nvPr/>
          </p:nvSpPr>
          <p:spPr>
            <a:xfrm flipV="1" rot="5400000">
              <a:off x="5016600" y="25527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4"/>
            <p:cNvSpPr/>
            <p:nvPr/>
          </p:nvSpPr>
          <p:spPr>
            <a:xfrm rot="5400000">
              <a:off x="3428640" y="25524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5"/>
            <p:cNvSpPr/>
            <p:nvPr/>
          </p:nvSpPr>
          <p:spPr>
            <a:xfrm rot="5400000">
              <a:off x="6616800" y="255276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26"/>
            <p:cNvSpPr/>
            <p:nvPr/>
          </p:nvSpPr>
          <p:spPr>
            <a:xfrm flipV="1" rot="5400000">
              <a:off x="2660760" y="258336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7"/>
            <p:cNvSpPr/>
            <p:nvPr/>
          </p:nvSpPr>
          <p:spPr>
            <a:xfrm>
              <a:off x="5079960" y="25401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28"/>
            <p:cNvSpPr/>
            <p:nvPr/>
          </p:nvSpPr>
          <p:spPr>
            <a:xfrm flipV="1" rot="5400000">
              <a:off x="5778720" y="256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29"/>
            <p:cNvSpPr/>
            <p:nvPr/>
          </p:nvSpPr>
          <p:spPr>
            <a:xfrm rot="16200000">
              <a:off x="4210200" y="253332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30"/>
            <p:cNvSpPr/>
            <p:nvPr/>
          </p:nvSpPr>
          <p:spPr>
            <a:xfrm rot="16200000">
              <a:off x="1866960" y="250200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1"/>
            <p:cNvSpPr/>
            <p:nvPr/>
          </p:nvSpPr>
          <p:spPr>
            <a:xfrm>
              <a:off x="1905120" y="228600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32"/>
            <p:cNvSpPr/>
            <p:nvPr/>
          </p:nvSpPr>
          <p:spPr>
            <a:xfrm>
              <a:off x="1981440" y="251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3"/>
            <p:cNvSpPr/>
            <p:nvPr/>
          </p:nvSpPr>
          <p:spPr>
            <a:xfrm>
              <a:off x="5867640" y="251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4"/>
            <p:cNvSpPr/>
            <p:nvPr/>
          </p:nvSpPr>
          <p:spPr>
            <a:xfrm>
              <a:off x="4330800" y="251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5"/>
            <p:cNvSpPr/>
            <p:nvPr/>
          </p:nvSpPr>
          <p:spPr>
            <a:xfrm>
              <a:off x="2730600" y="251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6"/>
            <p:cNvSpPr/>
            <p:nvPr/>
          </p:nvSpPr>
          <p:spPr>
            <a:xfrm>
              <a:off x="6705720" y="251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7"/>
            <p:cNvSpPr/>
            <p:nvPr/>
          </p:nvSpPr>
          <p:spPr>
            <a:xfrm>
              <a:off x="3517920" y="25527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8"/>
          <p:cNvGrpSpPr/>
          <p:nvPr/>
        </p:nvGrpSpPr>
        <p:grpSpPr>
          <a:xfrm>
            <a:off x="1828800" y="4559400"/>
            <a:ext cx="5410080" cy="697320"/>
            <a:chOff x="1828800" y="4559400"/>
            <a:chExt cx="5410080" cy="697320"/>
          </a:xfrm>
        </p:grpSpPr>
        <p:sp>
          <p:nvSpPr>
            <p:cNvPr id="170" name="AutoShape 39"/>
            <p:cNvSpPr/>
            <p:nvPr/>
          </p:nvSpPr>
          <p:spPr>
            <a:xfrm flipV="1" rot="5400000">
              <a:off x="4940640" y="482580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0"/>
            <p:cNvSpPr/>
            <p:nvPr/>
          </p:nvSpPr>
          <p:spPr>
            <a:xfrm rot="5400000">
              <a:off x="3352680" y="482544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41"/>
            <p:cNvSpPr/>
            <p:nvPr/>
          </p:nvSpPr>
          <p:spPr>
            <a:xfrm rot="5400000">
              <a:off x="6540840" y="482580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42"/>
            <p:cNvSpPr/>
            <p:nvPr/>
          </p:nvSpPr>
          <p:spPr>
            <a:xfrm flipV="1" rot="5400000">
              <a:off x="2584440" y="485712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5003640" y="4813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44"/>
            <p:cNvSpPr/>
            <p:nvPr/>
          </p:nvSpPr>
          <p:spPr>
            <a:xfrm flipV="1" rot="5400000">
              <a:off x="5702400" y="4837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45"/>
            <p:cNvSpPr/>
            <p:nvPr/>
          </p:nvSpPr>
          <p:spPr>
            <a:xfrm rot="16200000">
              <a:off x="4133880" y="480636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6"/>
            <p:cNvSpPr/>
            <p:nvPr/>
          </p:nvSpPr>
          <p:spPr>
            <a:xfrm rot="16200000">
              <a:off x="1791000" y="477504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7"/>
            <p:cNvSpPr/>
            <p:nvPr/>
          </p:nvSpPr>
          <p:spPr>
            <a:xfrm>
              <a:off x="1828800" y="455940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8"/>
            <p:cNvSpPr/>
            <p:nvPr/>
          </p:nvSpPr>
          <p:spPr>
            <a:xfrm>
              <a:off x="1905120" y="4787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49"/>
            <p:cNvSpPr/>
            <p:nvPr/>
          </p:nvSpPr>
          <p:spPr>
            <a:xfrm>
              <a:off x="5791320" y="4787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0"/>
            <p:cNvSpPr/>
            <p:nvPr/>
          </p:nvSpPr>
          <p:spPr>
            <a:xfrm>
              <a:off x="4254480" y="4787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2654280" y="4787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2"/>
            <p:cNvSpPr/>
            <p:nvPr/>
          </p:nvSpPr>
          <p:spPr>
            <a:xfrm>
              <a:off x="6629400" y="4787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3"/>
            <p:cNvSpPr/>
            <p:nvPr/>
          </p:nvSpPr>
          <p:spPr>
            <a:xfrm>
              <a:off x="3441600" y="4825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54"/>
          <p:cNvSpPr/>
          <p:nvPr/>
        </p:nvSpPr>
        <p:spPr>
          <a:xfrm>
            <a:off x="2362320" y="4521240"/>
            <a:ext cx="152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5"/>
          <p:cNvSpPr/>
          <p:nvPr/>
        </p:nvSpPr>
        <p:spPr>
          <a:xfrm>
            <a:off x="3124080" y="44956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6"/>
          <p:cNvSpPr/>
          <p:nvPr/>
        </p:nvSpPr>
        <p:spPr>
          <a:xfrm>
            <a:off x="3962520" y="4495680"/>
            <a:ext cx="152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7"/>
          <p:cNvSpPr/>
          <p:nvPr/>
        </p:nvSpPr>
        <p:spPr>
          <a:xfrm>
            <a:off x="4724280" y="44956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8"/>
          <p:cNvSpPr/>
          <p:nvPr/>
        </p:nvSpPr>
        <p:spPr>
          <a:xfrm>
            <a:off x="5486400" y="4495680"/>
            <a:ext cx="152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9"/>
          <p:cNvSpPr/>
          <p:nvPr/>
        </p:nvSpPr>
        <p:spPr>
          <a:xfrm>
            <a:off x="6324480" y="44956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60"/>
          <p:cNvGrpSpPr/>
          <p:nvPr/>
        </p:nvGrpSpPr>
        <p:grpSpPr>
          <a:xfrm>
            <a:off x="1905120" y="2895480"/>
            <a:ext cx="5410080" cy="635040"/>
            <a:chOff x="1905120" y="2895480"/>
            <a:chExt cx="5410080" cy="635040"/>
          </a:xfrm>
        </p:grpSpPr>
        <p:sp>
          <p:nvSpPr>
            <p:cNvPr id="192" name="AutoShape 61"/>
            <p:cNvSpPr/>
            <p:nvPr/>
          </p:nvSpPr>
          <p:spPr>
            <a:xfrm flipV="1" rot="16200000">
              <a:off x="5028840" y="303516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2"/>
            <p:cNvSpPr/>
            <p:nvPr/>
          </p:nvSpPr>
          <p:spPr>
            <a:xfrm rot="16200000">
              <a:off x="3429000" y="303516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63"/>
            <p:cNvSpPr/>
            <p:nvPr/>
          </p:nvSpPr>
          <p:spPr>
            <a:xfrm rot="5400000">
              <a:off x="5778360" y="30225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64"/>
            <p:cNvSpPr/>
            <p:nvPr/>
          </p:nvSpPr>
          <p:spPr>
            <a:xfrm rot="16200000">
              <a:off x="1905120" y="300996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65"/>
            <p:cNvSpPr/>
            <p:nvPr/>
          </p:nvSpPr>
          <p:spPr>
            <a:xfrm>
              <a:off x="3517920" y="29336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6"/>
            <p:cNvSpPr/>
            <p:nvPr/>
          </p:nvSpPr>
          <p:spPr>
            <a:xfrm>
              <a:off x="5105520" y="2997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67"/>
            <p:cNvSpPr/>
            <p:nvPr/>
          </p:nvSpPr>
          <p:spPr>
            <a:xfrm flipV="1" rot="5400000">
              <a:off x="2609640" y="305424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68"/>
            <p:cNvSpPr/>
            <p:nvPr/>
          </p:nvSpPr>
          <p:spPr>
            <a:xfrm flipV="1" rot="16200000">
              <a:off x="4228560" y="300960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69"/>
            <p:cNvSpPr/>
            <p:nvPr/>
          </p:nvSpPr>
          <p:spPr>
            <a:xfrm>
              <a:off x="5867640" y="2997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70"/>
            <p:cNvSpPr/>
            <p:nvPr/>
          </p:nvSpPr>
          <p:spPr>
            <a:xfrm rot="16200000">
              <a:off x="6616800" y="303552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71"/>
            <p:cNvSpPr/>
            <p:nvPr/>
          </p:nvSpPr>
          <p:spPr>
            <a:xfrm>
              <a:off x="2006640" y="29210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72"/>
            <p:cNvSpPr/>
            <p:nvPr/>
          </p:nvSpPr>
          <p:spPr>
            <a:xfrm>
              <a:off x="1905120" y="3301920"/>
              <a:ext cx="5410080" cy="2286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73"/>
            <p:cNvSpPr/>
            <p:nvPr/>
          </p:nvSpPr>
          <p:spPr>
            <a:xfrm>
              <a:off x="4330800" y="2959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74"/>
            <p:cNvSpPr/>
            <p:nvPr/>
          </p:nvSpPr>
          <p:spPr>
            <a:xfrm>
              <a:off x="2743200" y="30099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75"/>
            <p:cNvSpPr/>
            <p:nvPr/>
          </p:nvSpPr>
          <p:spPr>
            <a:xfrm>
              <a:off x="6705720" y="29210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76"/>
          <p:cNvGrpSpPr/>
          <p:nvPr/>
        </p:nvGrpSpPr>
        <p:grpSpPr>
          <a:xfrm>
            <a:off x="7391160" y="2514240"/>
            <a:ext cx="1676520" cy="2972160"/>
            <a:chOff x="7391160" y="2514240"/>
            <a:chExt cx="1676520" cy="2972160"/>
          </a:xfrm>
        </p:grpSpPr>
        <p:sp>
          <p:nvSpPr>
            <p:cNvPr id="208" name="Text Box 77"/>
            <p:cNvSpPr/>
            <p:nvPr/>
          </p:nvSpPr>
          <p:spPr>
            <a:xfrm>
              <a:off x="7620120" y="37944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8"/>
            <p:cNvSpPr/>
            <p:nvPr/>
          </p:nvSpPr>
          <p:spPr>
            <a:xfrm flipH="1" flipV="1">
              <a:off x="7391160" y="251424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79"/>
            <p:cNvSpPr/>
            <p:nvPr/>
          </p:nvSpPr>
          <p:spPr>
            <a:xfrm flipH="1">
              <a:off x="7543440" y="419112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80"/>
          <p:cNvGrpSpPr/>
          <p:nvPr/>
        </p:nvGrpSpPr>
        <p:grpSpPr>
          <a:xfrm>
            <a:off x="1447920" y="1905120"/>
            <a:ext cx="6400800" cy="938880"/>
            <a:chOff x="1447920" y="1905120"/>
            <a:chExt cx="6400800" cy="938880"/>
          </a:xfrm>
        </p:grpSpPr>
        <p:sp>
          <p:nvSpPr>
            <p:cNvPr id="212" name="Text Box 81"/>
            <p:cNvSpPr/>
            <p:nvPr/>
          </p:nvSpPr>
          <p:spPr>
            <a:xfrm>
              <a:off x="7315200" y="1905120"/>
              <a:ext cx="5335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82"/>
            <p:cNvSpPr/>
            <p:nvPr/>
          </p:nvSpPr>
          <p:spPr>
            <a:xfrm>
              <a:off x="1447920" y="1981440"/>
              <a:ext cx="380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3"/>
          <p:cNvGrpSpPr/>
          <p:nvPr/>
        </p:nvGrpSpPr>
        <p:grpSpPr>
          <a:xfrm>
            <a:off x="1371600" y="5470560"/>
            <a:ext cx="6400800" cy="475200"/>
            <a:chOff x="1371600" y="5470560"/>
            <a:chExt cx="6400800" cy="475200"/>
          </a:xfrm>
        </p:grpSpPr>
        <p:sp>
          <p:nvSpPr>
            <p:cNvPr id="215" name="Text Box 84"/>
            <p:cNvSpPr/>
            <p:nvPr/>
          </p:nvSpPr>
          <p:spPr>
            <a:xfrm>
              <a:off x="7391520" y="54705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85"/>
            <p:cNvSpPr/>
            <p:nvPr/>
          </p:nvSpPr>
          <p:spPr>
            <a:xfrm>
              <a:off x="1371600" y="5546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AutoShape 89"/>
          <p:cNvSpPr/>
          <p:nvPr/>
        </p:nvSpPr>
        <p:spPr>
          <a:xfrm rot="5400000">
            <a:off x="1790640" y="4305240"/>
            <a:ext cx="99072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0"/>
          <p:cNvSpPr/>
          <p:nvPr/>
        </p:nvSpPr>
        <p:spPr>
          <a:xfrm>
            <a:off x="6095880" y="3809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03"/>
          <p:cNvGrpSpPr/>
          <p:nvPr/>
        </p:nvGrpSpPr>
        <p:grpSpPr>
          <a:xfrm>
            <a:off x="3594240" y="3504960"/>
            <a:ext cx="1968480" cy="733320"/>
            <a:chOff x="3594240" y="3504960"/>
            <a:chExt cx="1968480" cy="733320"/>
          </a:xfrm>
        </p:grpSpPr>
        <p:sp>
          <p:nvSpPr>
            <p:cNvPr id="220" name="Text Box 92"/>
            <p:cNvSpPr/>
            <p:nvPr/>
          </p:nvSpPr>
          <p:spPr>
            <a:xfrm>
              <a:off x="3594240" y="365760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3"/>
            <p:cNvSpPr/>
            <p:nvPr/>
          </p:nvSpPr>
          <p:spPr>
            <a:xfrm flipV="1">
              <a:off x="4660920" y="350496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04"/>
          <p:cNvGrpSpPr/>
          <p:nvPr/>
        </p:nvGrpSpPr>
        <p:grpSpPr>
          <a:xfrm>
            <a:off x="2362320" y="4647960"/>
            <a:ext cx="1904760" cy="1768320"/>
            <a:chOff x="2362320" y="4647960"/>
            <a:chExt cx="1904760" cy="1768320"/>
          </a:xfrm>
        </p:grpSpPr>
        <p:sp>
          <p:nvSpPr>
            <p:cNvPr id="223" name="Text Box 95"/>
            <p:cNvSpPr/>
            <p:nvPr/>
          </p:nvSpPr>
          <p:spPr>
            <a:xfrm>
              <a:off x="2362320" y="583560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96"/>
            <p:cNvSpPr/>
            <p:nvPr/>
          </p:nvSpPr>
          <p:spPr>
            <a:xfrm flipV="1">
              <a:off x="3505320" y="464796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AutoShape 97"/>
          <p:cNvSpPr/>
          <p:nvPr/>
        </p:nvSpPr>
        <p:spPr>
          <a:xfrm rot="5400000">
            <a:off x="6514920" y="2933640"/>
            <a:ext cx="99072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8"/>
          <p:cNvSpPr/>
          <p:nvPr/>
        </p:nvSpPr>
        <p:spPr>
          <a:xfrm>
            <a:off x="7315200" y="3200400"/>
            <a:ext cx="38088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99"/>
          <p:cNvGrpSpPr/>
          <p:nvPr/>
        </p:nvGrpSpPr>
        <p:grpSpPr>
          <a:xfrm>
            <a:off x="7620120" y="2971800"/>
            <a:ext cx="1447560" cy="459720"/>
            <a:chOff x="7620120" y="2971800"/>
            <a:chExt cx="1447560" cy="459720"/>
          </a:xfrm>
        </p:grpSpPr>
        <p:sp>
          <p:nvSpPr>
            <p:cNvPr id="228" name="Text Box 87"/>
            <p:cNvSpPr/>
            <p:nvPr/>
          </p:nvSpPr>
          <p:spPr>
            <a:xfrm>
              <a:off x="7696080" y="29718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88"/>
            <p:cNvSpPr/>
            <p:nvPr/>
          </p:nvSpPr>
          <p:spPr>
            <a:xfrm flipH="1">
              <a:off x="7620120" y="327672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2"/>
          <p:cNvGrpSpPr/>
          <p:nvPr/>
        </p:nvGrpSpPr>
        <p:grpSpPr>
          <a:xfrm>
            <a:off x="1600200" y="3429000"/>
            <a:ext cx="5791320" cy="459720"/>
            <a:chOff x="1600200" y="3429000"/>
            <a:chExt cx="5791320" cy="459720"/>
          </a:xfrm>
        </p:grpSpPr>
        <p:sp>
          <p:nvSpPr>
            <p:cNvPr id="231" name="Text Box 100"/>
            <p:cNvSpPr/>
            <p:nvPr/>
          </p:nvSpPr>
          <p:spPr>
            <a:xfrm>
              <a:off x="6858000" y="3429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/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01"/>
            <p:cNvSpPr/>
            <p:nvPr/>
          </p:nvSpPr>
          <p:spPr>
            <a:xfrm>
              <a:off x="1600200" y="3429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10"/>
          <p:cNvGrpSpPr/>
          <p:nvPr/>
        </p:nvGrpSpPr>
        <p:grpSpPr>
          <a:xfrm>
            <a:off x="5181480" y="4647960"/>
            <a:ext cx="1447920" cy="1724040"/>
            <a:chOff x="5181480" y="4647960"/>
            <a:chExt cx="1447920" cy="1724040"/>
          </a:xfrm>
        </p:grpSpPr>
        <p:sp>
          <p:nvSpPr>
            <p:cNvPr id="234" name="Text Box 106"/>
            <p:cNvSpPr/>
            <p:nvPr/>
          </p:nvSpPr>
          <p:spPr>
            <a:xfrm>
              <a:off x="5181480" y="579132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07"/>
            <p:cNvSpPr/>
            <p:nvPr/>
          </p:nvSpPr>
          <p:spPr>
            <a:xfrm flipV="1">
              <a:off x="5943600" y="464796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08"/>
            <p:cNvSpPr/>
            <p:nvPr/>
          </p:nvSpPr>
          <p:spPr>
            <a:xfrm flipV="1">
              <a:off x="5867280" y="464796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09"/>
            <p:cNvSpPr/>
            <p:nvPr/>
          </p:nvSpPr>
          <p:spPr>
            <a:xfrm flipH="1" flipV="1">
              <a:off x="5257800" y="464796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AutoShape 111"/>
          <p:cNvSpPr/>
          <p:nvPr/>
        </p:nvSpPr>
        <p:spPr>
          <a:xfrm>
            <a:off x="6019920" y="4038480"/>
            <a:ext cx="761760" cy="457200"/>
          </a:xfrm>
          <a:prstGeom prst="downArrowCallout">
            <a:avLst>
              <a:gd name="adj1" fmla="val 41657"/>
              <a:gd name="adj2" fmla="val 41654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266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5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300" dur="6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351" dur="10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377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385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92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99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8000"/>
                            </p:stCondLst>
                            <p:childTnLst>
                              <p:par>
                                <p:cTn id="4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9000"/>
                            </p:stCondLst>
                            <p:childTnLst>
                              <p:par>
                                <p:cTn id="4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406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7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89BE-4661-49B1-9B2B-5EE33188D7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5E0B-4161-43E1-86A8-623F806E12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twists the double helix to separates the DNA strands by form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replication bu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 also called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’-&gt; 5’ into the 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’-&gt;3’ into the 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’-&gt;3’, away from the 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59092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mmary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replication is semiconservative i.e. the daughter DNA consists of one strand from parent cell and the other is newly synthesized from free nucleotides present in th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D5CE-B5CC-400C-A8E0-6248540A00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584F-90EF-44DE-BBD0-7C3EEB1103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ى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ى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4" name="Group 10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5" name="Picture 9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6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Rectangle 15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NA replication step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533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-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rand separation (unwinding of parental DNA and formation of replication fork): This can be achieved by special of proteins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strand DNA- binding protein (SSBs): They keep the two strands of DNA separated in the area of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helices: It binds to the single stranded DNA near the replication fork and forces the separation of the two str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-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mation of RNA primer: It is a short fragment of RNA synthesized under control of pri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 It is complementary and antiparallel to the DNA tem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 It is common in lagging strand but they are few in leading str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 It has free –OH group at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 RNA primers are later re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5CF8-4093-48BE-8EB4-233D40B7B6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51920" y="151920"/>
            <a:ext cx="89917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- Synthesis of new DNA stran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-The DNA polymerase III moves along the template strand, and the different nucleotides are added according to the paring rule i.e. A with T and G with 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- The chain growth occurs only in the 5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end to 3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end direc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he leading strand is synthesized almost continuousl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he lagging strand is synthesized discontinuously, but forming small fragments     called Okazaki fragments. After these fragments are formed, they joined to become a single continuous stran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D- Excision of RNA primers and their replacement with DN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- DNA polymerase III continues to synthesize DNA until it is blocked by a fragment of the  RNA prim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- When this occurs, the RNA excised, and the gaps resulting from the excited RNA primers are filled by DNA polymerase 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- The remaining nicks (space) are sealed by DNA ligas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1405-87EA-4A9D-A6CC-F662A5924A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4165-3C11-464E-838B-4FD5970DEB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5960" y="838080"/>
            <a:ext cx="8915400" cy="56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genetic endowment is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you inherited from you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unique in their ability to direct their own re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emblance of offspring to their parents depends on the precise replication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ts transmission from one generation to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is the genetic material in eukaryotes, thus, cells double the amount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ior to mitosis and then distribute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qually to each daughter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loid sets of chromosomes have twice as much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the haploid sets in gametes of the sam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polymer of nucleotides consisting of a nitrogenous base, deoxyribose, and a phosphate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es are adenine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ymine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guanine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or cytosine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2BF6-DBCE-45AB-836F-85A3E9E74D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152280"/>
            <a:ext cx="4806720" cy="6477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07640" y="647712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3, Page 2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52280" y="304920"/>
            <a:ext cx="3733920" cy="600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hosphate    group of one nucleotide is attached to the sugar of the next nucleotide in l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backbone” of alternat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م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proje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021D-A7F4-495B-B560-852C2AC0E9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1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Watson and Crick determined that chemical side groups of the nitrogen bases would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onnecting the two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de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ould for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w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 bo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with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ym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u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ould for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re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 bo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nly with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ytos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gene has a unique                                                                                 ord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itrogen b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mber of adenines is                                                                             equal to the number of thymines                                                                          (%T = %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mber of guanines was                                                            approximately equal to the number                                                           of cytosines (%G = %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NA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0.9% ade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9.4% thym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9.9% gu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9.8% cytos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43680" y="1066680"/>
            <a:ext cx="3695400" cy="5105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7651440" y="6567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6, Page 29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4191120" y="6172200"/>
            <a:ext cx="1295280" cy="609480"/>
          </a:xfrm>
          <a:custGeom>
            <a:avLst/>
            <a:gdLst>
              <a:gd name="textAreaLeft" fmla="*/ 39240 w 1295280"/>
              <a:gd name="textAreaRight" fmla="*/ 1256040 w 1295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5890" h="21600">
                <a:moveTo>
                  <a:pt x="0" y="0"/>
                </a:moveTo>
                <a:lnTo>
                  <a:pt x="45890" y="0"/>
                </a:lnTo>
                <a:lnTo>
                  <a:pt x="45890" y="21600"/>
                </a:lnTo>
                <a:lnTo>
                  <a:pt x="0" y="21600"/>
                </a:lnTo>
                <a:close/>
              </a:path>
              <a:path fill="lightenLess" w="45890" h="21600">
                <a:moveTo>
                  <a:pt x="0" y="0"/>
                </a:moveTo>
                <a:lnTo>
                  <a:pt x="45890" y="0"/>
                </a:lnTo>
                <a:lnTo>
                  <a:pt x="44490" y="1400"/>
                </a:lnTo>
                <a:lnTo>
                  <a:pt x="1400" y="1400"/>
                </a:lnTo>
                <a:close/>
              </a:path>
              <a:path fill="darken" w="45890" h="21600">
                <a:moveTo>
                  <a:pt x="45890" y="0"/>
                </a:moveTo>
                <a:lnTo>
                  <a:pt x="45890" y="21600"/>
                </a:lnTo>
                <a:lnTo>
                  <a:pt x="44490" y="20200"/>
                </a:lnTo>
                <a:lnTo>
                  <a:pt x="44490" y="1400"/>
                </a:lnTo>
                <a:close/>
              </a:path>
              <a:path fill="darkenLess" w="45890" h="21600">
                <a:moveTo>
                  <a:pt x="4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0" y="20200"/>
                </a:lnTo>
                <a:close/>
              </a:path>
              <a:path fill="lighten" w="4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90" h="21600">
                <a:moveTo>
                  <a:pt x="15939" y="3794"/>
                </a:moveTo>
                <a:lnTo>
                  <a:pt x="29952" y="10800"/>
                </a:lnTo>
                <a:lnTo>
                  <a:pt x="1593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U3, Ch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D570-D2DD-4390-8B99-EFA567F957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1680840" y="6567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5, Page 29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5486400" y="62485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E495-F91A-45CD-97E8-C0EC8BDA54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228600" y="838080"/>
            <a:ext cx="85345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28600" y="903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ction B: DNA Replication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28600" y="1355760"/>
            <a:ext cx="876312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ز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elicase, Primase, Polymerase &amp; 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4804-F985-4AF4-992A-338479C57F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04812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8064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7, Page 29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BD6B-87D2-4ABF-BB34-95E313087F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52280" y="612720"/>
            <a:ext cx="8839440" cy="12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ser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isper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1510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4248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8, Page 29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2096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ypes of DNA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962520" y="2286000"/>
            <a:ext cx="2361960" cy="4114800"/>
          </a:xfrm>
          <a:prstGeom prst="rect">
            <a:avLst/>
          </a:prstGeom>
          <a:noFill/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Ahmed</cp:lastModifiedBy>
  <dcterms:modified xsi:type="dcterms:W3CDTF">2009-05-20T07:11:32Z</dcterms:modified>
  <cp:revision>158</cp:revision>
  <dc:subject/>
  <dc:title>Slide 1</dc:title>
</cp:coreProperties>
</file>