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F5E-DA9A-4A25-B992-77E0A430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545-A7F9-4DDE-A1B2-367BA2EE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2AB-B56D-4DC4-8226-DFB8BCA3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C96-4DBF-4772-BD3A-BBF431DC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42DA-25E7-4794-8CC9-BF634131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E49-A176-4977-9DDA-04C77BE2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E3B-CB55-43E2-AFDE-D2D59FFE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D06-8BB7-49DC-A091-A4FAFB5E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1BC-1478-463B-A972-2CB33C89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BD8-D759-45E2-AB94-073DB84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1C7A-5C6B-43C4-99D3-F858107C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F2D-DAA5-4298-9500-F4708917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2536-782F-4457-A3C9-9F60D7808E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ED2B-EBA9-447F-8CD8-C80A224BC7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9690-A965-48D5-A819-1C14DA2579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prstGeom prst="pie">
            <a:avLst/>
          </a:pr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C5AA-33D0-4289-878E-62BE0F871F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108D-04B8-4930-847A-5784AFE2CE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DEDA-D36E-4DFA-A1B5-6C56DBD33E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B4DE-701C-417D-9981-A601B2AE55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7BA2-7E4C-45B0-BF6B-EA12ECB48C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ralajmi</cp:lastModifiedBy>
  <dcterms:modified xsi:type="dcterms:W3CDTF">2014-02-02T04:49:49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