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9E7B-AE13-4C41-BDA2-3E12CD8F7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9525-818F-4DCC-93F9-7642185BE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2CF1-CA50-4EBD-A827-67A50D2A7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7668-5F76-4AD8-8A3C-C7F1C96EE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17A9-CE6A-45AE-AF33-1063C2506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66C4-5BF0-48E4-89BD-A7B343185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CDC1-CCA0-4054-89CF-4B09E7FBC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8B6E-6B40-4D45-807B-714ACCA15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3EB6-8BC1-462C-9D20-860743FB0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E804-3A1C-43B9-A8CC-2D6FA8F7B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F753-06F2-4C88-949C-B118DEBFE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85FB-F55D-478E-B08A-CC8A0D54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B9AED-7573-436C-82E4-205C34BD68A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EEFEC-4932-4FC3-AEBB-542ADC3D47A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8" descr=""/>
          <p:cNvPicPr/>
          <p:nvPr/>
        </p:nvPicPr>
        <p:blipFill>
          <a:blip r:embed="rId1"/>
          <a:srcRect l="9192" t="0" r="0" b="0"/>
          <a:stretch/>
        </p:blipFill>
        <p:spPr>
          <a:xfrm>
            <a:off x="660240" y="3078000"/>
            <a:ext cx="3988080" cy="2637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3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00ff00"/>
              </a:gs>
              <a:gs pos="100000">
                <a:srgbClr val="ff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7729560" y="-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9"/>
          <p:cNvSpPr/>
          <p:nvPr/>
        </p:nvSpPr>
        <p:spPr>
          <a:xfrm>
            <a:off x="749160" y="1752480"/>
            <a:ext cx="7785360" cy="5205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cc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tion A: Gregor Mendel’s Discov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7"/>
          <p:cNvSpPr/>
          <p:nvPr/>
        </p:nvSpPr>
        <p:spPr>
          <a:xfrm>
            <a:off x="660240" y="2762280"/>
            <a:ext cx="7925040" cy="36385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28"/>
          <p:cNvSpPr/>
          <p:nvPr/>
        </p:nvSpPr>
        <p:spPr>
          <a:xfrm>
            <a:off x="1523880" y="471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ENDEL AND THE GENE 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0" descr=""/>
          <p:cNvPicPr/>
          <p:nvPr/>
        </p:nvPicPr>
        <p:blipFill>
          <a:blip r:embed="rId3"/>
          <a:stretch/>
        </p:blipFill>
        <p:spPr>
          <a:xfrm>
            <a:off x="4267080" y="2971800"/>
            <a:ext cx="4219560" cy="31827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50" name="Picture 14" descr=""/>
          <p:cNvPicPr/>
          <p:nvPr/>
        </p:nvPicPr>
        <p:blipFill>
          <a:blip r:embed="rId4"/>
          <a:srcRect l="18585" t="8074" r="4048" b="0"/>
          <a:stretch/>
        </p:blipFill>
        <p:spPr>
          <a:xfrm>
            <a:off x="22320" y="42840"/>
            <a:ext cx="1279440" cy="1405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457200" y="5165640"/>
            <a:ext cx="8305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two alleles (</a:t>
            </a: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gen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for a character are separated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gregate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into separate gametes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ummarized as Mendel’s law of segregat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and aggregated again by fertiliz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380880" y="22860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endelian inheritance reflects rules of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probability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for the behaviour of genes (allel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380880" y="173664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or each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characte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an organism inherit two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allel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(one from each paren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457200" y="432756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f the two alleles differ, one of them will be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Dominan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and the other is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Recessiv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8"/>
          <p:cNvGrpSpPr/>
          <p:nvPr/>
        </p:nvGrpSpPr>
        <p:grpSpPr>
          <a:xfrm>
            <a:off x="3124080" y="2422440"/>
            <a:ext cx="5715000" cy="685800"/>
            <a:chOff x="3124080" y="2422440"/>
            <a:chExt cx="5715000" cy="685800"/>
          </a:xfrm>
        </p:grpSpPr>
        <p:grpSp>
          <p:nvGrpSpPr>
            <p:cNvPr id="90" name="Group 9"/>
            <p:cNvGrpSpPr/>
            <p:nvPr/>
          </p:nvGrpSpPr>
          <p:grpSpPr>
            <a:xfrm>
              <a:off x="3124080" y="2803680"/>
              <a:ext cx="3340080" cy="304560"/>
              <a:chOff x="3124080" y="2803680"/>
              <a:chExt cx="3340080" cy="304560"/>
            </a:xfrm>
          </p:grpSpPr>
          <p:grpSp>
            <p:nvGrpSpPr>
              <p:cNvPr id="91" name="Group 10"/>
              <p:cNvGrpSpPr/>
              <p:nvPr/>
            </p:nvGrpSpPr>
            <p:grpSpPr>
              <a:xfrm>
                <a:off x="3124080" y="2803680"/>
                <a:ext cx="3340080" cy="304560"/>
                <a:chOff x="3124080" y="2803680"/>
                <a:chExt cx="3340080" cy="304560"/>
              </a:xfrm>
            </p:grpSpPr>
            <p:sp>
              <p:nvSpPr>
                <p:cNvPr id="92" name="AutoShape 11"/>
                <p:cNvSpPr/>
                <p:nvPr/>
              </p:nvSpPr>
              <p:spPr>
                <a:xfrm>
                  <a:off x="3124080" y="2803680"/>
                  <a:ext cx="1676160" cy="30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AutoShape 12"/>
                <p:cNvSpPr/>
                <p:nvPr/>
              </p:nvSpPr>
              <p:spPr>
                <a:xfrm>
                  <a:off x="4787640" y="2803680"/>
                  <a:ext cx="1676520" cy="30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Rectangle 13"/>
                <p:cNvSpPr/>
                <p:nvPr/>
              </p:nvSpPr>
              <p:spPr>
                <a:xfrm>
                  <a:off x="4571640" y="2879640"/>
                  <a:ext cx="457200" cy="151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" name="Rectangle 14"/>
              <p:cNvSpPr/>
              <p:nvPr/>
            </p:nvSpPr>
            <p:spPr>
              <a:xfrm>
                <a:off x="5943600" y="2803680"/>
                <a:ext cx="152280" cy="3045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Text Box 15"/>
            <p:cNvSpPr/>
            <p:nvPr/>
          </p:nvSpPr>
          <p:spPr>
            <a:xfrm>
              <a:off x="6781680" y="2422440"/>
              <a:ext cx="205740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Red colour   gene (</a:t>
              </a:r>
              <a:r>
                <a:rPr b="1" lang="en-GB" sz="2000" spc="-1" strike="noStrike">
                  <a:solidFill>
                    <a:srgbClr val="ff3300"/>
                  </a:solidFill>
                  <a:latin typeface="Arial"/>
                </a:rPr>
                <a:t>allele</a:t>
              </a: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16"/>
            <p:cNvSpPr/>
            <p:nvPr/>
          </p:nvSpPr>
          <p:spPr>
            <a:xfrm flipH="1">
              <a:off x="6019200" y="2651040"/>
              <a:ext cx="8384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17"/>
          <p:cNvGrpSpPr/>
          <p:nvPr/>
        </p:nvGrpSpPr>
        <p:grpSpPr>
          <a:xfrm>
            <a:off x="3137040" y="3336840"/>
            <a:ext cx="5930280" cy="916200"/>
            <a:chOff x="3137040" y="3336840"/>
            <a:chExt cx="5930280" cy="916200"/>
          </a:xfrm>
        </p:grpSpPr>
        <p:grpSp>
          <p:nvGrpSpPr>
            <p:cNvPr id="99" name="Group 18"/>
            <p:cNvGrpSpPr/>
            <p:nvPr/>
          </p:nvGrpSpPr>
          <p:grpSpPr>
            <a:xfrm>
              <a:off x="3137040" y="3336840"/>
              <a:ext cx="3339360" cy="304560"/>
              <a:chOff x="3137040" y="3336840"/>
              <a:chExt cx="3339360" cy="304560"/>
            </a:xfrm>
          </p:grpSpPr>
          <p:grpSp>
            <p:nvGrpSpPr>
              <p:cNvPr id="100" name="Group 19"/>
              <p:cNvGrpSpPr/>
              <p:nvPr/>
            </p:nvGrpSpPr>
            <p:grpSpPr>
              <a:xfrm>
                <a:off x="3137040" y="3336840"/>
                <a:ext cx="3339360" cy="304560"/>
                <a:chOff x="3137040" y="3336840"/>
                <a:chExt cx="3339360" cy="304560"/>
              </a:xfrm>
            </p:grpSpPr>
            <p:sp>
              <p:nvSpPr>
                <p:cNvPr id="101" name="AutoShape 20"/>
                <p:cNvSpPr/>
                <p:nvPr/>
              </p:nvSpPr>
              <p:spPr>
                <a:xfrm>
                  <a:off x="3137040" y="3336840"/>
                  <a:ext cx="1675800" cy="30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AutoShape 21"/>
                <p:cNvSpPr/>
                <p:nvPr/>
              </p:nvSpPr>
              <p:spPr>
                <a:xfrm>
                  <a:off x="4800240" y="3336840"/>
                  <a:ext cx="1676160" cy="30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Rectangle 22"/>
                <p:cNvSpPr/>
                <p:nvPr/>
              </p:nvSpPr>
              <p:spPr>
                <a:xfrm>
                  <a:off x="4584240" y="3412800"/>
                  <a:ext cx="456840" cy="151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" name="Rectangle 23"/>
              <p:cNvSpPr/>
              <p:nvPr/>
            </p:nvSpPr>
            <p:spPr>
              <a:xfrm>
                <a:off x="5956200" y="3336840"/>
                <a:ext cx="1519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Text Box 24"/>
            <p:cNvSpPr/>
            <p:nvPr/>
          </p:nvSpPr>
          <p:spPr>
            <a:xfrm>
              <a:off x="6781680" y="3579840"/>
              <a:ext cx="22856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White colour   gene (</a:t>
              </a:r>
              <a:r>
                <a:rPr b="1" lang="en-GB" sz="2000" spc="-1" strike="noStrike">
                  <a:solidFill>
                    <a:srgbClr val="0000ff"/>
                  </a:solidFill>
                  <a:latin typeface="Arial"/>
                </a:rPr>
                <a:t>allele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25"/>
            <p:cNvSpPr/>
            <p:nvPr/>
          </p:nvSpPr>
          <p:spPr>
            <a:xfrm flipH="1" flipV="1">
              <a:off x="6019560" y="3489480"/>
              <a:ext cx="8380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26"/>
          <p:cNvGrpSpPr/>
          <p:nvPr/>
        </p:nvGrpSpPr>
        <p:grpSpPr>
          <a:xfrm>
            <a:off x="762120" y="2879640"/>
            <a:ext cx="2590200" cy="703800"/>
            <a:chOff x="762120" y="2879640"/>
            <a:chExt cx="2590200" cy="703800"/>
          </a:xfrm>
        </p:grpSpPr>
        <p:sp>
          <p:nvSpPr>
            <p:cNvPr id="108" name="Text Box 27"/>
            <p:cNvSpPr/>
            <p:nvPr/>
          </p:nvSpPr>
          <p:spPr>
            <a:xfrm>
              <a:off x="762120" y="2879640"/>
              <a:ext cx="2057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ff"/>
                  </a:solidFill>
                  <a:latin typeface="Arial"/>
                </a:rPr>
                <a:t>Homologous chromosom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28"/>
            <p:cNvSpPr/>
            <p:nvPr/>
          </p:nvSpPr>
          <p:spPr>
            <a:xfrm flipV="1">
              <a:off x="2514600" y="2955600"/>
              <a:ext cx="7614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29"/>
            <p:cNvSpPr/>
            <p:nvPr/>
          </p:nvSpPr>
          <p:spPr>
            <a:xfrm>
              <a:off x="2514600" y="3260880"/>
              <a:ext cx="83772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Text Box 31"/>
          <p:cNvSpPr/>
          <p:nvPr/>
        </p:nvSpPr>
        <p:spPr>
          <a:xfrm>
            <a:off x="0" y="1066680"/>
            <a:ext cx="83818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lleles segregat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تنفصل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ecause of the distribution of homologous chromosomes to different gametes in meio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4643280" y="304920"/>
            <a:ext cx="4500720" cy="632448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6"/>
          <p:cNvSpPr/>
          <p:nvPr/>
        </p:nvSpPr>
        <p:spPr>
          <a:xfrm>
            <a:off x="76320" y="4803840"/>
            <a:ext cx="4495680" cy="15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unnett square analysis of the flower-color example demonstrates Mendel’s mod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del’s model accounts for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:1 ratio in 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76320" y="228600"/>
            <a:ext cx="4647960" cy="34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del’s law of segregation accounts for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:1 rati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ne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ybrids will produce two classes of gametes, half with the purple-flower allele and half with the white-flower alle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self-pollination, the gametes of these two classes unite random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can produce four equally likely combinations of sperm and ovu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75960" y="3731760"/>
            <a:ext cx="4724280" cy="9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unnett square predicts the results of a genetic cross between individuals of know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enotyp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طرز الـ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ﭽ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ين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BB3EE-FFF4-42A9-B28A-F634C09CD9B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4241880" y="5943600"/>
            <a:ext cx="4876560" cy="91440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25560" y="5943600"/>
            <a:ext cx="4114800" cy="91440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4"/>
          <p:cNvSpPr/>
          <p:nvPr/>
        </p:nvSpPr>
        <p:spPr>
          <a:xfrm>
            <a:off x="1295280" y="3886200"/>
            <a:ext cx="990720" cy="8380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5"/>
          <p:cNvGrpSpPr/>
          <p:nvPr/>
        </p:nvGrpSpPr>
        <p:grpSpPr>
          <a:xfrm>
            <a:off x="4572000" y="762120"/>
            <a:ext cx="4419720" cy="1541520"/>
            <a:chOff x="4572000" y="762120"/>
            <a:chExt cx="4419720" cy="1541520"/>
          </a:xfrm>
        </p:grpSpPr>
        <p:sp>
          <p:nvSpPr>
            <p:cNvPr id="121" name="Text Box 6"/>
            <p:cNvSpPr/>
            <p:nvPr/>
          </p:nvSpPr>
          <p:spPr>
            <a:xfrm>
              <a:off x="4572000" y="15238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7"/>
            <p:cNvSpPr/>
            <p:nvPr/>
          </p:nvSpPr>
          <p:spPr>
            <a:xfrm>
              <a:off x="5715000" y="15541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8"/>
            <p:cNvSpPr/>
            <p:nvPr/>
          </p:nvSpPr>
          <p:spPr>
            <a:xfrm>
              <a:off x="7315200" y="160020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9"/>
            <p:cNvSpPr/>
            <p:nvPr/>
          </p:nvSpPr>
          <p:spPr>
            <a:xfrm>
              <a:off x="8381880" y="161460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10"/>
            <p:cNvSpPr/>
            <p:nvPr/>
          </p:nvSpPr>
          <p:spPr>
            <a:xfrm flipH="1">
              <a:off x="4876920" y="762120"/>
              <a:ext cx="45720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1"/>
            <p:cNvSpPr/>
            <p:nvPr/>
          </p:nvSpPr>
          <p:spPr>
            <a:xfrm>
              <a:off x="5638680" y="762120"/>
              <a:ext cx="38124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2"/>
            <p:cNvSpPr/>
            <p:nvPr/>
          </p:nvSpPr>
          <p:spPr>
            <a:xfrm flipH="1">
              <a:off x="7543440" y="762120"/>
              <a:ext cx="30492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3"/>
            <p:cNvSpPr/>
            <p:nvPr/>
          </p:nvSpPr>
          <p:spPr>
            <a:xfrm>
              <a:off x="8229600" y="762120"/>
              <a:ext cx="38088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Oval 14"/>
          <p:cNvSpPr/>
          <p:nvPr/>
        </p:nvSpPr>
        <p:spPr>
          <a:xfrm>
            <a:off x="4267080" y="3824280"/>
            <a:ext cx="914400" cy="914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5410080" y="3824280"/>
            <a:ext cx="990720" cy="9000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6"/>
          <p:cNvSpPr/>
          <p:nvPr/>
        </p:nvSpPr>
        <p:spPr>
          <a:xfrm>
            <a:off x="6553080" y="3809880"/>
            <a:ext cx="990720" cy="9288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17"/>
          <p:cNvSpPr/>
          <p:nvPr/>
        </p:nvSpPr>
        <p:spPr>
          <a:xfrm>
            <a:off x="8153280" y="3824280"/>
            <a:ext cx="914400" cy="9144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18"/>
          <p:cNvGrpSpPr/>
          <p:nvPr/>
        </p:nvGrpSpPr>
        <p:grpSpPr>
          <a:xfrm>
            <a:off x="457200" y="1295280"/>
            <a:ext cx="762120" cy="1523880"/>
            <a:chOff x="457200" y="1295280"/>
            <a:chExt cx="762120" cy="1523880"/>
          </a:xfrm>
        </p:grpSpPr>
        <p:sp>
          <p:nvSpPr>
            <p:cNvPr id="134" name="Oval 19"/>
            <p:cNvSpPr/>
            <p:nvPr/>
          </p:nvSpPr>
          <p:spPr>
            <a:xfrm>
              <a:off x="457200" y="2209680"/>
              <a:ext cx="762120" cy="6094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0"/>
            <p:cNvSpPr/>
            <p:nvPr/>
          </p:nvSpPr>
          <p:spPr>
            <a:xfrm>
              <a:off x="762120" y="129528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21"/>
          <p:cNvGrpSpPr/>
          <p:nvPr/>
        </p:nvGrpSpPr>
        <p:grpSpPr>
          <a:xfrm>
            <a:off x="2590920" y="1295280"/>
            <a:ext cx="685800" cy="1600200"/>
            <a:chOff x="2590920" y="1295280"/>
            <a:chExt cx="685800" cy="1600200"/>
          </a:xfrm>
        </p:grpSpPr>
        <p:sp>
          <p:nvSpPr>
            <p:cNvPr id="137" name="Oval 22"/>
            <p:cNvSpPr/>
            <p:nvPr/>
          </p:nvSpPr>
          <p:spPr>
            <a:xfrm>
              <a:off x="2590920" y="2286000"/>
              <a:ext cx="685800" cy="6094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23"/>
            <p:cNvSpPr/>
            <p:nvPr/>
          </p:nvSpPr>
          <p:spPr>
            <a:xfrm>
              <a:off x="2971800" y="129528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24"/>
          <p:cNvGrpSpPr/>
          <p:nvPr/>
        </p:nvGrpSpPr>
        <p:grpSpPr>
          <a:xfrm>
            <a:off x="610200" y="2895480"/>
            <a:ext cx="2437920" cy="990720"/>
            <a:chOff x="610200" y="2895480"/>
            <a:chExt cx="2437920" cy="990720"/>
          </a:xfrm>
        </p:grpSpPr>
        <p:sp>
          <p:nvSpPr>
            <p:cNvPr id="140" name="Line 25"/>
            <p:cNvSpPr/>
            <p:nvPr/>
          </p:nvSpPr>
          <p:spPr>
            <a:xfrm>
              <a:off x="610200" y="2895480"/>
              <a:ext cx="102672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6"/>
            <p:cNvSpPr/>
            <p:nvPr/>
          </p:nvSpPr>
          <p:spPr>
            <a:xfrm flipH="1">
              <a:off x="2149920" y="2971800"/>
              <a:ext cx="89820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Text Box 27"/>
          <p:cNvSpPr/>
          <p:nvPr/>
        </p:nvSpPr>
        <p:spPr>
          <a:xfrm>
            <a:off x="838080" y="480060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00% </a:t>
            </a:r>
            <a:r>
              <a:rPr b="1" lang="en-GB" sz="1800" spc="-1" strike="noStrike">
                <a:solidFill>
                  <a:srgbClr val="ff00ff"/>
                </a:solidFill>
                <a:latin typeface="Arial"/>
              </a:rPr>
              <a:t>Pur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8"/>
          <p:cNvSpPr/>
          <p:nvPr/>
        </p:nvSpPr>
        <p:spPr>
          <a:xfrm>
            <a:off x="5562720" y="6095880"/>
            <a:ext cx="281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9"/>
          <p:cNvSpPr/>
          <p:nvPr/>
        </p:nvSpPr>
        <p:spPr>
          <a:xfrm>
            <a:off x="5105520" y="49528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n-GB" sz="1800" spc="-1" strike="noStrike">
                <a:solidFill>
                  <a:srgbClr val="ff00ff"/>
                </a:solidFill>
                <a:latin typeface="Arial"/>
              </a:rPr>
              <a:t>Purpl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:         1 W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0"/>
          <p:cNvSpPr/>
          <p:nvPr/>
        </p:nvSpPr>
        <p:spPr>
          <a:xfrm>
            <a:off x="685800" y="6110280"/>
            <a:ext cx="2514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31"/>
          <p:cNvSpPr/>
          <p:nvPr/>
        </p:nvSpPr>
        <p:spPr>
          <a:xfrm>
            <a:off x="4191120" y="0"/>
            <a:ext cx="0" cy="685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32"/>
          <p:cNvGrpSpPr/>
          <p:nvPr/>
        </p:nvGrpSpPr>
        <p:grpSpPr>
          <a:xfrm>
            <a:off x="4724280" y="2133720"/>
            <a:ext cx="2819520" cy="1600200"/>
            <a:chOff x="4724280" y="2133720"/>
            <a:chExt cx="2819520" cy="1600200"/>
          </a:xfrm>
        </p:grpSpPr>
        <p:sp>
          <p:nvSpPr>
            <p:cNvPr id="148" name="Line 33"/>
            <p:cNvSpPr/>
            <p:nvPr/>
          </p:nvSpPr>
          <p:spPr>
            <a:xfrm flipH="1">
              <a:off x="4724280" y="2133720"/>
              <a:ext cx="763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34"/>
            <p:cNvSpPr/>
            <p:nvPr/>
          </p:nvSpPr>
          <p:spPr>
            <a:xfrm flipH="1">
              <a:off x="4724280" y="2133720"/>
              <a:ext cx="28195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35"/>
            <p:cNvSpPr/>
            <p:nvPr/>
          </p:nvSpPr>
          <p:spPr>
            <a:xfrm>
              <a:off x="4724280" y="342900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36"/>
          <p:cNvGrpSpPr/>
          <p:nvPr/>
        </p:nvGrpSpPr>
        <p:grpSpPr>
          <a:xfrm>
            <a:off x="4876920" y="2133720"/>
            <a:ext cx="3657240" cy="1600200"/>
            <a:chOff x="4876920" y="2133720"/>
            <a:chExt cx="3657240" cy="1600200"/>
          </a:xfrm>
        </p:grpSpPr>
        <p:sp>
          <p:nvSpPr>
            <p:cNvPr id="152" name="Line 37"/>
            <p:cNvSpPr/>
            <p:nvPr/>
          </p:nvSpPr>
          <p:spPr>
            <a:xfrm flipH="1">
              <a:off x="5943240" y="2133720"/>
              <a:ext cx="25909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38"/>
            <p:cNvSpPr/>
            <p:nvPr/>
          </p:nvSpPr>
          <p:spPr>
            <a:xfrm>
              <a:off x="4876920" y="2133720"/>
              <a:ext cx="106668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39"/>
            <p:cNvSpPr/>
            <p:nvPr/>
          </p:nvSpPr>
          <p:spPr>
            <a:xfrm>
              <a:off x="5943600" y="342900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40"/>
          <p:cNvGrpSpPr/>
          <p:nvPr/>
        </p:nvGrpSpPr>
        <p:grpSpPr>
          <a:xfrm>
            <a:off x="6019920" y="2057400"/>
            <a:ext cx="1523880" cy="1676520"/>
            <a:chOff x="6019920" y="2057400"/>
            <a:chExt cx="1523880" cy="1676520"/>
          </a:xfrm>
        </p:grpSpPr>
        <p:sp>
          <p:nvSpPr>
            <p:cNvPr id="156" name="Line 41"/>
            <p:cNvSpPr/>
            <p:nvPr/>
          </p:nvSpPr>
          <p:spPr>
            <a:xfrm>
              <a:off x="6019920" y="2057400"/>
              <a:ext cx="990360" cy="137160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42"/>
            <p:cNvSpPr/>
            <p:nvPr/>
          </p:nvSpPr>
          <p:spPr>
            <a:xfrm flipH="1">
              <a:off x="7010280" y="2133720"/>
              <a:ext cx="5335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43"/>
            <p:cNvSpPr/>
            <p:nvPr/>
          </p:nvSpPr>
          <p:spPr>
            <a:xfrm>
              <a:off x="7010280" y="342900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44"/>
          <p:cNvGrpSpPr/>
          <p:nvPr/>
        </p:nvGrpSpPr>
        <p:grpSpPr>
          <a:xfrm>
            <a:off x="6019920" y="2057400"/>
            <a:ext cx="2590560" cy="1676520"/>
            <a:chOff x="6019920" y="2057400"/>
            <a:chExt cx="2590560" cy="1676520"/>
          </a:xfrm>
        </p:grpSpPr>
        <p:sp>
          <p:nvSpPr>
            <p:cNvPr id="160" name="Line 45"/>
            <p:cNvSpPr/>
            <p:nvPr/>
          </p:nvSpPr>
          <p:spPr>
            <a:xfrm>
              <a:off x="8610480" y="213372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46"/>
            <p:cNvSpPr/>
            <p:nvPr/>
          </p:nvSpPr>
          <p:spPr>
            <a:xfrm>
              <a:off x="6019920" y="2057400"/>
              <a:ext cx="259056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47"/>
            <p:cNvSpPr/>
            <p:nvPr/>
          </p:nvSpPr>
          <p:spPr>
            <a:xfrm>
              <a:off x="8610480" y="342900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48"/>
          <p:cNvGrpSpPr/>
          <p:nvPr/>
        </p:nvGrpSpPr>
        <p:grpSpPr>
          <a:xfrm>
            <a:off x="25560" y="4006800"/>
            <a:ext cx="3961440" cy="642600"/>
            <a:chOff x="25560" y="4006800"/>
            <a:chExt cx="3961440" cy="642600"/>
          </a:xfrm>
        </p:grpSpPr>
        <p:grpSp>
          <p:nvGrpSpPr>
            <p:cNvPr id="164" name="Group 49"/>
            <p:cNvGrpSpPr/>
            <p:nvPr/>
          </p:nvGrpSpPr>
          <p:grpSpPr>
            <a:xfrm>
              <a:off x="2082600" y="4006800"/>
              <a:ext cx="1904400" cy="642600"/>
              <a:chOff x="2082600" y="4006800"/>
              <a:chExt cx="1904400" cy="642600"/>
            </a:xfrm>
          </p:grpSpPr>
          <p:sp>
            <p:nvSpPr>
              <p:cNvPr id="165" name="Text Box 50"/>
              <p:cNvSpPr/>
              <p:nvPr/>
            </p:nvSpPr>
            <p:spPr>
              <a:xfrm>
                <a:off x="2515320" y="4006800"/>
                <a:ext cx="1471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ff"/>
                    </a:solidFill>
                    <a:latin typeface="Arial"/>
                  </a:rPr>
                  <a:t>Recessive alle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51"/>
              <p:cNvSpPr/>
              <p:nvPr/>
            </p:nvSpPr>
            <p:spPr>
              <a:xfrm flipV="1">
                <a:off x="2082600" y="4235040"/>
                <a:ext cx="519120" cy="2286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Text Box 52"/>
            <p:cNvSpPr/>
            <p:nvPr/>
          </p:nvSpPr>
          <p:spPr>
            <a:xfrm>
              <a:off x="25560" y="4006800"/>
              <a:ext cx="1383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Dominant alle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53"/>
            <p:cNvSpPr/>
            <p:nvPr/>
          </p:nvSpPr>
          <p:spPr>
            <a:xfrm flipH="1" flipV="1">
              <a:off x="1015560" y="4311360"/>
              <a:ext cx="518760" cy="152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54"/>
          <p:cNvGrpSpPr/>
          <p:nvPr/>
        </p:nvGrpSpPr>
        <p:grpSpPr>
          <a:xfrm>
            <a:off x="380880" y="152280"/>
            <a:ext cx="2971440" cy="914400"/>
            <a:chOff x="380880" y="152280"/>
            <a:chExt cx="2971440" cy="914400"/>
          </a:xfrm>
        </p:grpSpPr>
        <p:sp>
          <p:nvSpPr>
            <p:cNvPr id="170" name="Oval 55"/>
            <p:cNvSpPr/>
            <p:nvPr/>
          </p:nvSpPr>
          <p:spPr>
            <a:xfrm>
              <a:off x="380880" y="152280"/>
              <a:ext cx="1018800" cy="9144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56"/>
            <p:cNvSpPr/>
            <p:nvPr/>
          </p:nvSpPr>
          <p:spPr>
            <a:xfrm>
              <a:off x="2333520" y="152280"/>
              <a:ext cx="1018800" cy="914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57"/>
            <p:cNvSpPr/>
            <p:nvPr/>
          </p:nvSpPr>
          <p:spPr>
            <a:xfrm>
              <a:off x="1399680" y="304920"/>
              <a:ext cx="849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58"/>
          <p:cNvGrpSpPr/>
          <p:nvPr/>
        </p:nvGrpSpPr>
        <p:grpSpPr>
          <a:xfrm>
            <a:off x="5029200" y="76320"/>
            <a:ext cx="3505320" cy="838080"/>
            <a:chOff x="5029200" y="76320"/>
            <a:chExt cx="3505320" cy="838080"/>
          </a:xfrm>
        </p:grpSpPr>
        <p:sp>
          <p:nvSpPr>
            <p:cNvPr id="174" name="Oval 59"/>
            <p:cNvSpPr/>
            <p:nvPr/>
          </p:nvSpPr>
          <p:spPr>
            <a:xfrm>
              <a:off x="5029200" y="76320"/>
              <a:ext cx="990720" cy="8380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60"/>
            <p:cNvSpPr/>
            <p:nvPr/>
          </p:nvSpPr>
          <p:spPr>
            <a:xfrm>
              <a:off x="7543800" y="76320"/>
              <a:ext cx="990720" cy="8380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61"/>
            <p:cNvSpPr/>
            <p:nvPr/>
          </p:nvSpPr>
          <p:spPr>
            <a:xfrm>
              <a:off x="6400800" y="22860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Freeform 62"/>
          <p:cNvSpPr/>
          <p:nvPr/>
        </p:nvSpPr>
        <p:spPr>
          <a:xfrm>
            <a:off x="2133720" y="533520"/>
            <a:ext cx="2743200" cy="3429000"/>
          </a:xfrm>
          <a:prstGeom prst="pie">
            <a:avLst/>
          </a:prstGeom>
          <a:noFill/>
          <a:ln w="7632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63"/>
          <p:cNvSpPr/>
          <p:nvPr/>
        </p:nvSpPr>
        <p:spPr>
          <a:xfrm>
            <a:off x="3429000" y="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Pea pl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4"/>
          <p:cNvSpPr/>
          <p:nvPr/>
        </p:nvSpPr>
        <p:spPr>
          <a:xfrm>
            <a:off x="838080" y="990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mozyg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5"/>
          <p:cNvSpPr/>
          <p:nvPr/>
        </p:nvSpPr>
        <p:spPr>
          <a:xfrm>
            <a:off x="5562720" y="68580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eterozyg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49B1C-6A34-45E6-9E47-AE1B4FD3B27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3809880" y="152280"/>
            <a:ext cx="5257800" cy="655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76320" y="152280"/>
            <a:ext cx="3581280" cy="655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4"/>
          <p:cNvSpPr/>
          <p:nvPr/>
        </p:nvSpPr>
        <p:spPr>
          <a:xfrm>
            <a:off x="152280" y="2133720"/>
            <a:ext cx="3276720" cy="16761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5"/>
          <p:cNvGrpSpPr/>
          <p:nvPr/>
        </p:nvGrpSpPr>
        <p:grpSpPr>
          <a:xfrm>
            <a:off x="380880" y="3352680"/>
            <a:ext cx="2895480" cy="1983600"/>
            <a:chOff x="380880" y="3352680"/>
            <a:chExt cx="2895480" cy="1983600"/>
          </a:xfrm>
        </p:grpSpPr>
        <p:sp>
          <p:nvSpPr>
            <p:cNvPr id="186" name="Text Box 6"/>
            <p:cNvSpPr/>
            <p:nvPr/>
          </p:nvSpPr>
          <p:spPr>
            <a:xfrm>
              <a:off x="456840" y="4343400"/>
              <a:ext cx="259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Genotyp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7"/>
            <p:cNvSpPr/>
            <p:nvPr/>
          </p:nvSpPr>
          <p:spPr>
            <a:xfrm>
              <a:off x="380880" y="4876560"/>
              <a:ext cx="289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(Genetic make up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8"/>
            <p:cNvSpPr/>
            <p:nvPr/>
          </p:nvSpPr>
          <p:spPr>
            <a:xfrm>
              <a:off x="1676160" y="3352680"/>
              <a:ext cx="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Oval 9"/>
          <p:cNvSpPr/>
          <p:nvPr/>
        </p:nvSpPr>
        <p:spPr>
          <a:xfrm>
            <a:off x="990720" y="2514600"/>
            <a:ext cx="1600200" cy="838080"/>
          </a:xfrm>
          <a:prstGeom prst="ellipse">
            <a:avLst/>
          </a:prstGeom>
          <a:noFill/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10"/>
          <p:cNvGrpSpPr/>
          <p:nvPr/>
        </p:nvGrpSpPr>
        <p:grpSpPr>
          <a:xfrm>
            <a:off x="533520" y="533520"/>
            <a:ext cx="2590560" cy="1828800"/>
            <a:chOff x="533520" y="533520"/>
            <a:chExt cx="2590560" cy="1828800"/>
          </a:xfrm>
        </p:grpSpPr>
        <p:sp>
          <p:nvSpPr>
            <p:cNvPr id="191" name="Text Box 11"/>
            <p:cNvSpPr/>
            <p:nvPr/>
          </p:nvSpPr>
          <p:spPr>
            <a:xfrm>
              <a:off x="533520" y="533520"/>
              <a:ext cx="2590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Phenotyp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12"/>
            <p:cNvSpPr/>
            <p:nvPr/>
          </p:nvSpPr>
          <p:spPr>
            <a:xfrm>
              <a:off x="914400" y="990720"/>
              <a:ext cx="198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00ff"/>
                  </a:solidFill>
                  <a:latin typeface="Arial"/>
                </a:rPr>
                <a:t>(Colour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13"/>
            <p:cNvSpPr/>
            <p:nvPr/>
          </p:nvSpPr>
          <p:spPr>
            <a:xfrm>
              <a:off x="1752480" y="152424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14"/>
          <p:cNvGrpSpPr/>
          <p:nvPr/>
        </p:nvGrpSpPr>
        <p:grpSpPr>
          <a:xfrm>
            <a:off x="4038480" y="2682720"/>
            <a:ext cx="4648320" cy="762120"/>
            <a:chOff x="4038480" y="2682720"/>
            <a:chExt cx="4648320" cy="762120"/>
          </a:xfrm>
        </p:grpSpPr>
        <p:sp>
          <p:nvSpPr>
            <p:cNvPr id="195" name="Oval 15"/>
            <p:cNvSpPr/>
            <p:nvPr/>
          </p:nvSpPr>
          <p:spPr>
            <a:xfrm>
              <a:off x="4038480" y="2682720"/>
              <a:ext cx="762120" cy="7621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16"/>
            <p:cNvSpPr/>
            <p:nvPr/>
          </p:nvSpPr>
          <p:spPr>
            <a:xfrm>
              <a:off x="7924680" y="2682720"/>
              <a:ext cx="762120" cy="762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17"/>
            <p:cNvSpPr/>
            <p:nvPr/>
          </p:nvSpPr>
          <p:spPr>
            <a:xfrm>
              <a:off x="5029200" y="2712960"/>
              <a:ext cx="2819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cc"/>
                  </a:solidFill>
                  <a:latin typeface="Arial"/>
                </a:rPr>
                <a:t>Homozygou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18"/>
          <p:cNvGrpSpPr/>
          <p:nvPr/>
        </p:nvGrpSpPr>
        <p:grpSpPr>
          <a:xfrm>
            <a:off x="4114800" y="4435560"/>
            <a:ext cx="3962520" cy="838080"/>
            <a:chOff x="4114800" y="4435560"/>
            <a:chExt cx="3962520" cy="838080"/>
          </a:xfrm>
        </p:grpSpPr>
        <p:sp>
          <p:nvSpPr>
            <p:cNvPr id="199" name="Oval 19"/>
            <p:cNvSpPr/>
            <p:nvPr/>
          </p:nvSpPr>
          <p:spPr>
            <a:xfrm>
              <a:off x="4114800" y="4435560"/>
              <a:ext cx="838080" cy="8380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20"/>
            <p:cNvSpPr/>
            <p:nvPr/>
          </p:nvSpPr>
          <p:spPr>
            <a:xfrm>
              <a:off x="5029200" y="4587840"/>
              <a:ext cx="3048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cc"/>
                  </a:solidFill>
                  <a:latin typeface="Arial"/>
                </a:rPr>
                <a:t>Heterozygou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Text Box 21"/>
          <p:cNvSpPr/>
          <p:nvPr/>
        </p:nvSpPr>
        <p:spPr>
          <a:xfrm>
            <a:off x="4038480" y="346068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 organism having a pair of identical all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2"/>
          <p:cNvSpPr/>
          <p:nvPr/>
        </p:nvSpPr>
        <p:spPr>
          <a:xfrm>
            <a:off x="3962520" y="5349960"/>
            <a:ext cx="510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 organism having a pair of two different all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3"/>
          <p:cNvSpPr/>
          <p:nvPr/>
        </p:nvSpPr>
        <p:spPr>
          <a:xfrm>
            <a:off x="3809880" y="380880"/>
            <a:ext cx="5181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cc"/>
                </a:solidFill>
                <a:uFillTx/>
                <a:latin typeface="Arial"/>
              </a:rPr>
              <a:t>Phenotyp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                                      Is 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e organism’s appearance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طرز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مظهر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4"/>
          <p:cNvSpPr/>
          <p:nvPr/>
        </p:nvSpPr>
        <p:spPr>
          <a:xfrm>
            <a:off x="3886200" y="1371600"/>
            <a:ext cx="48006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cc"/>
                </a:solidFill>
                <a:uFillTx/>
                <a:latin typeface="Arial"/>
              </a:rPr>
              <a:t>Genotyp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                                        Is 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e organism’s genetic  makeup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طرز الـﭽين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7"/>
          <p:cNvSpPr/>
          <p:nvPr/>
        </p:nvSpPr>
        <p:spPr>
          <a:xfrm>
            <a:off x="5867280" y="264780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</a:rPr>
              <a:t>متماثل الجينا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8"/>
          <p:cNvSpPr/>
          <p:nvPr/>
        </p:nvSpPr>
        <p:spPr>
          <a:xfrm>
            <a:off x="5791320" y="449568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</a:rPr>
              <a:t>متباين الجينا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381880" cy="52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flower color in peas, both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lants have the same phenotype (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purp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but different genotypes (homozygous and heterozygou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nly way t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e a whi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enotype is t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omozygo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essive 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flower-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or ge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3352680" y="1758960"/>
            <a:ext cx="5562720" cy="47941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B6D9A-5A55-4CB5-A059-E47EDE35B30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75960" y="228240"/>
            <a:ext cx="838188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not possible to predict the genotype of an organism with a dominant pheno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e organism must have on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ominant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allele, but it could b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omozygou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dominant o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eterozygou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est cro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eeding a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mozygous recessiv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ominant phenotyp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known genotyp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determine the identity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the unknown alle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1"/>
          <a:srcRect l="4580" t="0" r="3348" b="4466"/>
          <a:stretch/>
        </p:blipFill>
        <p:spPr>
          <a:xfrm>
            <a:off x="4870440" y="1905120"/>
            <a:ext cx="4121280" cy="472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2" name="Text Box 6"/>
          <p:cNvSpPr/>
          <p:nvPr/>
        </p:nvSpPr>
        <p:spPr>
          <a:xfrm>
            <a:off x="228600" y="4676760"/>
            <a:ext cx="4343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Q: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What is the result of Cross hybridization of 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purple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te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colored flowers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52280" y="1066320"/>
            <a:ext cx="8763120" cy="574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Arial"/>
              </a:rPr>
              <a:t>The Law of 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Segreg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he law of segregation states that a pair of factors is segregated, or separated, during the formation of gamet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Arial"/>
              </a:rPr>
              <a:t>Dominant character (allele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الصفة السائدة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s fully expressed in the organism’s appearanc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Arial"/>
              </a:rPr>
              <a:t>Recessive character (allele)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الصفة المُتنحية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Has no noticeable effect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تأثير غير ملحوظ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on the organism’s appearanc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Arial"/>
              </a:rPr>
              <a:t>Homozygous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مُتماثل الجينات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n organism with two 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identical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alleles for a characte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Arial"/>
              </a:rPr>
              <a:t>Heterozygous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مُختلف الجينات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n organism with two 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different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alleles for a characte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Arial"/>
              </a:rPr>
              <a:t>Phenotype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الطرز المظهر</a:t>
            </a:r>
            <a:r>
              <a:rPr b="1" lang="ar-SA" sz="19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 description of an organism’s traits (feature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مظهر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Arial"/>
              </a:rPr>
              <a:t>Genotype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الطرز الجين</a:t>
            </a:r>
            <a:r>
              <a:rPr b="1" lang="ar-SA" sz="19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 description of an organism’s genetic makeup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3124080" y="22860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cc"/>
                </a:solidFill>
                <a:latin typeface="Arial"/>
              </a:rPr>
              <a:t>Defin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6"/>
          <p:cNvSpPr/>
          <p:nvPr/>
        </p:nvSpPr>
        <p:spPr>
          <a:xfrm>
            <a:off x="380880" y="91440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"/>
          <p:cNvPicPr/>
          <p:nvPr/>
        </p:nvPicPr>
        <p:blipFill>
          <a:blip r:embed="rId1"/>
          <a:srcRect l="18595" t="8083" r="4047" b="0"/>
          <a:stretch/>
        </p:blipFill>
        <p:spPr>
          <a:xfrm>
            <a:off x="33480" y="22320"/>
            <a:ext cx="833400" cy="9144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0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34EF5-4775-4D27-A371-9C872E3DFC1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endel brought an experimental and quantitative approach to gene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320" y="1203120"/>
            <a:ext cx="5410080" cy="19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ound 1857, Mendel began breeding garden peas to stud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heritanc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وراث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Because they are available in many varieties with distinct heritabl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ُتوار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haracte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صف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different traits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e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76320" y="3429000"/>
            <a:ext cx="5105160" cy="29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pea plant has male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ame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and female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arpe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sexual org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nature, pea plants typically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f-fertiliz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لقيح ذات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fertilizing ova with their own polle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ever, Mendel could also move pollen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حبوب اللقا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one plant to another to cross-pollinat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ُـلق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5186520" y="1066680"/>
            <a:ext cx="3957480" cy="5562720"/>
          </a:xfrm>
          <a:prstGeom prst="rect">
            <a:avLst/>
          </a:prstGeom>
          <a:ln w="0">
            <a:noFill/>
          </a:ln>
        </p:spPr>
      </p:pic>
      <p:sp>
        <p:nvSpPr>
          <p:cNvPr id="5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6960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ree Steps of Mendel’s Experi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>
            <a:hlinkClick r:id="rId1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p84"/>
          <p:cNvPicPr/>
          <p:nvPr/>
        </p:nvPicPr>
        <p:blipFill>
          <a:blip r:embed="rId2"/>
          <a:stretch/>
        </p:blipFill>
        <p:spPr>
          <a:xfrm>
            <a:off x="152280" y="1558800"/>
            <a:ext cx="8610840" cy="4354560"/>
          </a:xfrm>
          <a:prstGeom prst="rect">
            <a:avLst/>
          </a:prstGeom>
          <a:ln w="0">
            <a:noFill/>
          </a:ln>
        </p:spPr>
      </p:pic>
      <p:sp>
        <p:nvSpPr>
          <p:cNvPr id="6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1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65530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endel’s Results and 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ff"/>
            </a:solidFill>
            <a:miter/>
          </a:ln>
          <a:effectLst>
            <a:outerShdw dist="89604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cessive and Dominant Tra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del concluded that inherited characteristics are controlled by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acto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at occur in pai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his experiments on pea plants, one factor in a pair masked the other. The trait that masked the other was called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omina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rait. The trait that was masked was called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cessiv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ra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8686800" cy="67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a breeding experiment, Mendel woul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ross-pollin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لقيح خلط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ybridiz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هَج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two contrast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تبايني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rue-breeding pea varieti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أنوا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rue-breeding parents are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ntal gener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ir hybrid offspr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نسل المُهج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ial gener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del would then allow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ial gener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hybrids to self-pollinate to produce a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gen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was mainly Mendel’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quantitative analys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حليل كم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lants that revealed the two fundamental laws of hered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-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law of segregation.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-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The law of independent assort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6E1D8-473E-4A12-B69F-7C895377C06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/>
          <a:srcRect l="0" t="0" r="11666" b="46683"/>
          <a:stretch/>
        </p:blipFill>
        <p:spPr>
          <a:xfrm>
            <a:off x="5029200" y="1149480"/>
            <a:ext cx="4038480" cy="258912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75960" y="1219320"/>
            <a:ext cx="4724280" cy="28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Mendel expected tha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ybrids from a cros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لقيح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tween </a:t>
            </a: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purple-flower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hite-flower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ea plants would have </a:t>
            </a: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pale pur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lower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بنفسج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 باهت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ead,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ولك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ybrids all have                                                                    </a:t>
            </a: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pur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lowers, just a purple like their par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A)- Law of segregation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قانون الإنعزال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wo allele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ﭽـينا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a character are isolated into separate game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0" descr=""/>
          <p:cNvPicPr/>
          <p:nvPr/>
        </p:nvPicPr>
        <p:blipFill>
          <a:blip r:embed="rId2"/>
          <a:srcRect l="0" t="31106" r="7017" b="3357"/>
          <a:stretch/>
        </p:blipFill>
        <p:spPr>
          <a:xfrm>
            <a:off x="5029200" y="3816360"/>
            <a:ext cx="4038480" cy="296532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9"/>
          <p:cNvSpPr/>
          <p:nvPr/>
        </p:nvSpPr>
        <p:spPr>
          <a:xfrm>
            <a:off x="0" y="3505320"/>
            <a:ext cx="5105520" cy="39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cross produced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urple to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white ratio of traits in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fspring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del reasoned that the heritable                                                   factor for white flowers was present                                                          in the 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lants, but it did not affect                                                    flower col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purple flower is 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omina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lor     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صفة سائدة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white flower is 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cess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lor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صفة مُتنحية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2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228600" y="761760"/>
            <a:ext cx="8610480" cy="589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del found similar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3 : 1 ratio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two traits among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fspring when he conducted crosses for six other characters, each represented by two different varieti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صفتين مختلفتي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xample, when Mendel crossed two true-breeding varieties, one of which produce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ound seed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بذور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ستدير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he other of which produce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rinkled seed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بذور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جَعد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ll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fspring ha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ou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eeds, but among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lants,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75%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the seeds were round an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5%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ere wrinkled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e second law in the next lect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6C4AF-ED6E-48B0-84FD-DB0A3B8B12A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685800" y="63360"/>
            <a:ext cx="7772400" cy="67183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152280" y="491760"/>
            <a:ext cx="8686800" cy="299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ndel developed a hypothesi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فتراض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explain these results that consisted of four related ide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 Alternative version of gen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erent allel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ـ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ﭽ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نين المتقابلي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c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variations in inherited charac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erent alleles vary somewhat in                                                             the sequence of nucleotides at                                                                 the specific locu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وض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a ge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257800" y="2211480"/>
            <a:ext cx="3886200" cy="281772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7"/>
          <p:cNvSpPr/>
          <p:nvPr/>
        </p:nvSpPr>
        <p:spPr>
          <a:xfrm>
            <a:off x="76320" y="3429000"/>
            <a:ext cx="5410080" cy="28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 For each character, an organism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inherit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ر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wo alleles, one from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each par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homologous loci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مَوقِعُه على الكروموسو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di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the flower-color example, the 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lants inherited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urple-flower alle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rom one parent and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hite-flower alle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rom the 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18:36:37Z</dcterms:created>
  <dc:creator>User</dc:creator>
  <dc:description/>
  <dc:language>en-US</dc:language>
  <cp:lastModifiedBy>ralajmi</cp:lastModifiedBy>
  <dcterms:modified xsi:type="dcterms:W3CDTF">2014-02-02T04:49:49Z</dcterms:modified>
  <cp:revision>11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9EEFC8C8-4635-4393-94D5-C5A6494BE989</vt:lpwstr>
  </property>
  <property fmtid="{D5CDD505-2E9C-101B-9397-08002B2CF9AE}" pid="3" name="ArticulatePath">
    <vt:lpwstr>Lecture 22</vt:lpwstr>
  </property>
</Properties>
</file>