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E3E9-E15A-4CB0-AEE7-F15E5AC707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1E04-2894-4434-A948-32FBAF115D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5068-EF03-4604-8262-933802E5E8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86C-B755-438B-B1CF-56187D41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221-32DD-429B-A5E0-042073A6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BFF-33EA-44FE-8134-9BA99E91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000-F872-45F2-87F4-7AF37D9D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F2E-CBCE-49A5-A1BD-2623C4A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3C3-FAC5-4C83-94C4-A503F7BF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F41-2185-4EB7-981C-1931C75B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630-7769-4F8B-B94A-26CFDD71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509-59B1-499D-961B-E60C5553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F24-EFBB-4AF6-8706-592E95C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55E-B4E2-41EB-A094-160E0A3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D6B-C067-4D5E-9D29-802B364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EB97-47A2-4F11-A925-F53E50B804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97E6-A382-453D-B41E-E05DA6C567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ADD 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5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31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7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9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5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9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92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7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200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5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8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11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96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30" dur="6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81" dur="10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30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31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2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2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3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2E3E-A12E-4067-98E5-25277294D7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1600200" y="30492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136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iz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DNA re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role of enzymes in the replication of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complementary base pairing guides DNA re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8932-AE07-4F3C-B78F-9A507ADB03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25A0-9DA7-46E4-ABF1-40E68A8D30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3C83-DF0B-4FB7-933C-B950871CA7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ز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24D4-BDD8-4658-A760-285CCB15B7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5B04-174B-44DA-8792-F82A153989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24A-93C4-49E8-87AA-284146FEBA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كلية العوم</cp:lastModifiedBy>
  <dcterms:modified xsi:type="dcterms:W3CDTF">2013-01-27T05:35:06Z</dcterms:modified>
  <cp:revision>180</cp:revision>
  <dc:subject/>
  <dc:title>Slide 1</dc:title>
</cp:coreProperties>
</file>