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9DE8-30D1-42CE-98EF-A3816122C3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2648-40AE-4852-9DC5-2FCD9D7B05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55A2-4ABF-4EB2-84BA-8F9C1CF750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C1F-6D34-4597-942B-D4C15EC6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67D-3970-4AEC-845C-2AA7E837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EAC-7DBF-471E-8322-094D8AB3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A70-06F6-4AF1-BC4D-000EE98E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5E0-6760-415E-8C87-E1D2ED9C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4D6-FB5E-4B9B-8D2E-AF4D7A14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5D7-D58F-4198-A038-FA1BBDEA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A07-1A26-4B01-84EE-329E0273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CB6-75BA-472C-A375-21AAE741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F2D-4FA4-4393-AF53-FC8CF7DE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024-4E01-4FC8-9879-1A3FBD2F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3A1-B055-41C2-9D88-252B8803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576B-7B7F-47EE-8384-CCBBCD3192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F035-DA3C-4AAD-98AD-BD1A0F1DB5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ADD 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5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31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7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9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5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9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92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7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200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5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8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11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96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30" dur="6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81" dur="10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30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31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2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2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3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721C-9CCA-477F-9691-236EAF8E86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1600200" y="30492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136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iz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DNA re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role of enzymes in the replication of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complementary base pairing guides DNA re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47B-4D63-48BD-BAE2-7A91063E0E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A033-FF35-4D21-8180-F326D6C8FD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2E9-90C7-4848-A58C-C3E5DA32EB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ز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9993-0088-4C29-982D-70C581E4E5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BFA6-697D-4737-8BB5-644E25B270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758-6AF9-427A-80C2-74535C5DFE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كلية العوم</cp:lastModifiedBy>
  <dcterms:modified xsi:type="dcterms:W3CDTF">2013-01-27T05:35:06Z</dcterms:modified>
  <cp:revision>180</cp:revision>
  <dc:subject/>
  <dc:title>Slide 1</dc:title>
</cp:coreProperties>
</file>