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CE1-3232-4DB4-8EC7-156B0CBE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7CE-6FDD-46DD-8313-202B520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4C7-8919-46DF-A9A3-A86B0104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18B4-2BF1-4BBC-8DA3-051C42BB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C82-BC30-434B-9447-EFE776D2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B94-C041-4C3F-A2A9-1D22DBC5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0C3-E53B-48AC-B8C1-A5FCF846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BC3-4595-473D-B152-A7295142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D7C-6E3B-4CA4-BCAD-382823BE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57F-D1A1-4953-9D19-608ABCA5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EE8-CF30-475A-89C7-11F69580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A27-15AC-4F6C-B8B1-A982076B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DF5D-D2CB-4A93-A1A4-4713BDE157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1BF6-6B22-4C6C-9270-638F1C5248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8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8"/>
          <p:cNvSpPr/>
          <p:nvPr/>
        </p:nvSpPr>
        <p:spPr>
          <a:xfrm>
            <a:off x="1523880" y="471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0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0" name="Picture 14" descr=""/>
          <p:cNvPicPr/>
          <p:nvPr/>
        </p:nvPicPr>
        <p:blipFill>
          <a:blip r:embed="rId4"/>
          <a:srcRect l="18585" t="8074" r="4048" b="0"/>
          <a:stretch/>
        </p:blipFill>
        <p:spPr>
          <a:xfrm>
            <a:off x="22320" y="42840"/>
            <a:ext cx="1279440" cy="1405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57200" y="516564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into separate gamet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ummarized as Mendel’s law of segreg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2286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 (allel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0880" y="17366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57200" y="43275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3124080" y="2422440"/>
            <a:ext cx="5715000" cy="685800"/>
            <a:chOff x="3124080" y="2422440"/>
            <a:chExt cx="5715000" cy="685800"/>
          </a:xfrm>
        </p:grpSpPr>
        <p:grpSp>
          <p:nvGrpSpPr>
            <p:cNvPr id="90" name="Group 9"/>
            <p:cNvGrpSpPr/>
            <p:nvPr/>
          </p:nvGrpSpPr>
          <p:grpSpPr>
            <a:xfrm>
              <a:off x="3124080" y="2803680"/>
              <a:ext cx="3340080" cy="304560"/>
              <a:chOff x="3124080" y="2803680"/>
              <a:chExt cx="3340080" cy="304560"/>
            </a:xfrm>
          </p:grpSpPr>
          <p:grpSp>
            <p:nvGrpSpPr>
              <p:cNvPr id="91" name="Group 10"/>
              <p:cNvGrpSpPr/>
              <p:nvPr/>
            </p:nvGrpSpPr>
            <p:grpSpPr>
              <a:xfrm>
                <a:off x="3124080" y="2803680"/>
                <a:ext cx="3340080" cy="304560"/>
                <a:chOff x="3124080" y="2803680"/>
                <a:chExt cx="3340080" cy="304560"/>
              </a:xfrm>
            </p:grpSpPr>
            <p:sp>
              <p:nvSpPr>
                <p:cNvPr id="92" name="AutoShape 11"/>
                <p:cNvSpPr/>
                <p:nvPr/>
              </p:nvSpPr>
              <p:spPr>
                <a:xfrm>
                  <a:off x="3124080" y="28036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2"/>
                <p:cNvSpPr/>
                <p:nvPr/>
              </p:nvSpPr>
              <p:spPr>
                <a:xfrm>
                  <a:off x="4787640" y="28036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3"/>
                <p:cNvSpPr/>
                <p:nvPr/>
              </p:nvSpPr>
              <p:spPr>
                <a:xfrm>
                  <a:off x="4571640" y="28796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Rectangle 14"/>
              <p:cNvSpPr/>
              <p:nvPr/>
            </p:nvSpPr>
            <p:spPr>
              <a:xfrm>
                <a:off x="5943600" y="280368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15"/>
            <p:cNvSpPr/>
            <p:nvPr/>
          </p:nvSpPr>
          <p:spPr>
            <a:xfrm>
              <a:off x="6781680" y="242244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6019200" y="265104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137040" y="3336840"/>
            <a:ext cx="5930280" cy="916200"/>
            <a:chOff x="3137040" y="3336840"/>
            <a:chExt cx="5930280" cy="916200"/>
          </a:xfrm>
        </p:grpSpPr>
        <p:grpSp>
          <p:nvGrpSpPr>
            <p:cNvPr id="99" name="Group 18"/>
            <p:cNvGrpSpPr/>
            <p:nvPr/>
          </p:nvGrpSpPr>
          <p:grpSpPr>
            <a:xfrm>
              <a:off x="3137040" y="3336840"/>
              <a:ext cx="3339360" cy="304560"/>
              <a:chOff x="3137040" y="3336840"/>
              <a:chExt cx="3339360" cy="304560"/>
            </a:xfrm>
          </p:grpSpPr>
          <p:grpSp>
            <p:nvGrpSpPr>
              <p:cNvPr id="100" name="Group 19"/>
              <p:cNvGrpSpPr/>
              <p:nvPr/>
            </p:nvGrpSpPr>
            <p:grpSpPr>
              <a:xfrm>
                <a:off x="3137040" y="3336840"/>
                <a:ext cx="3339360" cy="304560"/>
                <a:chOff x="3137040" y="3336840"/>
                <a:chExt cx="3339360" cy="304560"/>
              </a:xfrm>
            </p:grpSpPr>
            <p:sp>
              <p:nvSpPr>
                <p:cNvPr id="101" name="AutoShape 20"/>
                <p:cNvSpPr/>
                <p:nvPr/>
              </p:nvSpPr>
              <p:spPr>
                <a:xfrm>
                  <a:off x="3137040" y="3336840"/>
                  <a:ext cx="167580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21"/>
                <p:cNvSpPr/>
                <p:nvPr/>
              </p:nvSpPr>
              <p:spPr>
                <a:xfrm>
                  <a:off x="4800240" y="333684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2"/>
                <p:cNvSpPr/>
                <p:nvPr/>
              </p:nvSpPr>
              <p:spPr>
                <a:xfrm>
                  <a:off x="4584240" y="3412800"/>
                  <a:ext cx="45684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Rectangle 23"/>
              <p:cNvSpPr/>
              <p:nvPr/>
            </p:nvSpPr>
            <p:spPr>
              <a:xfrm>
                <a:off x="5956200" y="3336840"/>
                <a:ext cx="1519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4"/>
            <p:cNvSpPr/>
            <p:nvPr/>
          </p:nvSpPr>
          <p:spPr>
            <a:xfrm>
              <a:off x="6781680" y="3579840"/>
              <a:ext cx="2285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 flipH="1" flipV="1">
              <a:off x="6019560" y="3489480"/>
              <a:ext cx="8380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6"/>
          <p:cNvGrpSpPr/>
          <p:nvPr/>
        </p:nvGrpSpPr>
        <p:grpSpPr>
          <a:xfrm>
            <a:off x="762120" y="2879640"/>
            <a:ext cx="2590200" cy="703800"/>
            <a:chOff x="762120" y="2879640"/>
            <a:chExt cx="2590200" cy="703800"/>
          </a:xfrm>
        </p:grpSpPr>
        <p:sp>
          <p:nvSpPr>
            <p:cNvPr id="108" name="Text Box 27"/>
            <p:cNvSpPr/>
            <p:nvPr/>
          </p:nvSpPr>
          <p:spPr>
            <a:xfrm>
              <a:off x="762120" y="2879640"/>
              <a:ext cx="205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8"/>
            <p:cNvSpPr/>
            <p:nvPr/>
          </p:nvSpPr>
          <p:spPr>
            <a:xfrm flipV="1">
              <a:off x="2514600" y="2955600"/>
              <a:ext cx="761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9"/>
            <p:cNvSpPr/>
            <p:nvPr/>
          </p:nvSpPr>
          <p:spPr>
            <a:xfrm>
              <a:off x="2514600" y="3260880"/>
              <a:ext cx="8377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31"/>
          <p:cNvSpPr/>
          <p:nvPr/>
        </p:nvSpPr>
        <p:spPr>
          <a:xfrm>
            <a:off x="0" y="1066680"/>
            <a:ext cx="8381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leles segre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30492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notyp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E993-94F9-4607-B6C3-D3B484BAF9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5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21" name="Text Box 6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8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9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0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1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2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Oval 14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457200" y="1295280"/>
            <a:ext cx="762120" cy="1523880"/>
            <a:chOff x="457200" y="1295280"/>
            <a:chExt cx="762120" cy="1523880"/>
          </a:xfrm>
        </p:grpSpPr>
        <p:sp>
          <p:nvSpPr>
            <p:cNvPr id="134" name="Oval 19"/>
            <p:cNvSpPr/>
            <p:nvPr/>
          </p:nvSpPr>
          <p:spPr>
            <a:xfrm>
              <a:off x="457200" y="220968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0"/>
            <p:cNvSpPr/>
            <p:nvPr/>
          </p:nvSpPr>
          <p:spPr>
            <a:xfrm>
              <a:off x="762120" y="129528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2590920" y="1295280"/>
            <a:ext cx="685800" cy="1600200"/>
            <a:chOff x="2590920" y="1295280"/>
            <a:chExt cx="685800" cy="1600200"/>
          </a:xfrm>
        </p:grpSpPr>
        <p:sp>
          <p:nvSpPr>
            <p:cNvPr id="137" name="Oval 22"/>
            <p:cNvSpPr/>
            <p:nvPr/>
          </p:nvSpPr>
          <p:spPr>
            <a:xfrm>
              <a:off x="2590920" y="228600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3"/>
            <p:cNvSpPr/>
            <p:nvPr/>
          </p:nvSpPr>
          <p:spPr>
            <a:xfrm>
              <a:off x="2971800" y="129528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4"/>
          <p:cNvGrpSpPr/>
          <p:nvPr/>
        </p:nvGrpSpPr>
        <p:grpSpPr>
          <a:xfrm>
            <a:off x="610200" y="2895480"/>
            <a:ext cx="2437920" cy="990720"/>
            <a:chOff x="610200" y="2895480"/>
            <a:chExt cx="2437920" cy="990720"/>
          </a:xfrm>
        </p:grpSpPr>
        <p:sp>
          <p:nvSpPr>
            <p:cNvPr id="140" name="Line 25"/>
            <p:cNvSpPr/>
            <p:nvPr/>
          </p:nvSpPr>
          <p:spPr>
            <a:xfrm>
              <a:off x="610200" y="2895480"/>
              <a:ext cx="1026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6"/>
            <p:cNvSpPr/>
            <p:nvPr/>
          </p:nvSpPr>
          <p:spPr>
            <a:xfrm flipH="1">
              <a:off x="2149920" y="2971800"/>
              <a:ext cx="8982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GB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48" name="Line 33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36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52" name="Line 37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0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56" name="Line 41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44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60" name="Line 45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46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47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8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64" name="Group 49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65" name="Text Box 50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51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52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3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54"/>
          <p:cNvGrpSpPr/>
          <p:nvPr/>
        </p:nvGrpSpPr>
        <p:grpSpPr>
          <a:xfrm>
            <a:off x="380880" y="152280"/>
            <a:ext cx="2971440" cy="914400"/>
            <a:chOff x="380880" y="152280"/>
            <a:chExt cx="2971440" cy="914400"/>
          </a:xfrm>
        </p:grpSpPr>
        <p:sp>
          <p:nvSpPr>
            <p:cNvPr id="170" name="Oval 55"/>
            <p:cNvSpPr/>
            <p:nvPr/>
          </p:nvSpPr>
          <p:spPr>
            <a:xfrm>
              <a:off x="380880" y="152280"/>
              <a:ext cx="10188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56"/>
            <p:cNvSpPr/>
            <p:nvPr/>
          </p:nvSpPr>
          <p:spPr>
            <a:xfrm>
              <a:off x="2333520" y="152280"/>
              <a:ext cx="10188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7"/>
            <p:cNvSpPr/>
            <p:nvPr/>
          </p:nvSpPr>
          <p:spPr>
            <a:xfrm>
              <a:off x="1399680" y="304920"/>
              <a:ext cx="84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58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74" name="Oval 59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0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61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62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3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4"/>
          <p:cNvSpPr/>
          <p:nvPr/>
        </p:nvSpPr>
        <p:spPr>
          <a:xfrm>
            <a:off x="838080" y="990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5"/>
          <p:cNvSpPr/>
          <p:nvPr/>
        </p:nvSpPr>
        <p:spPr>
          <a:xfrm>
            <a:off x="5562720" y="685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B3CA-AF1B-4FFC-8123-8E24DC2182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86" name="Text Box 6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7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Oval 9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0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91" name="Text Box 11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2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95" name="Oval 15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6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8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99" name="Oval 19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0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21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3"/>
          <p:cNvSpPr/>
          <p:nvPr/>
        </p:nvSpPr>
        <p:spPr>
          <a:xfrm>
            <a:off x="3809880" y="380880"/>
            <a:ext cx="5181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appearance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طرز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ظهر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3886200" y="1371600"/>
            <a:ext cx="48006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 organism’s genetic  makeup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طرز الـﭽين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5867280" y="26478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ماثل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8"/>
          <p:cNvSpPr/>
          <p:nvPr/>
        </p:nvSpPr>
        <p:spPr>
          <a:xfrm>
            <a:off x="5791320" y="449568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</a:rPr>
              <a:t>متباين الجين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52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758960"/>
            <a:ext cx="5562720" cy="479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1DBC-3998-44A1-8D5E-74BAD7BA24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838188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st cro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eding 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minant 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known 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228600" y="467676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The Law of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egreg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he law of segregation states that a pair of factors is segregated, or separated, during the formation of gamet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Dominant character (allele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Recessive character (allele)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مظهر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38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الطرز الجين</a:t>
            </a:r>
            <a:r>
              <a:rPr b="1" lang="ar-SA" sz="1900" spc="-1" strike="noStrike">
                <a:solidFill>
                  <a:srgbClr val="000000"/>
                </a:solidFill>
                <a:latin typeface="Arial"/>
              </a:rPr>
              <a:t>ي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38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24080" y="2286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80880" y="914400"/>
            <a:ext cx="83059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rcRect l="18595" t="8083" r="4047" b="0"/>
          <a:stretch/>
        </p:blipFill>
        <p:spPr>
          <a:xfrm>
            <a:off x="33480" y="22320"/>
            <a:ext cx="833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6B83-7010-4D08-9309-7670EAE61A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5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ree Steps of Mendel’s 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>
            <a:hlinkClick r:id="" action="ppaction://hlinkshowjump?jump=nextslide"/>
          </p:cNvPr>
          <p:cNvSpPr/>
          <p:nvPr/>
        </p:nvSpPr>
        <p:spPr>
          <a:xfrm>
            <a:off x="591336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>
            <a:hlinkClick r:id="" action="ppaction://hlinkshowjump?jump=endshow"/>
          </p:cNvPr>
          <p:cNvSpPr/>
          <p:nvPr/>
        </p:nvSpPr>
        <p:spPr>
          <a:xfrm>
            <a:off x="7924680" y="63244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>
            <a:hlinkClick r:id="" action="ppaction://hlinkshowjump?jump=previousslide"/>
          </p:cNvPr>
          <p:cNvSpPr/>
          <p:nvPr/>
        </p:nvSpPr>
        <p:spPr>
          <a:xfrm>
            <a:off x="5079960" y="6311880"/>
            <a:ext cx="6397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>
            <a:hlinkClick r:id="rId1" action="ppaction://hlinksldjump"/>
          </p:cNvPr>
          <p:cNvSpPr/>
          <p:nvPr/>
        </p:nvSpPr>
        <p:spPr>
          <a:xfrm>
            <a:off x="6781680" y="6311880"/>
            <a:ext cx="9144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p84"/>
          <p:cNvPicPr/>
          <p:nvPr/>
        </p:nvPicPr>
        <p:blipFill>
          <a:blip r:embed="rId2"/>
          <a:stretch/>
        </p:blipFill>
        <p:spPr>
          <a:xfrm>
            <a:off x="152280" y="1558800"/>
            <a:ext cx="8610840" cy="4354560"/>
          </a:xfrm>
          <a:prstGeom prst="rect">
            <a:avLst/>
          </a:prstGeom>
          <a:ln w="0">
            <a:noFill/>
          </a:ln>
        </p:spPr>
      </p:pic>
      <p:sp>
        <p:nvSpPr>
          <p:cNvPr id="64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’s Result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ff"/>
            </a:solidFill>
            <a:miter/>
          </a:ln>
          <a:effectLst>
            <a:outerShdw dist="89604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cessive and Dominant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concluded that inherited characteristics are controlled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occur in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his experiments on pea plants, one factor in a pair masked the other. The trait that masked the other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 The trait that was masked wa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7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 خلط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nt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ial gene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ك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a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0114-0204-4869-B14E-C075D7917D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149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Mendel expected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نون الإنعزال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029200" y="3816360"/>
            <a:ext cx="4038480" cy="29653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9"/>
          <p:cNvSpPr/>
          <p:nvPr/>
        </p:nvSpPr>
        <p:spPr>
          <a:xfrm>
            <a:off x="0" y="3505320"/>
            <a:ext cx="510552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10480" cy="58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: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eeds were round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a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145E-FDA4-4B3F-A20C-3516F045BB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685800" y="63360"/>
            <a:ext cx="7772400" cy="6718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99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ين المتقاب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  the sequence of nucleotides at 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HP</cp:lastModifiedBy>
  <dcterms:modified xsi:type="dcterms:W3CDTF">2014-01-07T17:06:16Z</dcterms:modified>
  <cp:revision>1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EEFC8C8-4635-4393-94D5-C5A6494BE989</vt:lpwstr>
  </property>
  <property fmtid="{D5CDD505-2E9C-101B-9397-08002B2CF9AE}" pid="3" name="ArticulatePath">
    <vt:lpwstr>Lecture 22</vt:lpwstr>
  </property>
</Properties>
</file>