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52D-041B-4EE0-A0AC-D1BB5149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42F-DA3B-442E-BFA5-7F409608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5CE-AC06-46FB-92FA-FE605C96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B5B-DBE4-45A9-A4E0-022FFFA7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FAE7-5211-4817-A613-C9491D71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75E-B6DF-4B7D-AA0D-0DF624F4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91B-B183-4794-B11B-62245CAC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709-4269-4C3F-B4A8-BD043D74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718-DDDF-4A2E-9E46-9F56CE25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E62-39BE-4608-BA7C-DC5350AD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860-3925-49D7-AB5E-7BA04D26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4FC-D6F3-4032-8ADC-42084617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15B3-F6DE-44F3-A0E6-09075F0E89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A4A9-A84D-4084-ABDB-4AC51CE774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0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1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2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99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0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1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08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1266-A56B-4D58-8C9B-2A881412EA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1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4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37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0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48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2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56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0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4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5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0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4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9CF2-E0D3-4C3D-9D99-3BC8B5AF6F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86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1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5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99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9626-3170-47B5-B62A-9B0054C3B1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7FFC-7AAF-4BA8-B3D0-44A992DF02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55D4-FAB7-43AA-80E9-FB9656A490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BA41-5E1D-4A26-BCFD-BC33F6F0C5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HP</cp:lastModifiedBy>
  <dcterms:modified xsi:type="dcterms:W3CDTF">2014-01-07T17:06:16Z</dcterms:modified>
  <cp:revision>1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EEFC8C8-4635-4393-94D5-C5A6494BE989</vt:lpwstr>
  </property>
  <property fmtid="{D5CDD505-2E9C-101B-9397-08002B2CF9AE}" pid="3" name="ArticulatePath">
    <vt:lpwstr>Lecture 22</vt:lpwstr>
  </property>
</Properties>
</file>