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083-D344-4585-8461-1F54364A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8F5A-D78F-4327-947F-FBEBF840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B08-7BD8-48E5-8863-49EB30BA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893-37EC-4336-BD2C-838CF4D4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CBC-5F25-4537-9069-F80A6F8A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5A9D-22AA-4AED-BD98-E48C2214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AB5-0D73-406C-A027-EA44513B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2CBE-0123-4B04-A290-23C952A2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1B2-1194-489E-9550-6197D8BF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FFD4-2A7F-4991-AFA1-20092E4B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F3B-57A4-4C2B-925F-0D5C1AE8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4813-7EEA-459D-862F-72FDAEC7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E28D-BB13-4DA1-9AA3-C6E81D765F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92EB-E4FF-434D-81C0-E0456E9534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 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8"/>
          <p:cNvSpPr/>
          <p:nvPr/>
        </p:nvSpPr>
        <p:spPr>
          <a:xfrm>
            <a:off x="1523880" y="471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0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0" name="Picture 14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90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91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92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99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100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101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108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960" y="3731760"/>
            <a:ext cx="472428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243B-7727-47DD-BE3B-300C183390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121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134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137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140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148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152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156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160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164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165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170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174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6E54-62AF-41D5-8EBC-1E74BF1E41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186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191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195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199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2324-14F7-4339-93A4-A98A3BEA82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The Law of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egreg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law of segregation states that a pair of factors is segregated, or separated, during the formation of game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rcRect l="18595" t="8083" r="4047" b="0"/>
          <a:stretch/>
        </p:blipFill>
        <p:spPr>
          <a:xfrm>
            <a:off x="33480" y="22320"/>
            <a:ext cx="833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536A-D1E5-4CFD-9A59-0B82666B90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ndel brought an experimental and quantitative approach to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Steps of Mendel’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p84"/>
          <p:cNvPicPr/>
          <p:nvPr/>
        </p:nvPicPr>
        <p:blipFill>
          <a:blip r:embed="rId2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6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’s Results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7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that revealed the two fundamental laws of hered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aw of segregation.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 law of independent assort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35BF-520D-426B-8536-429737A53C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)- Law of segreg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نون الإنعزال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alle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ﭽـين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aracter are isolated into separate 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10480" cy="58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e second la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132F-1751-4724-851A-329DF0E424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28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HP</cp:lastModifiedBy>
  <dcterms:modified xsi:type="dcterms:W3CDTF">2014-01-07T17:06:16Z</dcterms:modified>
  <cp:revision>1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9EEFC8C8-4635-4393-94D5-C5A6494BE989</vt:lpwstr>
  </property>
  <property fmtid="{D5CDD505-2E9C-101B-9397-08002B2CF9AE}" pid="3" name="ArticulatePath">
    <vt:lpwstr>Lecture 22</vt:lpwstr>
  </property>
</Properties>
</file>