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90E-F6DB-402F-B185-9FDC3557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82B-0861-428C-AB93-3E1F9A3F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1AB-BD09-484A-A340-42292CE6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BFB-A18D-44DD-B53E-4AA82E30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3BE-44F7-4666-A0C1-F9F5712D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2DB-989B-4BB5-BFF7-ADF29D4A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A15-DF40-445E-9113-08307988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9ED-C519-4C4C-90D8-7CF6CB0D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006-6E83-4CA4-A547-FA5A8FEF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388-3981-4DC5-892C-D03A5DEE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029-573F-4234-957C-BB5FEDEB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C1D-8A40-4927-98A6-1F1C6BF9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8A76-C9B3-4430-9AF4-0645A379C6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1557-19D3-4835-BDA6-CB4BD38B7F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8FF4-0D2A-49E4-BF63-825FE69EDA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3CFD-4CB9-48F6-A5A1-1F5F590DBA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D404-0F19-47CC-BB46-A63629475A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8104-D5F8-4DB9-8335-7D65BB2476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73BD-3A20-4567-8D62-9D311C9046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4B41-5C08-4B93-80D2-5890A1247C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User</cp:lastModifiedBy>
  <dcterms:modified xsi:type="dcterms:W3CDTF">2014-01-04T13:09:23Z</dcterms:modified>
  <cp:revision>115</cp:revision>
  <dc:subject/>
  <dc:title>Slide 1</dc:title>
</cp:coreProperties>
</file>