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8A9-181D-430E-89EF-DCFE02E5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4F4-83CB-4E3B-A54B-26FA713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86F-568D-4C97-A36F-FD39F724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062-399E-4050-A791-2F2AB4A4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510-1127-46B3-9E56-FEE0F97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81C-6887-4878-8AC9-7688650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09E-2509-4CAE-AA47-4FD6F04E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C31-0C2B-4D79-A1F8-A1B30AC3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2FB-85B5-4E3F-B276-6E0F4BEE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1F2-9D12-4EE9-85E4-1005805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8FE-9510-4563-A29B-2E49FE8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457-FDA7-46F0-B871-C8E5E82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6E15-C88D-4A82-BAE9-7D5BD25B3B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0D5D-A4C6-4F28-8D31-5309CD1F74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4A3-3F9E-49EA-8F6B-87E064B8B5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A59-59E9-43BD-8811-94E0DEDF29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F6CF-89BD-4524-A493-7212C6E306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730-0069-4C74-ADFA-39F83B0407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EB94-7A62-4A38-830F-6482EF9417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4C19-7EA8-430C-96CA-C0EA982222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4-01-04T13:09:23Z</dcterms:modified>
  <cp:revision>115</cp:revision>
  <dc:subject/>
  <dc:title>Slide 1</dc:title>
</cp:coreProperties>
</file>