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5D81-0ECE-4C23-BF6E-A0E8619E8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0A84-4CB7-4580-9BDC-BC0D59E0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CDE3-9642-49F3-8DB2-0C360E138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AEE1-06B8-4282-B525-AE2E665FA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8D69-021A-448E-8C5D-544A62CC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0EAC-D209-4E7E-9072-A8783513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B3F2-B21B-4627-8C77-32757136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B589-4772-4038-A6FB-1B3B2C79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19DE-710B-4470-B15C-07E5ABEE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1ADB-1882-461E-A6A6-0BFE64EB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6C6A-168D-43E8-9639-6660C81C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7F7D-2BB4-41C0-8ED8-A8CC18AF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73AF-46B7-4157-AF12-1B3508F4CDC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D1CA-A360-4FF8-B12F-53362794E77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8" descr=""/>
          <p:cNvPicPr/>
          <p:nvPr/>
        </p:nvPicPr>
        <p:blipFill>
          <a:blip r:embed="rId1"/>
          <a:srcRect l="9192" t="0" r="0" b="0"/>
          <a:stretch/>
        </p:blipFill>
        <p:spPr>
          <a:xfrm>
            <a:off x="660240" y="3078000"/>
            <a:ext cx="3988080" cy="2637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3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9"/>
          <p:cNvSpPr/>
          <p:nvPr/>
        </p:nvSpPr>
        <p:spPr>
          <a:xfrm>
            <a:off x="749160" y="1752480"/>
            <a:ext cx="7785360" cy="520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tion A: Gregor Mendel’s Discov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660240" y="2762280"/>
            <a:ext cx="7925040" cy="36385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8"/>
          <p:cNvSpPr/>
          <p:nvPr/>
        </p:nvSpPr>
        <p:spPr>
          <a:xfrm>
            <a:off x="1523880" y="471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DEL AND THE GENE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0" descr=""/>
          <p:cNvPicPr/>
          <p:nvPr/>
        </p:nvPicPr>
        <p:blipFill>
          <a:blip r:embed="rId3"/>
          <a:stretch/>
        </p:blipFill>
        <p:spPr>
          <a:xfrm>
            <a:off x="4267080" y="2971800"/>
            <a:ext cx="4219560" cy="3182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50" name="Picture 14" descr=""/>
          <p:cNvPicPr/>
          <p:nvPr/>
        </p:nvPicPr>
        <p:blipFill>
          <a:blip r:embed="rId4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457200" y="516564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two alleles (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gen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for a character are separated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gregate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into separate gamet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ummarized as Mendel’s law of segreg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and aggregated again by fertil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ndelian inheritance reflects rules of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robabilit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or the behaviour of genes (allel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80880" y="173664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charact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n organism inherit two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allel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one from each paren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457200" y="432756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f the two alleles differ, one of them will be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Domina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nd the other is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Recessiv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3124080" y="2422440"/>
            <a:ext cx="5715000" cy="685800"/>
            <a:chOff x="3124080" y="2422440"/>
            <a:chExt cx="5715000" cy="685800"/>
          </a:xfrm>
        </p:grpSpPr>
        <p:grpSp>
          <p:nvGrpSpPr>
            <p:cNvPr id="90" name="Group 9"/>
            <p:cNvGrpSpPr/>
            <p:nvPr/>
          </p:nvGrpSpPr>
          <p:grpSpPr>
            <a:xfrm>
              <a:off x="3124080" y="2803680"/>
              <a:ext cx="3340080" cy="304560"/>
              <a:chOff x="3124080" y="2803680"/>
              <a:chExt cx="3340080" cy="304560"/>
            </a:xfrm>
          </p:grpSpPr>
          <p:grpSp>
            <p:nvGrpSpPr>
              <p:cNvPr id="91" name="Group 10"/>
              <p:cNvGrpSpPr/>
              <p:nvPr/>
            </p:nvGrpSpPr>
            <p:grpSpPr>
              <a:xfrm>
                <a:off x="3124080" y="2803680"/>
                <a:ext cx="3340080" cy="304560"/>
                <a:chOff x="3124080" y="2803680"/>
                <a:chExt cx="3340080" cy="304560"/>
              </a:xfrm>
            </p:grpSpPr>
            <p:sp>
              <p:nvSpPr>
                <p:cNvPr id="92" name="AutoShape 11"/>
                <p:cNvSpPr/>
                <p:nvPr/>
              </p:nvSpPr>
              <p:spPr>
                <a:xfrm>
                  <a:off x="3124080" y="2803680"/>
                  <a:ext cx="167616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AutoShape 12"/>
                <p:cNvSpPr/>
                <p:nvPr/>
              </p:nvSpPr>
              <p:spPr>
                <a:xfrm>
                  <a:off x="4787640" y="2803680"/>
                  <a:ext cx="167652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Rectangle 13"/>
                <p:cNvSpPr/>
                <p:nvPr/>
              </p:nvSpPr>
              <p:spPr>
                <a:xfrm>
                  <a:off x="4571640" y="2879640"/>
                  <a:ext cx="457200" cy="15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" name="Rectangle 14"/>
              <p:cNvSpPr/>
              <p:nvPr/>
            </p:nvSpPr>
            <p:spPr>
              <a:xfrm>
                <a:off x="5943600" y="2803680"/>
                <a:ext cx="152280" cy="3045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Text Box 15"/>
            <p:cNvSpPr/>
            <p:nvPr/>
          </p:nvSpPr>
          <p:spPr>
            <a:xfrm>
              <a:off x="6781680" y="2422440"/>
              <a:ext cx="20574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Red colour   gene (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allele</a:t>
              </a: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6"/>
            <p:cNvSpPr/>
            <p:nvPr/>
          </p:nvSpPr>
          <p:spPr>
            <a:xfrm flipH="1">
              <a:off x="6019200" y="2651040"/>
              <a:ext cx="8384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17"/>
          <p:cNvGrpSpPr/>
          <p:nvPr/>
        </p:nvGrpSpPr>
        <p:grpSpPr>
          <a:xfrm>
            <a:off x="3137040" y="3336840"/>
            <a:ext cx="5930280" cy="916200"/>
            <a:chOff x="3137040" y="3336840"/>
            <a:chExt cx="5930280" cy="916200"/>
          </a:xfrm>
        </p:grpSpPr>
        <p:grpSp>
          <p:nvGrpSpPr>
            <p:cNvPr id="99" name="Group 18"/>
            <p:cNvGrpSpPr/>
            <p:nvPr/>
          </p:nvGrpSpPr>
          <p:grpSpPr>
            <a:xfrm>
              <a:off x="3137040" y="3336840"/>
              <a:ext cx="3339360" cy="304560"/>
              <a:chOff x="3137040" y="3336840"/>
              <a:chExt cx="3339360" cy="304560"/>
            </a:xfrm>
          </p:grpSpPr>
          <p:grpSp>
            <p:nvGrpSpPr>
              <p:cNvPr id="100" name="Group 19"/>
              <p:cNvGrpSpPr/>
              <p:nvPr/>
            </p:nvGrpSpPr>
            <p:grpSpPr>
              <a:xfrm>
                <a:off x="3137040" y="3336840"/>
                <a:ext cx="3339360" cy="304560"/>
                <a:chOff x="3137040" y="3336840"/>
                <a:chExt cx="3339360" cy="304560"/>
              </a:xfrm>
            </p:grpSpPr>
            <p:sp>
              <p:nvSpPr>
                <p:cNvPr id="101" name="AutoShape 20"/>
                <p:cNvSpPr/>
                <p:nvPr/>
              </p:nvSpPr>
              <p:spPr>
                <a:xfrm>
                  <a:off x="3137040" y="3336840"/>
                  <a:ext cx="167580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AutoShape 21"/>
                <p:cNvSpPr/>
                <p:nvPr/>
              </p:nvSpPr>
              <p:spPr>
                <a:xfrm>
                  <a:off x="4800240" y="3336840"/>
                  <a:ext cx="167616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Rectangle 22"/>
                <p:cNvSpPr/>
                <p:nvPr/>
              </p:nvSpPr>
              <p:spPr>
                <a:xfrm>
                  <a:off x="4584240" y="3412800"/>
                  <a:ext cx="456840" cy="15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Rectangle 23"/>
              <p:cNvSpPr/>
              <p:nvPr/>
            </p:nvSpPr>
            <p:spPr>
              <a:xfrm>
                <a:off x="5956200" y="3336840"/>
                <a:ext cx="151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Text Box 24"/>
            <p:cNvSpPr/>
            <p:nvPr/>
          </p:nvSpPr>
          <p:spPr>
            <a:xfrm>
              <a:off x="6781680" y="3579840"/>
              <a:ext cx="22856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White colour   gene (</a:t>
              </a: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allele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5"/>
            <p:cNvSpPr/>
            <p:nvPr/>
          </p:nvSpPr>
          <p:spPr>
            <a:xfrm flipH="1" flipV="1">
              <a:off x="6019560" y="3489480"/>
              <a:ext cx="8380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26"/>
          <p:cNvGrpSpPr/>
          <p:nvPr/>
        </p:nvGrpSpPr>
        <p:grpSpPr>
          <a:xfrm>
            <a:off x="762120" y="2879640"/>
            <a:ext cx="2590200" cy="703800"/>
            <a:chOff x="762120" y="2879640"/>
            <a:chExt cx="2590200" cy="703800"/>
          </a:xfrm>
        </p:grpSpPr>
        <p:sp>
          <p:nvSpPr>
            <p:cNvPr id="108" name="Text Box 27"/>
            <p:cNvSpPr/>
            <p:nvPr/>
          </p:nvSpPr>
          <p:spPr>
            <a:xfrm>
              <a:off x="762120" y="2879640"/>
              <a:ext cx="2057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ff"/>
                  </a:solidFill>
                  <a:latin typeface="Arial"/>
                </a:rPr>
                <a:t>Homologous chromosom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8"/>
            <p:cNvSpPr/>
            <p:nvPr/>
          </p:nvSpPr>
          <p:spPr>
            <a:xfrm flipV="1">
              <a:off x="2514600" y="2955600"/>
              <a:ext cx="7614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9"/>
            <p:cNvSpPr/>
            <p:nvPr/>
          </p:nvSpPr>
          <p:spPr>
            <a:xfrm>
              <a:off x="2514600" y="3260880"/>
              <a:ext cx="83772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31"/>
          <p:cNvSpPr/>
          <p:nvPr/>
        </p:nvSpPr>
        <p:spPr>
          <a:xfrm>
            <a:off x="0" y="1066680"/>
            <a:ext cx="83818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eles segreg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نفصل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ecause of the distribution of homologous chromosomes to different gametes in mei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643280" y="304920"/>
            <a:ext cx="4500720" cy="63244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76320" y="4803840"/>
            <a:ext cx="4495680" cy="15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unnett square analysis of the flower-color example demonstrates Mendel’s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’s model accounts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:1 ratio i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76320" y="228600"/>
            <a:ext cx="4647960" cy="34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’s law of segregation accounts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:1 rati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will produce two classes of gametes, half with the purple-flower allele and half with the white-flower all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self-pollination, the gametes of these two classes unite random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an produce four equally likely combinations of sperm and ov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5960" y="3731760"/>
            <a:ext cx="4724280" cy="9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unnett square predicts the results of a genetic cross between individuals of know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notyp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طرز الـ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ﭽ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ن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2604F-B617-4C23-BE45-C970162E495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4241880" y="5943600"/>
            <a:ext cx="4876560" cy="914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25560" y="5943600"/>
            <a:ext cx="4114800" cy="914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4"/>
          <p:cNvSpPr/>
          <p:nvPr/>
        </p:nvSpPr>
        <p:spPr>
          <a:xfrm>
            <a:off x="1295280" y="3886200"/>
            <a:ext cx="990720" cy="838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5"/>
          <p:cNvGrpSpPr/>
          <p:nvPr/>
        </p:nvGrpSpPr>
        <p:grpSpPr>
          <a:xfrm>
            <a:off x="4572000" y="762120"/>
            <a:ext cx="4419720" cy="1541520"/>
            <a:chOff x="4572000" y="762120"/>
            <a:chExt cx="4419720" cy="1541520"/>
          </a:xfrm>
        </p:grpSpPr>
        <p:sp>
          <p:nvSpPr>
            <p:cNvPr id="121" name="Text Box 6"/>
            <p:cNvSpPr/>
            <p:nvPr/>
          </p:nvSpPr>
          <p:spPr>
            <a:xfrm>
              <a:off x="4572000" y="1523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7"/>
            <p:cNvSpPr/>
            <p:nvPr/>
          </p:nvSpPr>
          <p:spPr>
            <a:xfrm>
              <a:off x="5715000" y="1554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8"/>
            <p:cNvSpPr/>
            <p:nvPr/>
          </p:nvSpPr>
          <p:spPr>
            <a:xfrm>
              <a:off x="7315200" y="16002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9"/>
            <p:cNvSpPr/>
            <p:nvPr/>
          </p:nvSpPr>
          <p:spPr>
            <a:xfrm>
              <a:off x="8381880" y="16146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0"/>
            <p:cNvSpPr/>
            <p:nvPr/>
          </p:nvSpPr>
          <p:spPr>
            <a:xfrm flipH="1">
              <a:off x="4876920" y="762120"/>
              <a:ext cx="4572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1"/>
            <p:cNvSpPr/>
            <p:nvPr/>
          </p:nvSpPr>
          <p:spPr>
            <a:xfrm>
              <a:off x="5638680" y="762120"/>
              <a:ext cx="38124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2"/>
            <p:cNvSpPr/>
            <p:nvPr/>
          </p:nvSpPr>
          <p:spPr>
            <a:xfrm flipH="1">
              <a:off x="7543440" y="762120"/>
              <a:ext cx="30492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3"/>
            <p:cNvSpPr/>
            <p:nvPr/>
          </p:nvSpPr>
          <p:spPr>
            <a:xfrm>
              <a:off x="8229600" y="762120"/>
              <a:ext cx="38088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Oval 14"/>
          <p:cNvSpPr/>
          <p:nvPr/>
        </p:nvSpPr>
        <p:spPr>
          <a:xfrm>
            <a:off x="4267080" y="382428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5410080" y="3824280"/>
            <a:ext cx="990720" cy="900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6"/>
          <p:cNvSpPr/>
          <p:nvPr/>
        </p:nvSpPr>
        <p:spPr>
          <a:xfrm>
            <a:off x="6553080" y="3809880"/>
            <a:ext cx="990720" cy="928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7"/>
          <p:cNvSpPr/>
          <p:nvPr/>
        </p:nvSpPr>
        <p:spPr>
          <a:xfrm>
            <a:off x="8153280" y="3824280"/>
            <a:ext cx="914400" cy="91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8"/>
          <p:cNvGrpSpPr/>
          <p:nvPr/>
        </p:nvGrpSpPr>
        <p:grpSpPr>
          <a:xfrm>
            <a:off x="457200" y="1295280"/>
            <a:ext cx="762120" cy="1523880"/>
            <a:chOff x="457200" y="1295280"/>
            <a:chExt cx="762120" cy="1523880"/>
          </a:xfrm>
        </p:grpSpPr>
        <p:sp>
          <p:nvSpPr>
            <p:cNvPr id="134" name="Oval 19"/>
            <p:cNvSpPr/>
            <p:nvPr/>
          </p:nvSpPr>
          <p:spPr>
            <a:xfrm>
              <a:off x="457200" y="2209680"/>
              <a:ext cx="762120" cy="6094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0"/>
            <p:cNvSpPr/>
            <p:nvPr/>
          </p:nvSpPr>
          <p:spPr>
            <a:xfrm>
              <a:off x="762120" y="129528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21"/>
          <p:cNvGrpSpPr/>
          <p:nvPr/>
        </p:nvGrpSpPr>
        <p:grpSpPr>
          <a:xfrm>
            <a:off x="2590920" y="1295280"/>
            <a:ext cx="685800" cy="1600200"/>
            <a:chOff x="2590920" y="1295280"/>
            <a:chExt cx="685800" cy="1600200"/>
          </a:xfrm>
        </p:grpSpPr>
        <p:sp>
          <p:nvSpPr>
            <p:cNvPr id="137" name="Oval 22"/>
            <p:cNvSpPr/>
            <p:nvPr/>
          </p:nvSpPr>
          <p:spPr>
            <a:xfrm>
              <a:off x="2590920" y="2286000"/>
              <a:ext cx="685800" cy="609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3"/>
            <p:cNvSpPr/>
            <p:nvPr/>
          </p:nvSpPr>
          <p:spPr>
            <a:xfrm>
              <a:off x="2971800" y="129528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24"/>
          <p:cNvGrpSpPr/>
          <p:nvPr/>
        </p:nvGrpSpPr>
        <p:grpSpPr>
          <a:xfrm>
            <a:off x="610200" y="2895480"/>
            <a:ext cx="2437920" cy="990720"/>
            <a:chOff x="610200" y="2895480"/>
            <a:chExt cx="2437920" cy="990720"/>
          </a:xfrm>
        </p:grpSpPr>
        <p:sp>
          <p:nvSpPr>
            <p:cNvPr id="140" name="Line 25"/>
            <p:cNvSpPr/>
            <p:nvPr/>
          </p:nvSpPr>
          <p:spPr>
            <a:xfrm>
              <a:off x="610200" y="2895480"/>
              <a:ext cx="102672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6"/>
            <p:cNvSpPr/>
            <p:nvPr/>
          </p:nvSpPr>
          <p:spPr>
            <a:xfrm flipH="1">
              <a:off x="2149920" y="2971800"/>
              <a:ext cx="89820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 Box 27"/>
          <p:cNvSpPr/>
          <p:nvPr/>
        </p:nvSpPr>
        <p:spPr>
          <a:xfrm>
            <a:off x="838080" y="48006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00% </a:t>
            </a:r>
            <a:r>
              <a:rPr b="1" lang="en-GB" sz="1800" spc="-1" strike="noStrike">
                <a:solidFill>
                  <a:srgbClr val="ff00ff"/>
                </a:solidFill>
                <a:latin typeface="Arial"/>
              </a:rPr>
              <a:t>Pur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8"/>
          <p:cNvSpPr/>
          <p:nvPr/>
        </p:nvSpPr>
        <p:spPr>
          <a:xfrm>
            <a:off x="5562720" y="6095880"/>
            <a:ext cx="281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5105520" y="4952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GB" sz="1800" spc="-1" strike="noStrike">
                <a:solidFill>
                  <a:srgbClr val="ff00ff"/>
                </a:solidFill>
                <a:latin typeface="Arial"/>
              </a:rPr>
              <a:t>Purpl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:         1 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0"/>
          <p:cNvSpPr/>
          <p:nvPr/>
        </p:nvSpPr>
        <p:spPr>
          <a:xfrm>
            <a:off x="685800" y="6110280"/>
            <a:ext cx="25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1"/>
          <p:cNvSpPr/>
          <p:nvPr/>
        </p:nvSpPr>
        <p:spPr>
          <a:xfrm>
            <a:off x="419112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32"/>
          <p:cNvGrpSpPr/>
          <p:nvPr/>
        </p:nvGrpSpPr>
        <p:grpSpPr>
          <a:xfrm>
            <a:off x="4724280" y="2133720"/>
            <a:ext cx="2819520" cy="1600200"/>
            <a:chOff x="4724280" y="2133720"/>
            <a:chExt cx="2819520" cy="1600200"/>
          </a:xfrm>
        </p:grpSpPr>
        <p:sp>
          <p:nvSpPr>
            <p:cNvPr id="148" name="Line 33"/>
            <p:cNvSpPr/>
            <p:nvPr/>
          </p:nvSpPr>
          <p:spPr>
            <a:xfrm flipH="1">
              <a:off x="4724280" y="2133720"/>
              <a:ext cx="763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34"/>
            <p:cNvSpPr/>
            <p:nvPr/>
          </p:nvSpPr>
          <p:spPr>
            <a:xfrm flipH="1">
              <a:off x="4724280" y="2133720"/>
              <a:ext cx="2819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35"/>
            <p:cNvSpPr/>
            <p:nvPr/>
          </p:nvSpPr>
          <p:spPr>
            <a:xfrm>
              <a:off x="4724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36"/>
          <p:cNvGrpSpPr/>
          <p:nvPr/>
        </p:nvGrpSpPr>
        <p:grpSpPr>
          <a:xfrm>
            <a:off x="4876920" y="2133720"/>
            <a:ext cx="3657240" cy="1600200"/>
            <a:chOff x="4876920" y="2133720"/>
            <a:chExt cx="3657240" cy="1600200"/>
          </a:xfrm>
        </p:grpSpPr>
        <p:sp>
          <p:nvSpPr>
            <p:cNvPr id="152" name="Line 37"/>
            <p:cNvSpPr/>
            <p:nvPr/>
          </p:nvSpPr>
          <p:spPr>
            <a:xfrm flipH="1">
              <a:off x="5943240" y="2133720"/>
              <a:ext cx="25909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38"/>
            <p:cNvSpPr/>
            <p:nvPr/>
          </p:nvSpPr>
          <p:spPr>
            <a:xfrm>
              <a:off x="4876920" y="2133720"/>
              <a:ext cx="106668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9"/>
            <p:cNvSpPr/>
            <p:nvPr/>
          </p:nvSpPr>
          <p:spPr>
            <a:xfrm>
              <a:off x="594360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40"/>
          <p:cNvGrpSpPr/>
          <p:nvPr/>
        </p:nvGrpSpPr>
        <p:grpSpPr>
          <a:xfrm>
            <a:off x="6019920" y="2057400"/>
            <a:ext cx="1523880" cy="1676520"/>
            <a:chOff x="6019920" y="2057400"/>
            <a:chExt cx="1523880" cy="1676520"/>
          </a:xfrm>
        </p:grpSpPr>
        <p:sp>
          <p:nvSpPr>
            <p:cNvPr id="156" name="Line 41"/>
            <p:cNvSpPr/>
            <p:nvPr/>
          </p:nvSpPr>
          <p:spPr>
            <a:xfrm>
              <a:off x="6019920" y="2057400"/>
              <a:ext cx="990360" cy="137160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42"/>
            <p:cNvSpPr/>
            <p:nvPr/>
          </p:nvSpPr>
          <p:spPr>
            <a:xfrm flipH="1">
              <a:off x="7010280" y="2133720"/>
              <a:ext cx="533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43"/>
            <p:cNvSpPr/>
            <p:nvPr/>
          </p:nvSpPr>
          <p:spPr>
            <a:xfrm>
              <a:off x="7010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44"/>
          <p:cNvGrpSpPr/>
          <p:nvPr/>
        </p:nvGrpSpPr>
        <p:grpSpPr>
          <a:xfrm>
            <a:off x="6019920" y="2057400"/>
            <a:ext cx="2590560" cy="1676520"/>
            <a:chOff x="6019920" y="2057400"/>
            <a:chExt cx="2590560" cy="1676520"/>
          </a:xfrm>
        </p:grpSpPr>
        <p:sp>
          <p:nvSpPr>
            <p:cNvPr id="160" name="Line 45"/>
            <p:cNvSpPr/>
            <p:nvPr/>
          </p:nvSpPr>
          <p:spPr>
            <a:xfrm>
              <a:off x="8610480" y="2133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46"/>
            <p:cNvSpPr/>
            <p:nvPr/>
          </p:nvSpPr>
          <p:spPr>
            <a:xfrm>
              <a:off x="6019920" y="2057400"/>
              <a:ext cx="25905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47"/>
            <p:cNvSpPr/>
            <p:nvPr/>
          </p:nvSpPr>
          <p:spPr>
            <a:xfrm>
              <a:off x="8610480" y="34290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48"/>
          <p:cNvGrpSpPr/>
          <p:nvPr/>
        </p:nvGrpSpPr>
        <p:grpSpPr>
          <a:xfrm>
            <a:off x="25560" y="4006800"/>
            <a:ext cx="3961440" cy="642600"/>
            <a:chOff x="25560" y="4006800"/>
            <a:chExt cx="3961440" cy="642600"/>
          </a:xfrm>
        </p:grpSpPr>
        <p:grpSp>
          <p:nvGrpSpPr>
            <p:cNvPr id="164" name="Group 49"/>
            <p:cNvGrpSpPr/>
            <p:nvPr/>
          </p:nvGrpSpPr>
          <p:grpSpPr>
            <a:xfrm>
              <a:off x="2082600" y="4006800"/>
              <a:ext cx="1904400" cy="642600"/>
              <a:chOff x="2082600" y="4006800"/>
              <a:chExt cx="1904400" cy="642600"/>
            </a:xfrm>
          </p:grpSpPr>
          <p:sp>
            <p:nvSpPr>
              <p:cNvPr id="165" name="Text Box 50"/>
              <p:cNvSpPr/>
              <p:nvPr/>
            </p:nvSpPr>
            <p:spPr>
              <a:xfrm>
                <a:off x="2515320" y="4006800"/>
                <a:ext cx="1471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ff"/>
                    </a:solidFill>
                    <a:latin typeface="Arial"/>
                  </a:rPr>
                  <a:t>Recessive alle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51"/>
              <p:cNvSpPr/>
              <p:nvPr/>
            </p:nvSpPr>
            <p:spPr>
              <a:xfrm flipV="1">
                <a:off x="2082600" y="4235040"/>
                <a:ext cx="519120" cy="2286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Text Box 52"/>
            <p:cNvSpPr/>
            <p:nvPr/>
          </p:nvSpPr>
          <p:spPr>
            <a:xfrm>
              <a:off x="25560" y="4006800"/>
              <a:ext cx="138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Dominant alle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53"/>
            <p:cNvSpPr/>
            <p:nvPr/>
          </p:nvSpPr>
          <p:spPr>
            <a:xfrm flipH="1" flipV="1">
              <a:off x="1015560" y="4311360"/>
              <a:ext cx="51876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54"/>
          <p:cNvGrpSpPr/>
          <p:nvPr/>
        </p:nvGrpSpPr>
        <p:grpSpPr>
          <a:xfrm>
            <a:off x="380880" y="152280"/>
            <a:ext cx="2971440" cy="914400"/>
            <a:chOff x="380880" y="152280"/>
            <a:chExt cx="2971440" cy="914400"/>
          </a:xfrm>
        </p:grpSpPr>
        <p:sp>
          <p:nvSpPr>
            <p:cNvPr id="170" name="Oval 55"/>
            <p:cNvSpPr/>
            <p:nvPr/>
          </p:nvSpPr>
          <p:spPr>
            <a:xfrm>
              <a:off x="380880" y="152280"/>
              <a:ext cx="1018800" cy="9144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56"/>
            <p:cNvSpPr/>
            <p:nvPr/>
          </p:nvSpPr>
          <p:spPr>
            <a:xfrm>
              <a:off x="2333520" y="152280"/>
              <a:ext cx="1018800" cy="914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57"/>
            <p:cNvSpPr/>
            <p:nvPr/>
          </p:nvSpPr>
          <p:spPr>
            <a:xfrm>
              <a:off x="1399680" y="304920"/>
              <a:ext cx="849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58"/>
          <p:cNvGrpSpPr/>
          <p:nvPr/>
        </p:nvGrpSpPr>
        <p:grpSpPr>
          <a:xfrm>
            <a:off x="5029200" y="76320"/>
            <a:ext cx="3505320" cy="838080"/>
            <a:chOff x="5029200" y="76320"/>
            <a:chExt cx="3505320" cy="838080"/>
          </a:xfrm>
        </p:grpSpPr>
        <p:sp>
          <p:nvSpPr>
            <p:cNvPr id="174" name="Oval 59"/>
            <p:cNvSpPr/>
            <p:nvPr/>
          </p:nvSpPr>
          <p:spPr>
            <a:xfrm>
              <a:off x="50292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60"/>
            <p:cNvSpPr/>
            <p:nvPr/>
          </p:nvSpPr>
          <p:spPr>
            <a:xfrm>
              <a:off x="75438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61"/>
            <p:cNvSpPr/>
            <p:nvPr/>
          </p:nvSpPr>
          <p:spPr>
            <a:xfrm>
              <a:off x="6400800" y="2286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Freeform 62"/>
          <p:cNvSpPr/>
          <p:nvPr/>
        </p:nvSpPr>
        <p:spPr>
          <a:xfrm>
            <a:off x="2133720" y="533520"/>
            <a:ext cx="2743200" cy="342900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728" h="2160">
                <a:moveTo>
                  <a:pt x="0" y="2160"/>
                </a:moveTo>
                <a:cubicBezTo>
                  <a:pt x="300" y="2084"/>
                  <a:pt x="600" y="2008"/>
                  <a:pt x="768" y="1728"/>
                </a:cubicBezTo>
                <a:cubicBezTo>
                  <a:pt x="936" y="1448"/>
                  <a:pt x="848" y="768"/>
                  <a:pt x="1008" y="480"/>
                </a:cubicBezTo>
                <a:cubicBezTo>
                  <a:pt x="1168" y="192"/>
                  <a:pt x="1448" y="96"/>
                  <a:pt x="1728" y="0"/>
                </a:cubicBezTo>
              </a:path>
            </a:pathLst>
          </a:custGeom>
          <a:noFill/>
          <a:ln w="7632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3"/>
          <p:cNvSpPr/>
          <p:nvPr/>
        </p:nvSpPr>
        <p:spPr>
          <a:xfrm>
            <a:off x="3429000" y="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ea 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4"/>
          <p:cNvSpPr/>
          <p:nvPr/>
        </p:nvSpPr>
        <p:spPr>
          <a:xfrm>
            <a:off x="838080" y="990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5"/>
          <p:cNvSpPr/>
          <p:nvPr/>
        </p:nvSpPr>
        <p:spPr>
          <a:xfrm>
            <a:off x="5562720" y="6858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D3F0-A285-4CAF-A9A0-8051E3DE1C8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3809880" y="152280"/>
            <a:ext cx="5257800" cy="655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76320" y="152280"/>
            <a:ext cx="3581280" cy="655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4"/>
          <p:cNvSpPr/>
          <p:nvPr/>
        </p:nvSpPr>
        <p:spPr>
          <a:xfrm>
            <a:off x="152280" y="2133720"/>
            <a:ext cx="3276720" cy="16761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5"/>
          <p:cNvGrpSpPr/>
          <p:nvPr/>
        </p:nvGrpSpPr>
        <p:grpSpPr>
          <a:xfrm>
            <a:off x="380880" y="3352680"/>
            <a:ext cx="2895480" cy="1983600"/>
            <a:chOff x="380880" y="3352680"/>
            <a:chExt cx="2895480" cy="1983600"/>
          </a:xfrm>
        </p:grpSpPr>
        <p:sp>
          <p:nvSpPr>
            <p:cNvPr id="186" name="Text Box 6"/>
            <p:cNvSpPr/>
            <p:nvPr/>
          </p:nvSpPr>
          <p:spPr>
            <a:xfrm>
              <a:off x="456840" y="434340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Genotyp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7"/>
            <p:cNvSpPr/>
            <p:nvPr/>
          </p:nvSpPr>
          <p:spPr>
            <a:xfrm>
              <a:off x="380880" y="487656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(Genetic make u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8"/>
            <p:cNvSpPr/>
            <p:nvPr/>
          </p:nvSpPr>
          <p:spPr>
            <a:xfrm>
              <a:off x="1676160" y="335268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Oval 9"/>
          <p:cNvSpPr/>
          <p:nvPr/>
        </p:nvSpPr>
        <p:spPr>
          <a:xfrm>
            <a:off x="990720" y="2514600"/>
            <a:ext cx="1600200" cy="838080"/>
          </a:xfrm>
          <a:prstGeom prst="ellipse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10"/>
          <p:cNvGrpSpPr/>
          <p:nvPr/>
        </p:nvGrpSpPr>
        <p:grpSpPr>
          <a:xfrm>
            <a:off x="533520" y="533520"/>
            <a:ext cx="2590560" cy="1828800"/>
            <a:chOff x="533520" y="533520"/>
            <a:chExt cx="2590560" cy="1828800"/>
          </a:xfrm>
        </p:grpSpPr>
        <p:sp>
          <p:nvSpPr>
            <p:cNvPr id="191" name="Text Box 11"/>
            <p:cNvSpPr/>
            <p:nvPr/>
          </p:nvSpPr>
          <p:spPr>
            <a:xfrm>
              <a:off x="533520" y="533520"/>
              <a:ext cx="259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Phenotyp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2"/>
            <p:cNvSpPr/>
            <p:nvPr/>
          </p:nvSpPr>
          <p:spPr>
            <a:xfrm>
              <a:off x="914400" y="990720"/>
              <a:ext cx="198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ff"/>
                  </a:solidFill>
                  <a:latin typeface="Arial"/>
                </a:rPr>
                <a:t>(Colour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3"/>
            <p:cNvSpPr/>
            <p:nvPr/>
          </p:nvSpPr>
          <p:spPr>
            <a:xfrm>
              <a:off x="1752480" y="152424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14"/>
          <p:cNvGrpSpPr/>
          <p:nvPr/>
        </p:nvGrpSpPr>
        <p:grpSpPr>
          <a:xfrm>
            <a:off x="4038480" y="2682720"/>
            <a:ext cx="4648320" cy="762120"/>
            <a:chOff x="4038480" y="2682720"/>
            <a:chExt cx="4648320" cy="762120"/>
          </a:xfrm>
        </p:grpSpPr>
        <p:sp>
          <p:nvSpPr>
            <p:cNvPr id="195" name="Oval 15"/>
            <p:cNvSpPr/>
            <p:nvPr/>
          </p:nvSpPr>
          <p:spPr>
            <a:xfrm>
              <a:off x="4038480" y="2682720"/>
              <a:ext cx="762120" cy="7621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6"/>
            <p:cNvSpPr/>
            <p:nvPr/>
          </p:nvSpPr>
          <p:spPr>
            <a:xfrm>
              <a:off x="7924680" y="2682720"/>
              <a:ext cx="762120" cy="76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7"/>
            <p:cNvSpPr/>
            <p:nvPr/>
          </p:nvSpPr>
          <p:spPr>
            <a:xfrm>
              <a:off x="5029200" y="2712960"/>
              <a:ext cx="281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Homozygou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18"/>
          <p:cNvGrpSpPr/>
          <p:nvPr/>
        </p:nvGrpSpPr>
        <p:grpSpPr>
          <a:xfrm>
            <a:off x="4114800" y="4435560"/>
            <a:ext cx="3962520" cy="838080"/>
            <a:chOff x="4114800" y="4435560"/>
            <a:chExt cx="3962520" cy="838080"/>
          </a:xfrm>
        </p:grpSpPr>
        <p:sp>
          <p:nvSpPr>
            <p:cNvPr id="199" name="Oval 19"/>
            <p:cNvSpPr/>
            <p:nvPr/>
          </p:nvSpPr>
          <p:spPr>
            <a:xfrm>
              <a:off x="4114800" y="4435560"/>
              <a:ext cx="83808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20"/>
            <p:cNvSpPr/>
            <p:nvPr/>
          </p:nvSpPr>
          <p:spPr>
            <a:xfrm>
              <a:off x="5029200" y="4587840"/>
              <a:ext cx="304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Heterozygou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21"/>
          <p:cNvSpPr/>
          <p:nvPr/>
        </p:nvSpPr>
        <p:spPr>
          <a:xfrm>
            <a:off x="4038480" y="34606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organism having a pair of identical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3962520" y="5349960"/>
            <a:ext cx="51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organism having a pair of two different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3"/>
          <p:cNvSpPr/>
          <p:nvPr/>
        </p:nvSpPr>
        <p:spPr>
          <a:xfrm>
            <a:off x="3809880" y="380880"/>
            <a:ext cx="5181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Phenotyp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                                      Is 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 organism’s appearance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طرز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مظهر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4"/>
          <p:cNvSpPr/>
          <p:nvPr/>
        </p:nvSpPr>
        <p:spPr>
          <a:xfrm>
            <a:off x="3886200" y="1371600"/>
            <a:ext cx="48006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Genotyp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                                        Is 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 organism’s genetic  makeup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طرز الـﭽين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7"/>
          <p:cNvSpPr/>
          <p:nvPr/>
        </p:nvSpPr>
        <p:spPr>
          <a:xfrm>
            <a:off x="5867280" y="26478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متماثل الجين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8"/>
          <p:cNvSpPr/>
          <p:nvPr/>
        </p:nvSpPr>
        <p:spPr>
          <a:xfrm>
            <a:off x="5791320" y="44956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متباين الجين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52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flower color in peas, both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ts have the same phenotype (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purp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but different genotypes (homozygous and heterozygou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nly way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e a whi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enotype is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mozyg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ssive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flower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or g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352680" y="1758960"/>
            <a:ext cx="5562720" cy="4794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DB1C-3013-400F-89E7-3DC2781F2B3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5960" y="228240"/>
            <a:ext cx="838188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not possible to predict the genotype of an organism with a dominant pheno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organism must have on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llele, but it could b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mozygou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dominant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eterozygou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est cro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eeding a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zygous recessiv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ominant phenoty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known genoty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determine the identit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unknown alle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rcRect l="4580" t="0" r="3348" b="4466"/>
          <a:stretch/>
        </p:blipFill>
        <p:spPr>
          <a:xfrm>
            <a:off x="4870440" y="1905120"/>
            <a:ext cx="4121280" cy="47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2" name="Text Box 6"/>
          <p:cNvSpPr/>
          <p:nvPr/>
        </p:nvSpPr>
        <p:spPr>
          <a:xfrm>
            <a:off x="228600" y="4676760"/>
            <a:ext cx="434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What is the result of Cross hybridization of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purpl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t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colored flowers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52280" y="1066320"/>
            <a:ext cx="8763120" cy="574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The Law of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Segreg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e law of segregation states that a pair of factors is segregated, or separated, during the formation of gamet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Dominant character (allele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صفة السائد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s fully expressed in the organism’s appearan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Recessive character (allele)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صفة المُتنحي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as no noticeable effect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تأثير غير ملحوظ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n the organism’s appearan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Homozygou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مُتماثل الجينات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 organism with two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identical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alleles for a characte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Heterozygou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مُختلف الجينات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 organism with two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alleles for a characte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Phenotyp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طرز المظهر</a:t>
            </a: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 description of an organism’s traits (feature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مظهر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Genotyp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طرز الجين</a:t>
            </a: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 description of an organism’s genetic makeup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124080" y="2286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"/>
          <p:cNvSpPr/>
          <p:nvPr/>
        </p:nvSpPr>
        <p:spPr>
          <a:xfrm>
            <a:off x="380880" y="9144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"/>
          <p:cNvPicPr/>
          <p:nvPr/>
        </p:nvPicPr>
        <p:blipFill>
          <a:blip r:embed="rId1"/>
          <a:srcRect l="18595" t="8083" r="4047" b="0"/>
          <a:stretch/>
        </p:blipFill>
        <p:spPr>
          <a:xfrm>
            <a:off x="33480" y="22320"/>
            <a:ext cx="833400" cy="914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0FD5-C4BB-44C6-A00F-3C15BC96208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endel brought an experimental and quantitative approach to gen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320" y="1203120"/>
            <a:ext cx="5410080" cy="19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ound 1857, Mendel began breeding garden peas to stud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herita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وراث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Because they are available in many varieties with distinct heritabl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توا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aract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صف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different traits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e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76320" y="3429000"/>
            <a:ext cx="5105160" cy="29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pea plant has mal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ame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nd femal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rp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sexual org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nature, pea plants typicall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f-fertiliz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لقيح ذات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ertilizing ova with their own poll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ever, Mendel could also move polle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حبوب اللقا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one plant to another to cross-pollinat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ُـلق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186520" y="1066680"/>
            <a:ext cx="3957480" cy="5562720"/>
          </a:xfrm>
          <a:prstGeom prst="rect">
            <a:avLst/>
          </a:prstGeom>
          <a:ln w="0">
            <a:noFill/>
          </a:ln>
        </p:spPr>
      </p:pic>
      <p:sp>
        <p:nvSpPr>
          <p:cNvPr id="5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ree Steps of Mendel’s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p84"/>
          <p:cNvPicPr/>
          <p:nvPr/>
        </p:nvPicPr>
        <p:blipFill>
          <a:blip r:embed="rId2"/>
          <a:stretch/>
        </p:blipFill>
        <p:spPr>
          <a:xfrm>
            <a:off x="152280" y="1558800"/>
            <a:ext cx="8610840" cy="4354560"/>
          </a:xfrm>
          <a:prstGeom prst="rect">
            <a:avLst/>
          </a:prstGeom>
          <a:ln w="0">
            <a:noFill/>
          </a:ln>
        </p:spPr>
      </p:pic>
      <p:sp>
        <p:nvSpPr>
          <p:cNvPr id="6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1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6553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del’s Results and 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ff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cessive and Dominant 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el concluded that inherited characteristics are controlled b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cto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occur in pai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his experiments on pea plants, one factor in a pair masked the other. The trait that masked the other was called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rait. The trait that was masked was called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cess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ra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86800" cy="67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 breeding experiment, Mendel woul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ross-pollin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لقيح خلط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ybridiz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َج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two contrast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بايني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rue-breeding pea variet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أنوا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rue-breeding parents are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ntal gene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ir hybrid offspr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سل المُهج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ial gene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el would then allow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ial gener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hybrids to self-pollinate to produce a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was mainly Mendel’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antitative analys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ليل ك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ts that revealed the two fundamental laws of hered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law of segregation.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-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The law of independent assort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4534-C411-4D00-9C7F-7CECB26FCB3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rcRect l="0" t="0" r="11666" b="46683"/>
          <a:stretch/>
        </p:blipFill>
        <p:spPr>
          <a:xfrm>
            <a:off x="5029200" y="1149480"/>
            <a:ext cx="4038480" cy="25891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75960" y="1219320"/>
            <a:ext cx="472428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Mendel expected tha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from a cros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لقي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ween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purple-flow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hite-flow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a plants would have </a:t>
            </a: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pale pur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lower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نفسج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باهت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ead,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لك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all have                                                                   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pur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lowers, just a purple like their par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)- Law of segrega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قانون الإنعزال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wo alle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ﭽـين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character are isolated into separate gam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"/>
          <p:cNvPicPr/>
          <p:nvPr/>
        </p:nvPicPr>
        <p:blipFill>
          <a:blip r:embed="rId2"/>
          <a:srcRect l="0" t="31106" r="7017" b="3357"/>
          <a:stretch/>
        </p:blipFill>
        <p:spPr>
          <a:xfrm>
            <a:off x="5029200" y="3816360"/>
            <a:ext cx="4038480" cy="29653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9"/>
          <p:cNvSpPr/>
          <p:nvPr/>
        </p:nvSpPr>
        <p:spPr>
          <a:xfrm>
            <a:off x="0" y="3505320"/>
            <a:ext cx="5105520" cy="39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ross produced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urple 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white ratio of traits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fspr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 reasoned that the heritable                                                   factor for white flowers was present                                                          in the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lants, but it did not affect                                                    flower co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purple flower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or    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ة سائدة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white flower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or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ة مُتنحية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2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10480" cy="589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el found similar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 : 1 ratio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wo traits among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fspring when he conducted crosses for six other characters, each represented by two different variet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تين مختلفتي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when Mendel crossed two true-breeding varieties, one of which produc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ound seed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ذور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ستدير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 other of which produc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rinkled seed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ذور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جَعد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ll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fspring ha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ou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eeds, but among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ts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75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he seeds were round an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5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ere wrinkled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e second law in the next lect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BA43-9AD9-4067-813F-8CB2B239AE0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685800" y="63360"/>
            <a:ext cx="7772400" cy="6718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52280" y="491760"/>
            <a:ext cx="8686800" cy="299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del developed a hypothe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فتراض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explain these results that consisted of four related id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Alternative version of gen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allel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ـ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ﭽ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نين المتقابل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variations in inherited charac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alleles vary somewhat in                                                             the sequence of nucleotides at                                                                 the specific locu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وض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 ge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257800" y="2211480"/>
            <a:ext cx="3886200" cy="28177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76320" y="3429000"/>
            <a:ext cx="541008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For each character, an organis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inheri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alleles, one fro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each pa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homologous loci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مَوقِعُه على الكروموسو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d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the flower-color example, the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lants inherite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urple-flower alle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one parent an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hite-flower alle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the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8:36:37Z</dcterms:created>
  <dc:creator>User</dc:creator>
  <dc:description/>
  <dc:language>en-US</dc:language>
  <cp:lastModifiedBy>HP</cp:lastModifiedBy>
  <dcterms:modified xsi:type="dcterms:W3CDTF">2014-01-07T17:06:16Z</dcterms:modified>
  <cp:revision>11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9EEFC8C8-4635-4393-94D5-C5A6494BE989</vt:lpwstr>
  </property>
  <property fmtid="{D5CDD505-2E9C-101B-9397-08002B2CF9AE}" pid="3" name="ArticulatePath">
    <vt:lpwstr>Lecture 22</vt:lpwstr>
  </property>
</Properties>
</file>