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FD9-19D1-483C-B9BF-5E4277189B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433B-2DB1-4B78-8A61-8EFE3160E81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C1FB-AA86-4BC4-ABFB-11CA1F653B2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9E16-6466-4748-A2F2-BA6A7A64C65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72A-15DD-444D-B147-D7C0DC7C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C17-463B-4750-AF34-D4D3A8AC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EA1-226D-4776-BAFC-A4AF6254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C8B-BA77-418E-A2BE-C7635D40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DDC-D8D7-4818-B70B-B76AD955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CE1-7D91-49A8-A250-793BE9AE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46E-6869-4F97-BDB1-081C712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985-C4E9-4EB7-9F33-A01C0FE5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AA5-1870-424E-A981-F596FF3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A5D-9119-4E98-A746-4D4918C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49C-5BA4-4A3F-9773-04A7A2E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395-FB29-429E-B56A-895DE3E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F589-5EAD-49E8-B886-3D623F46A1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22E-EDF0-4A5A-BB60-CEA83F6FFC8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2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and the Gene Id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DB76-4725-4301-87D6-4D2EDBBACA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104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105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106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113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14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15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22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8723-49F8-4809-8D5E-C263D5E5D1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35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48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51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54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62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66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70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74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78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79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84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88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3518-5D45-4550-BF07-2C113B4D9C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202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207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211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215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198F-3565-44B1-B55F-4803EDADDB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aw of Segreg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alleles for a heritable character segregate (separate from each other) during gamete formation and end up in different gam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nt alle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lele that is fully expressed in the phenotype of a heterozygo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ssive alle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lele whose phenotypic effect is not observed in a heterozygo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zygou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ing two identical alleles for a given g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zygous: </a:t>
            </a:r>
            <a:r>
              <a:rPr b="0" lang="nl-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w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lleles for a given g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type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servable physical and physiological traits of an organism, which are determined by its genetic make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otyp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enetic makeup, or set of alleles, of an organism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CAB-EEE0-432E-9DCC-8AD0BD251AB6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4114800" y="2246400"/>
            <a:ext cx="45496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292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A: Gregor Mendel’s Discov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used the scientific approach to identify two laws of inheri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’s Experimental, Quantitative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w of Segre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Genetic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AABC-8692-4B6C-94D8-841088B5425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147F-897D-4660-9474-D75830947574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174-6EE8-490E-9FD1-942F98C686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0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DA8-CD27-4C39-93E8-0EF6851FAB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8BCA-72CF-40C1-A16E-E666C06969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4724280" cy="22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Student</cp:lastModifiedBy>
  <dcterms:modified xsi:type="dcterms:W3CDTF">2016-01-24T07:00:33Z</dcterms:modified>
  <cp:revision>1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