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6B08-E60E-405C-A5F7-29EE68642B9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5D12-AA75-479B-96DA-7433350F1E3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BCAD-82EF-4A04-B647-E0CB726FDF3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4A03-2968-46AD-8EBD-03D8FF777AF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6E9-DACA-48AC-B8D8-5137F355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705-5C1D-4E0A-9D8C-3867229C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2C0-79E1-416E-A45B-584D1A93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B9F-0900-4E48-A504-F0E9AAC8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6B91-1441-4232-97E5-396DA245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F3A-5679-461B-B799-8194AB48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A4F-C630-4FDD-89C0-0B9F8268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DDF-983E-47F4-9637-8A08D6E5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850D-1B45-4D1F-B416-2E513E70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1470-99AF-41FB-BC1E-0E484688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4156-3732-4771-86DE-65EE0E0F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D6B-7364-4D95-BEBA-72DEBBEE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590D-FC09-4FFC-90A5-73CBF378C8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2FA4-D5C6-49A7-972C-282952AB021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9760" y="222552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860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25960" y="36306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125960" y="421020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22 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del and the Gene Ide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23000" y="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8662-8D20-4FC8-8D80-BA9480A3FD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7632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104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105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106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113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114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115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122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5960" y="3731760"/>
            <a:ext cx="472428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2295-8B30-4DCB-AEF3-5BA7EAAC81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135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148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151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154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162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166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170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174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178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179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184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188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26B2-4AB5-4C25-8963-AAE00849D4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202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207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211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215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E2A8-F416-4B76-8CC3-534D734F58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8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Law of Segregatio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alleles for a heritable character segregate (separate from each other) during gamete formation and end up in different game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inant alle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llele that is fully expressed in the phenotype of a heterozygo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ssive alle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llele whose phenotypic effect is not observed in a heterozygo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ozygous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ving two identical alleles for a given ge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terozygous: </a:t>
            </a:r>
            <a:r>
              <a:rPr b="0" lang="nl-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two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alleles for a given ge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otype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servable physical and physiological traits of an organism, which are determined by its genetic makeu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otyp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genetic makeup, or set of alleles, of an organism.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5B70-D99B-47A9-B274-AD4297805ACD}" type="slidenum">
              <a:rPr b="0" lang="ar-EG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" descr=""/>
          <p:cNvPicPr/>
          <p:nvPr/>
        </p:nvPicPr>
        <p:blipFill>
          <a:blip r:embed="rId2"/>
          <a:stretch/>
        </p:blipFill>
        <p:spPr>
          <a:xfrm>
            <a:off x="4114800" y="2246400"/>
            <a:ext cx="454968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2924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A: Gregor Mendel’s Discov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del used the scientific approach to identify two laws of inherita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del’s Experimental, Quantitative Appro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w of Segreg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Genetic Vocabu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stcro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B78C-54D7-4D28-B88A-53762C9AD32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0CC6-15ED-48C2-911C-EB3EE69F5CC1}" type="slidenum">
              <a:rPr b="0" lang="ar-SA" sz="10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34E1-8D2C-4BC4-8B14-D165C84963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 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1523880" y="471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0" descr=""/>
          <p:cNvPicPr/>
          <p:nvPr/>
        </p:nvPicPr>
        <p:blipFill>
          <a:blip r:embed="rId2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EC19-4AE3-4C4A-B00B-E6930F2F13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ndel brought an experimental and quantitative approach to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7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Steps of Mendel’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p84"/>
          <p:cNvPicPr/>
          <p:nvPr/>
        </p:nvPicPr>
        <p:blipFill>
          <a:blip r:embed="rId2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8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’s Results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7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that revealed the two fundamental laws of hered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aw of segregation.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 law of independent assort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0413-8680-40A8-8014-676842437C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5960" y="1218960"/>
            <a:ext cx="4724280" cy="22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)- Law of segreg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نون الإنعزال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alle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ﭽـين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aracter are isolated into separate 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48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e second la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Student</cp:lastModifiedBy>
  <dcterms:modified xsi:type="dcterms:W3CDTF">2016-01-24T07:00:33Z</dcterms:modified>
  <cp:revision>1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9EEFC8C8-4635-4393-94D5-C5A6494BE989</vt:lpwstr>
  </property>
  <property fmtid="{D5CDD505-2E9C-101B-9397-08002B2CF9AE}" pid="3" name="ArticulatePath">
    <vt:lpwstr>Lecture 22</vt:lpwstr>
  </property>
</Properties>
</file>