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A830F-961F-484D-AEF5-7BB275767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0BB50-3C09-41F1-B1B8-A02094D7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85470-9852-4185-B85A-0CED50410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BA9A0-8E51-4A66-AB4A-005FAD7CE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67109-6C07-49BE-B4D1-CD5C80956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FCB90-CCEE-4060-A64D-BEE9F945A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0B64-AEC6-4AB9-83F6-E1ADE953D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99526-3260-4A09-8882-7C009F8FD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8A8BA-41B2-4566-A02B-B612A02F0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5036F-3ABE-40EC-A8EF-519BFA79A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0DA64-2668-4754-9A5A-1A2106087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7EE49-0C2C-41EE-BD2B-A84042049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13A98-F1EA-4F46-A9EE-967B8C19D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C2BF4-B096-40BB-8934-7100138E0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E027F-6A0C-4D8F-8676-538240565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13DA4-67B9-41F9-B965-D313E7B4F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D6BFF-1D2A-44E3-A49A-321DD4CF3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683541-BD03-4950-BECC-CDB2FAAF7C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14C61-82AB-43A9-9286-812396616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8B91F-07CF-4637-B455-054750FF3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5D8C8-6879-4DCC-B80C-453905A49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D25D34-6AA1-48DB-90A6-ADDFB46BC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4D2C-8FBC-482A-94D7-6522865D7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B4841-17DE-4536-943D-7F6FA959D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590B2-573B-45C0-91CD-22EC77A56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1A859-C093-4E2A-ABC4-E3442EF19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AC779-C2F8-471E-8742-81C1311E4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822DF-D7D4-4FBF-A8D2-552357AC2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84BFA-B52C-41C7-9A44-B84A394163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86DE8A-864D-4360-9373-97FEC6F163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B8F961-0117-46DC-AF67-09A3B89945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46C49-3E1A-4DC6-A747-D5276EB2F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CCF59-69D7-49C5-B868-7930A956A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0C38-1D04-4545-B9DF-1955CCC1F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D5C49-28A3-4D17-8513-446B53889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D314A-ED03-4E7B-A55B-EB38F7301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C0870-6EE1-4C08-A55F-63E935234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C62D5-3120-48D9-917D-9C4FA089B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1F6D5-C94E-4710-B413-D7E181054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23620-E07B-4432-AC97-6D0ECDC01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7B90B-C1AB-4B40-AABC-E63529426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AFA65F-03DC-41C1-AB07-67B9E510A8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1E3738-E6A5-4652-BD69-16B034179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023D9-CE16-4F92-85EB-4AA74F5F9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7CF20-FCC6-4496-A5D4-7F63118B5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E84D-BAC2-43FA-887A-B54F3F7F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61FBD-F67B-4F0C-8EFD-E0F0FA0E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F3230-6541-4712-9D7E-6B2807AA4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7503-7AB0-4CB5-AB8F-FF7A9C62A1D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C833-E21A-4068-8257-A007E6596B52}"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CAD4-7F7A-4A45-879F-8206A773EEF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299D-34FF-43E8-97EF-F29B8407295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د أشرف مشالي</cp:lastModifiedBy>
  <dcterms:modified xsi:type="dcterms:W3CDTF">2013-09-02T10:27:18Z</dcterms:modified>
  <cp:revision>16</cp:revision>
  <dc:subject/>
  <dc:title>Principals of General Zoology (Zoo-103) </dc:title>
</cp:coreProperties>
</file>