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8A22C-D356-4B3D-B878-92BD1825D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183C3-8434-4BEF-8450-262739AF9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91D8E-25D8-4672-A577-C65C72C9A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9C6CC-D0AC-40D5-A4E0-432EBBA1A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2902D-599E-4FD6-8100-C2D16DADB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07FFC-84F7-453F-AFC8-DB350AD7C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34181-06A2-4273-A75D-93B2D178C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6A05D-035F-4DE9-9F51-3C4E285D7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F4705-2A6F-4D87-A2A3-A96A44BA3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CFC20-FC47-4395-B038-2C8D54D9F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77E1B-049C-4B1B-A350-8531C2D0D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10C5F-A30C-45C8-B80A-78B0DF9A6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8AE40-EAF8-40BE-AB5A-8A8734282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F0E13-3183-4379-8232-E95C3FECB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64FC4-B734-4EEC-8AD4-7D0436B25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03428-C2E0-4B93-AF7F-3F364149D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70B5C-66C6-41B9-AE8C-09EB8BEF0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311F44-58CE-46BA-AF37-EFBDB02B8C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8AFA6-7855-45D0-9D2F-B69B0F4C3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E5AE13-AC40-4C2E-A88C-2EF2BFFDB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741851-77A7-4A20-B849-90B9A1BE11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97D2F-DE1E-440D-BDB3-13C6D153C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7D7F8-3922-4CD4-923B-D35556D56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8C174-BAEF-4648-9E1A-384EAC059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E56CD-5B23-4957-B52B-A2F247AEF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1F63F-4D90-420C-A575-0BB8D471C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DCC62-2F70-4E4C-97AB-A7F4F3812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C05E2-AD4F-408E-89C1-F884FC2EB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CC4E6F-5AE1-465F-B72D-D3521EF57B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4DE7B5-8DE2-4AC3-BE93-1C9A8ED7E4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CD7379-7F8B-4F3E-9781-DC712707D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B74243-E4C8-475E-9568-F7734D3ED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0AB41F-FFF4-404D-90A9-1C9AF14E49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27376-70E4-4B6A-BF3A-F30DCB678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A54458-BC58-4ABF-ABDD-E1E5776BF4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9D3BC3-D6DD-4A52-86F7-5054D58DF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1A1F6-D6A0-460B-95F0-0FA777A821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509F4-21AE-4EB4-A70D-1B44AEF7C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22BDA-D15A-4871-A9C9-1B0296B70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3585B-798A-4B6D-931C-D5A949F41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668CF0-2222-41A0-9BE3-6EA54C203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8F6A7D-F978-4B07-B554-E2C8A9F97D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F0E0AA-9EB6-4E3E-876D-D3F86C7C12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E18FB-3DE1-4B55-A33A-4B9730E0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3CADB-A3E6-4F96-8970-87DAA8F00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685A-7EEA-4D5E-9FB4-89498CB79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8D81-C2EC-4E79-8FC8-0BC4FD2AA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6EF29-7806-4CB2-A7FE-FB99944F4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9E8C-BE45-4107-808A-405B00C92BC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D201-8B84-45EA-81FA-97873AF0CFAD}"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58F8-0E8C-4615-A749-F94641C4A9C4}"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89CD-D29E-42F1-819F-15D3AC2C3ED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د أشرف مشالي</cp:lastModifiedBy>
  <dcterms:modified xsi:type="dcterms:W3CDTF">2013-09-02T10:27:18Z</dcterms:modified>
  <cp:revision>16</cp:revision>
  <dc:subject/>
  <dc:title>Principals of General Zoology (Zoo-103) </dc:title>
</cp:coreProperties>
</file>