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9BF-B977-4095-A2B8-1FA98862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468-DCC0-4238-A1C8-5D433245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E9E-FDBC-4D62-A3F3-A53D6FB5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F4E-D3CC-4E9E-8FCB-CEF82552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B756-7BB9-440C-A66A-B6B68D30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9C56-C6D8-4315-A31F-7BB76F34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83D6-1D77-4BBC-A0F1-3B41E67A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2AC2-0817-47D0-8FCD-2455D1E3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68DF-16C6-4935-9E42-CA03F262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7001-5DB2-40F9-87A4-D2844BA6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6720-A1FD-40D6-9109-D96A6FE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7B9-D3E0-4C0F-80AB-219E9296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53DF-BAFF-4026-81CF-62F266A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CEBB-2220-4F98-8FE7-DB79A7E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6E82-484D-4718-B5FE-D3E2BC45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C29D-06BF-4201-8AC0-9EDBDD9A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F887-3DD1-4AED-85FC-3177380B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2A6A-EB55-497B-857C-CBEAD98B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E865-DF9A-4BF4-A429-C181F370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2BAC-6538-4FD4-BCAC-727E2685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4005-0CDD-47DF-A4F3-A7B6C594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DA3D-3EED-4322-AE91-0803CECE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EB8-0B21-4C17-958A-B8C6B1DD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04AC-B8C2-4BF2-A419-00B8BFA5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10C1-5D7A-4EA1-815B-AF435503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643F-27EE-4431-B595-AA76F412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0D87-CD7F-4DE9-852B-94DD4AB0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D257-9519-4665-AB22-8AA5965E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924F-3862-472F-8525-010B4CFF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30F97-AAD6-4FEA-BFA7-0B90FEE3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A5CA-477F-4AF2-934C-38402367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9AE1-7CC8-444D-928C-109A2EC7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5F68-A99D-497C-A31B-74FD83EB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5D3-A511-4155-8497-44C1C9FA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1EB9-90AC-4036-99FE-12BF7003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5F75E-061A-44D2-9FB9-A09E5C44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2D54-82AE-4A7B-88DD-ED35A308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8CCB7-D4FB-4C53-A188-DB679D35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A9DF-3F16-4D84-854C-3F828CA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FF57-3FB1-42FC-8E59-76EE3C4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D1D2-69BD-4B69-B63F-850FAEAB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A710-A52C-4023-BEDB-241F859E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D1B0-A73E-41CA-9E90-BEEAD869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C4E-EE0F-45D1-8414-3B60E8F5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1EE-CCFB-4D75-BBDB-51827AA8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F05-A3C3-44A3-944C-B24FD058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084-D42D-4418-A752-2FAF0E2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891-1156-46E8-BF09-939D67D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FFC6-6116-4BC0-A365-A635AADB4EC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49B9-E473-471F-A396-759146B00FE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7DF4-724A-467D-AEAA-3D8F731F27B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7570-023E-4B6D-A9E3-88E837C191D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utrient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hydrates" TargetMode="External"/><Relationship Id="rId2" Type="http://schemas.openxmlformats.org/officeDocument/2006/relationships/hyperlink" Target="http://en.wikipedia.org/wiki/Fat" TargetMode="External"/><Relationship Id="rId3" Type="http://schemas.openxmlformats.org/officeDocument/2006/relationships/hyperlink" Target="http://en.wikipedia.org/wiki/Fiber" TargetMode="External"/><Relationship Id="rId4" Type="http://schemas.openxmlformats.org/officeDocument/2006/relationships/hyperlink" Target="http://en.wikipedia.org/wiki/Dietary_minerals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7640" y="1412640"/>
            <a:ext cx="8807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utrition is a process of intake of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nutrien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مواد الغذ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like carbohydrates, fats,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s,vitamins, minerals and water) by the organ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982880" y="304920"/>
            <a:ext cx="5110200" cy="94716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: Nutrition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تغذ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32212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onstantia"/>
              </a:rPr>
              <a:t>Nutrients: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Majalla UI"/>
              </a:rPr>
              <a:t>المواد الغذائية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052280"/>
            <a:ext cx="88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4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seven major classes of nutrients: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carbohydra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fa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fib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tein, vitamin, and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classified into two catego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)- Macronutrient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غذيات كب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needed in relatively large  amounts, such as carbohydrates, fats, fibe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teins, and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I)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M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icronutrient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غذيات صغ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needed in smaller quantities, such as mineral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أملاح المعدن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vitamins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8000" y="33336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acronutrients (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ut n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ibers and water) provi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tructural materia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واد بن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lipids from which cell membrane is bui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of the structural materi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an be used to generate energy internally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لتوليد الطاقة داخلي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measured 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kilocalor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كيلو كالوري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often called "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lor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"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- Carbohydrates and proteins provid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4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kc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energy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per gr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- while fats provid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9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kcal per gr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amins, minerals, and water do not provide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bers (i.e., non-digestible materials such as cellulose), seems to be required, for both mechanical and biochemical reas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640" y="980640"/>
            <a:ext cx="8785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Bea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ir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at primarily seeds, nuts, and fruit, using their beaks to open even the toughest seed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بذور الجاف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ongu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skeletal muscle on the floor of the mouth that manipulates food for chewing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مض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nd swallowing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بل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 The underside of the tongue is covered with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mooth mucous membran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غشاء مخاط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Tee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(singular, tooth) are small whitish structures found in the jaws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فكو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of many vertebrates that are used to chew foo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ضغ الطعا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eeth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arnivore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re shaped to kill and tear mea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تمزق اللح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Teeth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erbivore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re made for grinding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طح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lant pa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7450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</a:rPr>
              <a:t>Digestive systems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7640" y="333000"/>
            <a:ext cx="8785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Cr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thin-walled expanded por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جزء واسع رفيع الجدا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the alimentary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a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ed for the storage of food prior to diges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خزين الطعام قبل الهض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Gizza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specialized stomach with thick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سمي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muscular walls used for grinding up food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طحن الطعا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6-04-24T05:53:47Z</dcterms:modified>
  <cp:revision>76</cp:revision>
  <dc:subject/>
  <dc:title>Principals of General Zoology (Zoo-103)</dc:title>
</cp:coreProperties>
</file>