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692-FBEA-4782-88C9-C586DB1E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BB7-688E-4590-803B-B565792B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FD5-69D7-4F9E-9B63-3D0CFF01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CBA-DA11-4A22-88B5-3E7110DF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1C64-31EB-4D0C-8D45-ED9B5319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621B-C387-4A11-B893-C85470D6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5CBB-02E0-48A3-9065-741776FC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A346-F394-444C-87C8-55E3820B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5ED3-4B55-47D3-8715-03BC3EF8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ADD2-A65D-4780-A9D2-7B699A78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26BA-3086-4866-BD4E-CDE04DF4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E64A-936B-4CC7-8C92-A60BE8EC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E320-96BA-4CF8-B3D7-ACC3E17D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2A62-2EA6-40BF-A502-E54A6D83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024D-B94F-4C98-98D9-6BFD815E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4085-1400-4EB4-B34F-328F86DF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0DA3-B943-48D9-9AEE-8D211952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E4BD-75AD-412D-94F0-4335F869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998F7-0604-4A8E-8896-2D16DCAE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79AC5-BB1F-4E90-87B5-0FBBCE2E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E9402-1789-4E76-B5CC-E404287E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EDE20-63A8-46D2-ACBF-ADC311A9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BDE-9EC8-4B74-851E-3D6CE99A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C6A23-83EF-4679-80BB-71F4BB1C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D2552-8153-4565-BF59-196DAF6B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4714C-21E0-49F2-8A98-5601A7AB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D6571-2AEC-436F-B56D-9362A23A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F28D5-D242-4377-A591-58EA44D4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E8E3-F393-41E8-8080-A6F89686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32E2-2BD9-48A1-A70C-F8162DE0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99F3E-BB60-4834-8933-BBBC53C2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4BBD7-1784-4DA3-9AFF-421D3F79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2D594-CA7F-41B6-AE7E-210A817A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4AF4-D9E3-4A7D-8D91-FF1E5AE4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13296-26BD-4B8B-8C6C-02BD9044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9161B-DD92-4CEE-8D4E-F0F0B692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2AB81-FD36-4D4C-82EE-BFFCF4F6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6C170-30DE-4DB0-943C-106C18DE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26FDE-DDE9-4546-AD82-938A59AA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78890-D9E9-4C50-8B6E-7CF55F72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05890-CB58-400D-A441-2AE2C6E5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231A2-5E9C-4DBB-B19E-0B6841E0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99885-D2D3-4A9A-AF41-DFF1C4FD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2A1-CA12-4BBF-A48E-22D9D608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D57-C718-4EA9-AA83-3784B7EB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583-51B5-4E02-B2A1-AA3D47A1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AA4-4453-4213-86E8-791A1E69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600-092A-4C7D-B3B6-C7EC0148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9B5D-6190-4A7B-9405-08415D4450C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015B-69D9-4DE1-B462-5AB6088D05E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2038-6AD1-46C1-BDE2-0F2EDC0837B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B7DB-6981-4843-B5EE-08EDAE27747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utrient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rbohydrates" TargetMode="External"/><Relationship Id="rId2" Type="http://schemas.openxmlformats.org/officeDocument/2006/relationships/hyperlink" Target="http://en.wikipedia.org/wiki/Fat" TargetMode="External"/><Relationship Id="rId3" Type="http://schemas.openxmlformats.org/officeDocument/2006/relationships/hyperlink" Target="http://en.wikipedia.org/wiki/Fiber" TargetMode="External"/><Relationship Id="rId4" Type="http://schemas.openxmlformats.org/officeDocument/2006/relationships/hyperlink" Target="http://en.wikipedia.org/wiki/Dietary_minerals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07640" y="1412640"/>
            <a:ext cx="8807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utrition is a process of intake of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nutrien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مواد الغذائ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like carbohydrates, fats,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ins,vitamins, minerals and water) by the organis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982880" y="304920"/>
            <a:ext cx="5110200" cy="94716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2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: Nutrition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  <a:cs typeface="Majalla UI"/>
              </a:rPr>
              <a:t>التغذ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32212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Constantia"/>
              </a:rPr>
              <a:t>Nutrients: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200" spc="-1" strike="noStrike">
                <a:solidFill>
                  <a:srgbClr val="ff0000"/>
                </a:solidFill>
                <a:latin typeface="Calibri"/>
                <a:cs typeface="Majalla UI"/>
              </a:rPr>
              <a:t>المواد الغذائية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8000" y="1052280"/>
            <a:ext cx="8856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4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seven major classes of nutrients: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carbohydrat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fa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fib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minera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protein, vitamin, and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4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classified into two categori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)- Macronutrient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مغذيات كبير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needed in relatively large  amounts, such as carbohydrates, fats, fiber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proteins, and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II)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M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icronutrients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مغذيات صغير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needed in smaller quantities, such as mineral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أملاح المعدن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vitamins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08000" y="33336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macronutrients (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but no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ibers and water) provid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tructural material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مواد بنائ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xample, lipids from which cell membrane is buil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of the structural materia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an be used to generate energy internally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لتوليد الطاقة داخليا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measured in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kilocalori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كيلو كالوري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often called "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alori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"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- Carbohydrates and proteins provid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4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 kc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energy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per gra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I- while fats provid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9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 kcal per gra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tamins, minerals, and water do not provide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bers (i.e., non-digestible materials such as cellulose), seems to be required, for both mechanical and biochemical reas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07640" y="980640"/>
            <a:ext cx="8785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-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Beak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bir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at primarily seeds, nuts, and fruit, using their beaks to open even the toughest seed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بذور الجاف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Tongu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is a skeletal muscle on the floor of the mouth that manipulates food for chewing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مضغ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and swallowing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بلع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. The underside of the tongue is covered with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mooth mucous membran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غشاء مخاط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-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Tee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(singular, tooth) are small whitish structures found in the jaws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فكوك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of many vertebrates that are used to chew food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مضغ الطعام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eeth of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carnivores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re shaped to kill and tear meat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تمزق اللحم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- Teeth of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herbivores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re made for grinding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طحن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plant par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37450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</a:rPr>
              <a:t>Digestive systems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07640" y="333000"/>
            <a:ext cx="8785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tabLst>
                <a:tab algn="l" pos="0"/>
                <a:tab algn="l" pos="890640"/>
                <a:tab algn="l" pos="124920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4-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Cro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is a thin-walled expanded por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جزء واسع رفيع الجدار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the alimentary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can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used for the storage of food prior to diges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تخزين الطعام قبل الهضم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tabLst>
                <a:tab algn="l" pos="0"/>
                <a:tab algn="l" pos="890640"/>
                <a:tab algn="l" pos="124920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5-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Gizza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is a specialized stomach with thick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سميك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muscular walls used for grinding up food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طحن الطعا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tabLst>
                <a:tab algn="l" pos="0"/>
                <a:tab algn="l" pos="890640"/>
                <a:tab algn="l" pos="124920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User</cp:lastModifiedBy>
  <dcterms:modified xsi:type="dcterms:W3CDTF">2016-04-24T05:53:47Z</dcterms:modified>
  <cp:revision>76</cp:revision>
  <dc:subject/>
  <dc:title>Principals of General Zoology (Zoo-103)</dc:title>
</cp:coreProperties>
</file>