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8ECD4-3AB2-4531-A9F0-4D36914CF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B5F36-4268-48EC-878C-BFB8A1F8F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2970D-3495-4073-BA03-529690E6E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AD700-CFF8-413B-B25D-A9F17E7D9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29461-924C-490B-A24A-1018CEEA0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C09F6-9396-457D-9BD4-62E058BDC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3DF25-C00B-40DC-9818-A6E69862B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7B6C9-3DDC-4FE2-9278-1047D82C4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E15D1-70D6-49CE-8A61-98FB99CD4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8D47F-D6FA-4073-AB11-4A8B1EA5C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30652-AB34-494A-8C8A-EE3E5138B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6627A-3EBA-4341-9655-2533F015D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F5960-8F89-4D90-B2C7-EAADF53FA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90931-1CA4-4507-B73E-0CE8538DE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C749A-CD85-48E5-9424-C96FD35CF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82CB2-F923-46F3-A76C-3F4AFC5E1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712BC-D238-418E-9D5A-1D84025A8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4BED1E-9029-4AB2-9F6A-B871DC718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38536B-A146-45F6-BD3F-D2288AF40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9DC993-DAE7-4B30-A3E1-90BFF13F0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17A937-7C63-486C-A104-43098EAD9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2BD1D4-071E-4BAB-AC02-1EF97BC97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FFF0C-C9D4-4F5E-B055-480F666C7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95D161-E157-4D69-A942-93E308437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9717EE-55E4-4493-9698-37C71A9A6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F353DA-38A1-43C5-991C-6DD6F067C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F1CA79-C418-40F4-A088-27E7865FA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6CD620-AA6B-45DE-85DB-D2C413F3F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B2A04B-360F-458C-9C38-135B3571D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1089D7-D670-42BE-998F-84052F8B6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504DF7-CAF5-4644-ACFD-F78197249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F340F4-BC89-4B0A-A20F-AA0086B93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D954E6-20F6-4F25-81BD-DEFC3626A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7F421-A6A2-4051-A9C3-41D2EA626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F79A89-E6C7-4A19-826D-881D8FC4D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767C26-DA46-4F4B-9184-9D660FE79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32214B-8D90-4577-BC99-08CD35CE1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1567AD-2182-4612-8C0B-98587F302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261820-A2B1-4990-A305-C1C6BCD7A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49D8AA-29D8-4FBB-95FA-5F93800E7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5CA073-741A-44D8-97CC-3F544F6B9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68242B-82D2-4CAB-BFEE-0CE4FE42B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586244-CD7D-4A96-B4F8-003A2C872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BE38A-A016-4D13-9F16-338C4DE84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468B6-891F-480C-BE99-11FC6AA44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8F651-1043-417B-A4A6-79E19FBE6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879C0-9051-4EC8-8695-581A85097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581F4-6018-4814-8BDD-5C645A18F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A9C3F-8206-406F-B81E-F18B90E8E73F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B6607-CD23-4611-B861-BD4D84191F95}" type="slidenum">
              <a:rPr b="0" lang="ar-SA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C1019-D468-4162-BA47-F057AD84B109}" type="slidenum">
              <a:rPr b="0" lang="ar-SA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4BC56-9EE7-43DF-B316-0DEFF41AEB29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en.wikipedia.org/wiki/Nutrients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en.wikipedia.org/wiki/Carbohydrates" TargetMode="External"/><Relationship Id="rId2" Type="http://schemas.openxmlformats.org/officeDocument/2006/relationships/hyperlink" Target="http://en.wikipedia.org/wiki/Fat" TargetMode="External"/><Relationship Id="rId3" Type="http://schemas.openxmlformats.org/officeDocument/2006/relationships/hyperlink" Target="http://en.wikipedia.org/wiki/Fiber" TargetMode="External"/><Relationship Id="rId4" Type="http://schemas.openxmlformats.org/officeDocument/2006/relationships/hyperlink" Target="http://en.wikipedia.org/wiki/Dietary_minerals" TargetMode="External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107640" y="1412640"/>
            <a:ext cx="88074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50000"/>
              </a:lnSpc>
              <a:buClr>
                <a:srgbClr val="00b05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Nutrition is a process of intake of </a:t>
            </a:r>
            <a:r>
              <a:rPr b="0" lang="en-US" sz="2400" spc="-1" strike="noStrike" u="sng">
                <a:solidFill>
                  <a:srgbClr val="e2d700"/>
                </a:solidFill>
                <a:uFillTx/>
                <a:latin typeface="Constantia"/>
                <a:hlinkClick r:id="rId1"/>
              </a:rPr>
              <a:t>nutrients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</a:rPr>
              <a:t>المواد الغذائية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(like carbohydrates, fats,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roteins,vitamins, minerals and water) by the organism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Rectangle 4"/>
          <p:cNvSpPr/>
          <p:nvPr/>
        </p:nvSpPr>
        <p:spPr>
          <a:xfrm>
            <a:off x="1982880" y="304920"/>
            <a:ext cx="5110200" cy="947160"/>
          </a:xfrm>
          <a:prstGeom prst="rect">
            <a:avLst/>
          </a:prstGeom>
          <a:solidFill>
            <a:srgbClr val="b3ea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nstantia"/>
              </a:rPr>
              <a:t>Lecture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22</a:t>
            </a:r>
            <a:r>
              <a:rPr b="1" lang="en-US" sz="3200" spc="-1" strike="noStrike">
                <a:solidFill>
                  <a:srgbClr val="ff0000"/>
                </a:solidFill>
                <a:latin typeface="Constantia"/>
              </a:rPr>
              <a:t>: Nutrition </a:t>
            </a:r>
            <a:r>
              <a:rPr b="1" lang="ar-SA" sz="2400" spc="-1" strike="noStrike">
                <a:solidFill>
                  <a:srgbClr val="ff0000"/>
                </a:solidFill>
                <a:latin typeface="Calibri"/>
                <a:cs typeface="Majalla UI"/>
              </a:rPr>
              <a:t>التغذية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5"/>
          <p:cNvSpPr/>
          <p:nvPr/>
        </p:nvSpPr>
        <p:spPr>
          <a:xfrm>
            <a:off x="152280" y="114300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79280" y="404280"/>
            <a:ext cx="32212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ff"/>
                </a:solidFill>
                <a:latin typeface="Constantia"/>
              </a:rPr>
              <a:t>Nutrients:</a:t>
            </a: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lang="ar-SA" sz="2200" spc="-1" strike="noStrike">
                <a:solidFill>
                  <a:srgbClr val="ff0000"/>
                </a:solidFill>
                <a:latin typeface="Calibri"/>
                <a:cs typeface="Majalla UI"/>
              </a:rPr>
              <a:t>المواد الغذائية</a:t>
            </a:r>
            <a:endParaRPr b="0" lang="en-US" sz="2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108000" y="1052280"/>
            <a:ext cx="885672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 algn="just">
              <a:lnSpc>
                <a:spcPct val="140000"/>
              </a:lnSpc>
              <a:buClr>
                <a:srgbClr val="00b05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re are seven major classes of nutrients: </a:t>
            </a:r>
            <a:r>
              <a:rPr b="0" lang="en-US" sz="2400" spc="-1" strike="noStrike" u="sng">
                <a:solidFill>
                  <a:srgbClr val="e2d700"/>
                </a:solidFill>
                <a:uFillTx/>
                <a:latin typeface="Constantia"/>
                <a:hlinkClick r:id="rId1"/>
              </a:rPr>
              <a:t>carbohydrates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0" lang="en-US" sz="2400" spc="-1" strike="noStrike" u="sng">
                <a:solidFill>
                  <a:srgbClr val="e2d700"/>
                </a:solidFill>
                <a:uFillTx/>
                <a:latin typeface="Constantia"/>
                <a:hlinkClick r:id="rId2"/>
              </a:rPr>
              <a:t>fats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0" lang="en-US" sz="2400" spc="-1" strike="noStrike" u="sng">
                <a:solidFill>
                  <a:srgbClr val="e2d700"/>
                </a:solidFill>
                <a:uFillTx/>
                <a:latin typeface="Constantia"/>
                <a:hlinkClick r:id="rId3"/>
              </a:rPr>
              <a:t>fiber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0" lang="en-US" sz="2400" spc="-1" strike="noStrike" u="sng">
                <a:solidFill>
                  <a:srgbClr val="e2d700"/>
                </a:solidFill>
                <a:uFillTx/>
                <a:latin typeface="Constantia"/>
                <a:hlinkClick r:id="rId4"/>
              </a:rPr>
              <a:t>minerals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, protein, vitamin, and wate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140000"/>
              </a:lnSpc>
              <a:buClr>
                <a:srgbClr val="00b05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y are classified into two categories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)- Macronutrients 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</a:rPr>
              <a:t>مغذيات كبيرة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: needed in relatively large  amounts, such as carbohydrates, fats, fiber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, proteins, and wate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nstantia"/>
              </a:rPr>
              <a:t>II)-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400" spc="-1" strike="noStrike" u="sng">
                <a:solidFill>
                  <a:srgbClr val="e2d700"/>
                </a:solidFill>
                <a:uFillTx/>
                <a:latin typeface="Constantia"/>
              </a:rPr>
              <a:t>M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onstantia"/>
              </a:rPr>
              <a:t>icronutrients</a:t>
            </a:r>
            <a:r>
              <a:rPr b="0" lang="en-US" sz="2400" spc="-1" strike="noStrike">
                <a:solidFill>
                  <a:srgbClr val="0000ff"/>
                </a:solidFill>
                <a:latin typeface="Constantia"/>
              </a:rPr>
              <a:t> 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</a:rPr>
              <a:t>مغذيات صغيرة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: needed in smaller quantities, such as minerals 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</a:rPr>
              <a:t>الأملاح المعدنية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nd vitamins 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108000" y="333360"/>
            <a:ext cx="885672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30000"/>
              </a:lnSpc>
              <a:buClr>
                <a:srgbClr val="00b05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 macronutrients (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but not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fibers and water) provide </a:t>
            </a:r>
            <a:r>
              <a:rPr b="0" lang="en-US" sz="2400" spc="-1" strike="noStrike">
                <a:solidFill>
                  <a:srgbClr val="0000ff"/>
                </a:solidFill>
                <a:latin typeface="Constantia"/>
              </a:rPr>
              <a:t>structural material 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</a:rPr>
              <a:t>مواد بنائية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for example, lipids from which cell membrane is built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30000"/>
              </a:lnSpc>
              <a:buClr>
                <a:srgbClr val="00b05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ome of the structural material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can be used to generate energy internally 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</a:rPr>
              <a:t>لتوليد الطاقة داخليا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, and measured in </a:t>
            </a:r>
            <a:r>
              <a:rPr b="0" lang="en-US" sz="2400" spc="-1" strike="noStrike">
                <a:solidFill>
                  <a:srgbClr val="0000ff"/>
                </a:solidFill>
                <a:latin typeface="Constantia"/>
              </a:rPr>
              <a:t>kilocalories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</a:rPr>
              <a:t>كيلو كالوري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(often called "</a:t>
            </a:r>
            <a:r>
              <a:rPr b="0" lang="en-US" sz="2400" spc="-1" strike="noStrike">
                <a:solidFill>
                  <a:srgbClr val="0000ff"/>
                </a:solidFill>
                <a:latin typeface="Constantia"/>
              </a:rPr>
              <a:t>Calories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")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- Carbohydrates and proteins provide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4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onstantia"/>
              </a:rPr>
              <a:t> kcal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of energy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onstantia"/>
              </a:rPr>
              <a:t>per gram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I- while fats provide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9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onstantia"/>
              </a:rPr>
              <a:t> kcal per gram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30000"/>
              </a:lnSpc>
              <a:buClr>
                <a:srgbClr val="00b05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Vitamins, minerals, and water do not provide energy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30000"/>
              </a:lnSpc>
              <a:buClr>
                <a:srgbClr val="00b05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Fibers (i.e., non-digestible materials such as cellulose), seems to be required, for both mechanical and biochemical reason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107640" y="980640"/>
            <a:ext cx="878508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1-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 Beaks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: 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birds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eat primarily seeds, nuts, and fruit, using their beaks to open even the toughest seed 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</a:rPr>
              <a:t>البذور الجافة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Tongue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: is a skeletal muscle on the floor of the mouth that manipulates food for chewing (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</a:rPr>
              <a:t>المضغ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) and swallowing (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</a:rPr>
              <a:t>البلع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). The underside of the tongue is covered with a </a:t>
            </a:r>
            <a:r>
              <a:rPr b="0" lang="en-US" sz="2400" spc="-1" strike="noStrike">
                <a:solidFill>
                  <a:srgbClr val="0000ff"/>
                </a:solidFill>
                <a:latin typeface="Constantia"/>
              </a:rPr>
              <a:t>smooth mucous membrane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</a:rPr>
              <a:t>غشاء مخاطي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3-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 Teeth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: (singular, tooth) are small whitish structures found in the jaws (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</a:rPr>
              <a:t>الفكوك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) of many vertebrates that are used to chew food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</a:rPr>
              <a:t>مضغ الطعام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- </a:t>
            </a:r>
            <a:r>
              <a:rPr b="0" lang="en-US" sz="2400" spc="-1" strike="noStrike">
                <a:solidFill>
                  <a:srgbClr val="0000ff"/>
                </a:solidFill>
                <a:latin typeface="Constantia"/>
              </a:rPr>
              <a:t>Teeth of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onstantia"/>
              </a:rPr>
              <a:t>carnivores</a:t>
            </a:r>
            <a:r>
              <a:rPr b="0" lang="en-US" sz="2400" spc="-1" strike="noStrike">
                <a:solidFill>
                  <a:srgbClr val="0000ff"/>
                </a:solidFill>
                <a:latin typeface="Constantia"/>
              </a:rPr>
              <a:t> </a:t>
            </a:r>
            <a:r>
              <a:rPr b="0" lang="ar-SA" sz="2400" spc="-1" strike="noStrike">
                <a:solidFill>
                  <a:srgbClr val="0000ff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Constantia"/>
              </a:rPr>
              <a:t>are shaped to kill and tear meat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</a:rPr>
              <a:t>تمزق اللحم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</a:rPr>
              <a:t>  </a:t>
            </a:r>
            <a:r>
              <a:rPr b="0" lang="en-US" sz="2400" spc="-1" strike="noStrike">
                <a:solidFill>
                  <a:srgbClr val="0000ff"/>
                </a:solidFill>
                <a:latin typeface="Constanti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nstantia"/>
              </a:rPr>
              <a:t>- Teeth of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onstantia"/>
              </a:rPr>
              <a:t>herbivores</a:t>
            </a:r>
            <a:r>
              <a:rPr b="0" lang="en-US" sz="2400" spc="-1" strike="noStrike">
                <a:solidFill>
                  <a:srgbClr val="0000ff"/>
                </a:solidFill>
                <a:latin typeface="Constantia"/>
              </a:rPr>
              <a:t> </a:t>
            </a:r>
            <a:r>
              <a:rPr b="0" lang="ar-SA" sz="2400" spc="-1" strike="noStrike">
                <a:solidFill>
                  <a:srgbClr val="0000ff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Constantia"/>
              </a:rPr>
              <a:t>are made for grinding </a:t>
            </a:r>
            <a:r>
              <a:rPr b="0" lang="ar-SA" sz="2400" spc="-1" strike="noStrike">
                <a:solidFill>
                  <a:srgbClr val="0000ff"/>
                </a:solidFill>
                <a:latin typeface="Constantia"/>
              </a:rPr>
              <a:t> 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</a:rPr>
              <a:t>طحن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Constantia"/>
              </a:rPr>
              <a:t>plant part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8920" y="259920"/>
            <a:ext cx="37450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Constantia"/>
              </a:rPr>
              <a:t>Digestive systems</a:t>
            </a:r>
            <a:r>
              <a:rPr b="1" lang="en-US" sz="3200" spc="-1" strike="noStrike">
                <a:solidFill>
                  <a:srgbClr val="0000ff"/>
                </a:solidFill>
                <a:latin typeface="Constantia"/>
              </a:rPr>
              <a:t>: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107640" y="333000"/>
            <a:ext cx="878508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30000"/>
              </a:lnSpc>
              <a:tabLst>
                <a:tab algn="l" pos="0"/>
                <a:tab algn="l" pos="890640"/>
                <a:tab algn="l" pos="1249200"/>
                <a:tab algn="l" pos="1434960"/>
                <a:tab algn="l" pos="2870280"/>
                <a:tab algn="l" pos="4305240"/>
                <a:tab algn="l" pos="5740560"/>
                <a:tab algn="l" pos="7175520"/>
                <a:tab algn="l" pos="8610480"/>
                <a:tab algn="l" pos="100458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4-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 Crop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: is a thin-walled expanded portion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</a:rPr>
              <a:t>جزء واسع رفيع الجدار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of the alimentary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 canal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used for the storage of food prior to digestion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</a:rPr>
              <a:t>تخزين الطعام قبل الهضم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30000"/>
              </a:lnSpc>
              <a:tabLst>
                <a:tab algn="l" pos="0"/>
                <a:tab algn="l" pos="890640"/>
                <a:tab algn="l" pos="1249200"/>
                <a:tab algn="l" pos="1434960"/>
                <a:tab algn="l" pos="2870280"/>
                <a:tab algn="l" pos="4305240"/>
                <a:tab algn="l" pos="5740560"/>
                <a:tab algn="l" pos="7175520"/>
                <a:tab algn="l" pos="8610480"/>
                <a:tab algn="l" pos="100458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5-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 Gizzard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: is a specialized stomach with thick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</a:rPr>
              <a:t>سميك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, muscular walls used for grinding up food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</a:rPr>
              <a:t>طحن الطعام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30000"/>
              </a:lnSpc>
              <a:tabLst>
                <a:tab algn="l" pos="0"/>
                <a:tab algn="l" pos="890640"/>
                <a:tab algn="l" pos="1249200"/>
                <a:tab algn="l" pos="1434960"/>
                <a:tab algn="l" pos="2870280"/>
                <a:tab algn="l" pos="4305240"/>
                <a:tab algn="l" pos="5740560"/>
                <a:tab algn="l" pos="7175520"/>
                <a:tab algn="l" pos="8610480"/>
                <a:tab algn="l" pos="10045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7T18:35:35Z</dcterms:created>
  <dc:creator>aalii</dc:creator>
  <dc:description/>
  <dc:language>en-US</dc:language>
  <cp:lastModifiedBy>User</cp:lastModifiedBy>
  <dcterms:modified xsi:type="dcterms:W3CDTF">2016-04-24T05:53:47Z</dcterms:modified>
  <cp:revision>76</cp:revision>
  <dc:subject/>
  <dc:title>Principals of General Zoology (Zoo-103)</dc:title>
</cp:coreProperties>
</file>