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2838-7EDC-4784-BEAE-9E030EDBE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BD52-2025-44A1-91BE-6F474075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E0B7-10E0-4310-86B9-8EFC41643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785C-1EEC-4DA4-A229-94166DBAE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CEFC-ABC4-4701-9FC0-3521AD309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6F84-DE5F-4DFC-BA6A-446FADBE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1A45-E783-42E6-8B48-D2BED34C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C6CF-D8FC-4AF8-8E89-C61342A0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E9D9-1B81-43FB-AB10-9E649E4F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AFF9-F162-458C-BB36-8B13470A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1BE1-495D-434C-8200-663F4078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0749-4591-48DB-825B-C45ABBDD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04AB-D707-40BD-8ABA-28C59BA7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D2BA-6BEE-4BD4-9FBD-5CF477C8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75A6-655D-409A-B963-BCCF2662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A6FD-35DC-4546-86B9-CD0CDE05C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C3A1-2570-404F-89B3-7709DF241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A3F56-FC3F-4990-8E57-AB8492FAA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2E028-5F85-443D-90FA-61D247E3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13EEB-C0ED-41ED-A1BE-44C7496E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0E4C3-FE4D-4DD0-A505-AF7A3EA9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C3350-DCB9-41E1-A6A0-F9C3C6FA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4801-88A9-422C-9F4B-B4214B77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60517-D684-41EE-A628-7D8131A1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F65EE-44D6-4284-A08D-0433208D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58ECB-07BF-4E5C-8969-B3D03263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EC38F-9725-44BB-941C-7914B71A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7F73B-FE85-41AF-9EF2-B8214A97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3C4A2-A272-4125-93EF-A2CA77423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EC435-313B-447B-89E9-23946E646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785C4-6EC1-4B84-8FD2-E00FD49AF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B4358-F1C6-45B9-B322-64517F85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25509-7E70-4CA4-A4CA-6E57E17E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4A5F-0A13-4D36-A810-3EB790B5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BF47C-CCFC-4AD4-BED5-C8B5EB69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D68CF-A1FA-4AFD-A57A-ACE68636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52882-C6D8-4496-9C93-DDB209DF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08533-4B73-4A72-892D-6A06563C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E13D7-69C4-4064-892C-7EB2FCB5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93433-0CBD-4B1D-8038-D1E2BB21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9B68F-6672-445D-8427-C390618F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E62BC-8125-4F44-969B-C863D63D5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EE066-E0DA-4732-9877-B66BDCC9E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DDFB-ECBC-4ED3-881A-CCC06FF1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BE0A-71E3-4272-AE12-898AB6DE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DAA8-713D-498D-8F90-8468F80C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ED93-4279-4947-B9C2-2C775E61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A73E-42B5-4CFD-85E0-53E10771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272E-6D7C-4AD6-A6D2-1625D98BC0A5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D8AD-D23B-418B-A11A-DD8D864D9864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659D-E9AA-416D-8675-E2AFB080845A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3B46-69C6-4EFA-BA59-D7CD60858AE9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Nutrient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arbohydrates" TargetMode="External"/><Relationship Id="rId2" Type="http://schemas.openxmlformats.org/officeDocument/2006/relationships/hyperlink" Target="http://en.wikipedia.org/wiki/Fat" TargetMode="External"/><Relationship Id="rId3" Type="http://schemas.openxmlformats.org/officeDocument/2006/relationships/hyperlink" Target="http://en.wikipedia.org/wiki/Fiber" TargetMode="External"/><Relationship Id="rId4" Type="http://schemas.openxmlformats.org/officeDocument/2006/relationships/hyperlink" Target="http://en.wikipedia.org/wiki/Dietary_minerals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07640" y="1412640"/>
            <a:ext cx="8807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utrition is a process of intake of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nutrient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المواد الغذائية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like carbohydrates, fats,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teins,vitamins, minerals and water) by the organis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982880" y="304920"/>
            <a:ext cx="5110200" cy="947160"/>
          </a:xfrm>
          <a:prstGeom prst="rect">
            <a:avLst/>
          </a:prstGeom>
          <a:solidFill>
            <a:srgbClr val="b3e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Lectur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22</a:t>
            </a: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: Nutrition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  <a:cs typeface="Majalla UI"/>
              </a:rPr>
              <a:t>التغذية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5"/>
          <p:cNvSpPr/>
          <p:nvPr/>
        </p:nvSpPr>
        <p:spPr>
          <a:xfrm>
            <a:off x="15228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32212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ff"/>
                </a:solidFill>
                <a:latin typeface="Constantia"/>
              </a:rPr>
              <a:t>Nutrients: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2200" spc="-1" strike="noStrike">
                <a:solidFill>
                  <a:srgbClr val="ff0000"/>
                </a:solidFill>
                <a:latin typeface="Calibri"/>
                <a:cs typeface="Majalla UI"/>
              </a:rPr>
              <a:t>المواد الغذائية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08000" y="1052280"/>
            <a:ext cx="8856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4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re are seven major classes of nutrients: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carbohydrat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fat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fibe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mineral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protein, vitamin, and wat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4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are classified into two categori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)- Macronutrient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مغذيات كبير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needed in relatively large  amounts, such as carbohydrates, fats, fiber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proteins, and wat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II)-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</a:rPr>
              <a:t>M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icronutrients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مغذيات صغير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needed in smaller quantities, such as mineral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الأملاح المعدنية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vitamins 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08000" y="333360"/>
            <a:ext cx="8856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3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macronutrients (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but no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ibers and water) provid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structural material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مواد بنائية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example, lipids from which cell membrane is buil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me of the structural material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can be used to generate energy internally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لتوليد الطاقة داخليا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nd measured in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kilocalori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كيلو كالوري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often called "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Calori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"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- Carbohydrates and proteins provide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4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 kca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energy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per gra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I- while fats provide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9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 kcal per gra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itamins, minerals, and water do not provide energ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ibers (i.e., non-digestible materials such as cellulose), seems to be required, for both mechanical and biochemical reaso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07640" y="980640"/>
            <a:ext cx="8785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-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Beak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bird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eat primarily seeds, nuts, and fruit, using their beaks to open even the toughest seed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البذور الجاف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Tongu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is a skeletal muscle on the floor of the mouth that manipulates food for chewing (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المضغ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and swallowing (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البلع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. The underside of the tongue is covered with a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smooth mucous membrane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غشاء مخاطي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3-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Teeth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(singular, tooth) are small whitish structures found in the jaws (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الفكوك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of many vertebrates that are used to chew food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مضغ الطعام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Teeth of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carnivores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are shaped to kill and tear meat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تمزق اللحم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- Teeth of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herbivores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are made for grinding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طحن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plant par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37450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onstantia"/>
              </a:rPr>
              <a:t>Digestive systems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07640" y="333000"/>
            <a:ext cx="87850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30000"/>
              </a:lnSpc>
              <a:tabLst>
                <a:tab algn="l" pos="0"/>
                <a:tab algn="l" pos="890640"/>
                <a:tab algn="l" pos="124920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4-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Crop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is a thin-walled expanded portion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جزء واسع رفيع الجدار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f the alimentary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cana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used for the storage of food prior to digestion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تخزين الطعام قبل الهضم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tabLst>
                <a:tab algn="l" pos="0"/>
                <a:tab algn="l" pos="890640"/>
                <a:tab algn="l" pos="124920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5-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Gizzar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is a specialized stomach with thick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سميك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muscular walls used for grinding up food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طحن الطعام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tabLst>
                <a:tab algn="l" pos="0"/>
                <a:tab algn="l" pos="890640"/>
                <a:tab algn="l" pos="1249200"/>
                <a:tab algn="l" pos="1434960"/>
                <a:tab algn="l" pos="2870280"/>
                <a:tab algn="l" pos="4305240"/>
                <a:tab algn="l" pos="5740560"/>
                <a:tab algn="l" pos="7175520"/>
                <a:tab algn="l" pos="8610480"/>
                <a:tab algn="l" pos="10045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8:35:35Z</dcterms:created>
  <dc:creator>aalii</dc:creator>
  <dc:description/>
  <dc:language>en-US</dc:language>
  <cp:lastModifiedBy>User</cp:lastModifiedBy>
  <dcterms:modified xsi:type="dcterms:W3CDTF">2016-04-24T05:53:47Z</dcterms:modified>
  <cp:revision>76</cp:revision>
  <dc:subject/>
  <dc:title>Principals of General Zoology (Zoo-103)</dc:title>
</cp:coreProperties>
</file>