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7302F-273D-4353-A11D-97960C69B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AE365-A24F-4D5D-8AD8-397D57BB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BB8D3-4DAF-4C93-8ACA-890C5F5DF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CFB21-8886-404D-9751-9D9B26903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113B0-7E07-4F19-B690-1C52A54A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93FB-107C-44E9-A29A-D71E6982C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279D-F559-43B8-A2C4-0075D748E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E54D9-E06D-46F1-AC70-52DABE574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C6FFB-2B1C-4996-ADFE-CDC9A183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2D822-F98E-4965-9F2C-A9F10E7DF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8ABB-5D0E-464D-85A2-3C3C87D1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A117-0689-44E6-AAB5-D2EAEF25A1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2B96-3C96-478A-BD45-7B2E0BC891A0}"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89F9-76D9-4D77-820A-421A53CE516A}"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prstGeom prst="pie">
              <a:avLst/>
            </a:pr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prstGeom prst="pie">
                <a:avLst/>
              </a:pr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ralajmi</cp:lastModifiedBy>
  <dcterms:modified xsi:type="dcterms:W3CDTF">2014-02-02T04:50:09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