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0D36B-4728-4C49-ACE2-4DC973927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69748-4B45-485D-BBE0-7C085520D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9241A-40AC-48CB-90EC-7BE7BDB93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38C20-C7D0-4CBA-B842-AAC82787A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FC6CE-82EF-4B65-85FF-1B9CC0CAB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1EFAE-3618-4728-8E68-8EF00C191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DEE1-E4CB-41DF-919F-816EF2583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E29A7-9B2B-4905-A498-616AF92A7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6B535-5702-406B-9285-387BD7BE4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B590E-AE55-4B90-9B3C-4B073F1B3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5CF7-8A17-4B3A-92DB-95E9EB7CB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1B64-8734-40A0-84F8-D681291D7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50C9-5C22-4958-BEE7-CFA70BBC1409}"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27FB-3D51-4EBF-A3E0-42B36D267EDD}"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prstGeom prst="pie">
              <a:avLst/>
            </a:pr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prstGeom prst="pie">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ralajmi</cp:lastModifiedBy>
  <dcterms:modified xsi:type="dcterms:W3CDTF">2014-02-02T04:50:09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