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EE9-C71F-4378-910C-066D856CC8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5266646-FA08-433B-A1F4-B4524E19B9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E06-D296-48EF-B5DD-E57564F8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D86-6EEA-4E87-A953-AF8F17C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019-5ED8-48EF-A4D0-511282AE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5CC-F7F6-497F-B351-8A3FA8E7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D45-FBF4-46CE-8F4E-09C057E9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AF7-4EF5-4CD3-869C-8DE249B8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9EB-3D13-46F1-B1FA-E466179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7BC-855F-4C9D-B655-C9659BA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A4D-271A-4F26-9312-3A36F44F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EDC-60E8-4E8F-AD90-4AC3848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BA9-E56F-47AA-8B40-2518E89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8BA-B7EC-4AF1-99B7-7A41931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2063-153F-43E6-901C-47961EAB93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4976640"/>
            <a:ext cx="9067680" cy="172908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3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4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6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9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2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5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8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1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4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9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1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4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7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50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3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6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9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4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5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8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1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4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7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80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5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6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9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2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5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200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3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4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7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10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3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6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9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2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9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30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3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6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9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2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5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8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1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4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7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60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3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6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9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2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5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8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1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7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29" dur="14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40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44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6" dur="10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7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genetic information in cells from DNA to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mportance of the genetic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RNAs in translation (protein synthesi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191120"/>
            <a:ext cx="7365960" cy="22096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carrier the genetic “message” from the DNA to the cyto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major component of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: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rier of specific amino acids, helping to form polypept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is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3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5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8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80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714-34E1-4D01-8632-2DB5534B36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ash</cp:lastModifiedBy>
  <dcterms:modified xsi:type="dcterms:W3CDTF">2013-01-09T21:28:52Z</dcterms:modified>
  <cp:revision>98</cp:revision>
  <dc:subject/>
  <dc:title>Slide 1</dc:title>
</cp:coreProperties>
</file>