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D21C9-986F-4BCA-997F-D2E549C93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918BA-13F3-4279-98A2-4EE1C77A8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B19F7-BB39-4817-AD10-2B9F32630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F1051-7C95-417D-B504-670BE3D50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E797E-70ED-49DB-AEB0-E8C0826A5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C5E3B-7492-47BB-ABCA-FDD7B8B01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B32E2-96FA-4E57-A9BA-F4AD0CAD5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ACFD9-E924-4906-916D-251D1189A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1DDF0-690E-4FDB-9BD1-910B1CE69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AEB98-177E-4C9A-870E-1281F1723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84AC-03D0-476D-941B-EF270118B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40E5B-CA52-489D-A530-3C07AA2B1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DCCE-E105-42C5-9A1A-413EFC0234CB}"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tretch/>
        </p:blipFill>
        <p:spPr>
          <a:xfrm>
            <a:off x="4648320" y="2654280"/>
            <a:ext cx="449568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519E-8ED8-4E5C-BAF6-64D28BE1A12F}"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gd name="textAreaLeft" fmla="*/ 0 w 788760"/>
                <a:gd name="textAreaRight" fmla="*/ 789120 w 788760"/>
                <a:gd name="textAreaTop" fmla="*/ 0 h 682560"/>
                <a:gd name="textAreaBottom" fmla="*/ 682560 h 68256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User</cp:lastModifiedBy>
  <dcterms:modified xsi:type="dcterms:W3CDTF">2014-01-04T13:19:22Z</dcterms:modified>
  <cp:revision>143</cp:revision>
  <dc:subject/>
  <dc:title>Slide 1</dc:title>
</cp:coreProperties>
</file>