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6EC-24B2-4259-8F9C-D38B4CB0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137-5E0C-42F2-AA0D-A0884915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68C-43BF-4805-989B-BA5ED573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6ED-7694-4004-BB66-AD6A38C6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8E0D-BA9F-483C-80AA-202CC146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8DBA-F629-404D-96C9-ED5BD285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AFBF-15EC-4229-9DB8-D1CE2942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1365-173E-4E9D-8AAF-6A73A51B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6FDD-FF1A-4705-9A0F-F0E331B7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2A6A-1C55-40C0-A47A-68F5CCEB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9D2F-BFF3-479C-9746-34B29211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9CD-1D07-402F-BDBE-81786A93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D0CE-C161-4689-9C21-1446216E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AF7E-4985-4C73-AF6E-99AE00C0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9BAA-D5F6-4921-BDA2-7AD59671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1F01-9083-47D3-A75F-C79CB32C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0C88-D36E-4C0D-B816-6A8C5501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AFB0-F1C4-4685-887A-35256A31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F208-D460-4A27-8EBB-38E340AA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D371-3A66-4934-8B2B-D997D5B5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140D-F05D-4952-862E-126BC645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659B-062B-42B2-A9D0-A0926CED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512-100E-4B0B-BD56-EC9CB045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D9004-33EB-4869-92FA-A86D7478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5E37-0562-4FC4-9004-BF8AD8DC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EB5D-A80E-4A4D-A2CA-7A344B56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1E897-7CC2-4180-91E0-0AF2BFDA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E903-7F41-427B-AA20-CAB39545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F925-8262-4712-B276-CFA9805A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14E1-541A-4F59-A917-2CC8DC0A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5CF90-B255-4E13-AA80-EFD18E98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655B-8C83-4AF0-9A09-EAB4CC5D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D99F1-C14B-4B7F-B25A-B068AE43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CD9-9124-479A-AA62-AA9F3AE4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0E825-EC2D-413E-865C-9502A2A9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75D53-C727-4941-834B-A8156D30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2A5A8-D343-42CE-9B69-EE9DC7BC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6C416-3ABE-40C1-A806-0BF67772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3E5E1-1850-4ECF-B58D-CAC2E4DB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399D4-11C9-4F05-8BB2-F19A9E13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E369-31C4-4FBE-82B9-A095C51A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86E9-D6E5-4BB2-83DD-236C28CB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451D0-8D19-4DE7-91EF-598071FF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0AA-CF9F-4482-A3BE-964D590C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96F-AB96-4478-BF99-E88208DB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956-E382-4512-BCE1-552CB849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BB6-0391-4405-811A-E3C9B62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91E-9909-4E70-AD6D-D72474B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2F44-11BD-4000-8CBF-BD372562B17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57DE-F244-4196-AD13-00DD4E10082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2F34-47B3-49AA-8F28-81C82BA4FC9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2242-C95D-4303-889B-E6B399EBBAA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د أشرف مشالي</cp:lastModifiedBy>
  <dcterms:modified xsi:type="dcterms:W3CDTF">2013-09-02T10:28:07Z</dcterms:modified>
  <cp:revision>61</cp:revision>
  <dc:subject/>
  <dc:title>Principals of General Zoology (Zoo-103) </dc:title>
</cp:coreProperties>
</file>