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D55C-984B-4153-B897-318EAB6B4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E2DA-E9E5-4893-9193-EA49EBFC9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3579-B4B1-472C-B445-9FB9777AF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C410-792F-4835-B0ED-7423C8B22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2A1FB-900B-434B-BB37-1FC6BCBDC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94916-35D3-4B19-B3F2-4E36F7D9C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D9D38-D8B2-4AAA-8E34-27990C6F9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514CF-F6EE-4D93-9939-E131CCE24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4A0B1-BAFB-47B4-839A-4D74E0740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B68E8-144B-4204-B2BF-6151A8C16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072A1-2ADF-40C4-8B5C-F74F786D6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55E2-7566-4D10-BE41-3EFC548A3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AE6A6-C568-4419-8DC3-BB5888DA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754E0-C5B8-40F4-8E5B-291AEE80B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044E2-1A81-4F02-AEC6-C02E9E5B4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79D95-2C29-4A59-AA09-BF7FA9ED1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DC36B-2A95-42AB-A73B-EDD17726C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DD339-F139-4651-9BCE-83D225960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F9DCD-7A3C-4212-B149-8540CB1E3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C67E1-763A-49DC-9D8A-8BE27B17F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4381C-203C-4B57-B3E6-9F07F9589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FD073-086B-43BB-8FB3-B6BBE55E8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A049-C2FB-4B8B-AB51-407C8686C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A0BFB-86D5-4907-8679-CE090CDFE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85AD4-336A-41BF-B3EF-E27424DC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3BD4E-E29D-4669-B028-DE3050AD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00875-686F-48DD-9F08-58C5A423A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A09D2-9640-4131-A4D7-E6483D8A8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724A0-CF9C-41CC-90F0-165E9DC15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3DEE2-8496-4DE7-9967-D59FBA5AC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40E97-CDED-473E-A866-B674393C0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2C7F8-C11F-4A5A-8EF1-93A8F030A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544FB-8BE1-49B5-B342-4F1D6F071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BB1F-A4C6-49D9-B247-3B69AFFB3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5F1BB-BC32-426B-9D6D-15ED3884D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2424B-E002-4082-B52E-D159D885E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F308C-FF6F-41FC-AF9C-7CE9E3F1D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AE195-9396-464C-AD31-79812D3E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BBD1F-4A9B-4C98-92EB-5088544BA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F3BB1-EA8C-4133-8117-B4D5A41F2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E4854-B2A9-4F2F-8038-66E209715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96AE7-41D2-47E9-B3F6-399DE9F97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54BE5-780B-4B44-9641-BEDFCEE3C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591D-3189-48E9-8820-3A4AFAB2F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B7CA-7EEB-4697-9D28-5DE247B9E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6446-E781-4A35-ABB4-345CF8E9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91E3-F413-4028-A57B-B3ADADCFB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22E5-9B60-49E6-9760-0B852E8DC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55435-FA9A-4CE9-80E8-ADF544DC85F1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0BFDF-0AA2-4998-84D1-F60EAFD655C1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5FDA8-168F-4A9F-9FB9-EA337557AA01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250D5-A573-4E07-958C-AFFE9B60EC79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785680" y="1795320"/>
            <a:ext cx="374508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00ff"/>
                </a:solidFill>
                <a:uFillTx/>
                <a:latin typeface="Calibri"/>
              </a:rPr>
              <a:t>Metabolism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الأيْض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68360" y="2550960"/>
            <a:ext cx="822960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Metabolism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</a:rPr>
              <a:t>: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is the set of chemical reactions that occur in living organisms to maintain life</a:t>
            </a:r>
            <a:r>
              <a:rPr b="1" lang="ar-SA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</a:rPr>
              <a:t>يحافظ على الحياة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. These processes allow organisms to grow and reproduce</a:t>
            </a:r>
            <a:r>
              <a:rPr b="1" lang="ar-SA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</a:rPr>
              <a:t>يتناسل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, maintain their structures, and respond to their environment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22720" indent="-5227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522720" indent="-52272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Metabolism is usually divided into two categories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22720" indent="-52272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522720" indent="-522720">
              <a:lnSpc>
                <a:spcPct val="9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0000"/>
                </a:solidFill>
                <a:uFillTx/>
                <a:latin typeface="Constantia"/>
              </a:rPr>
              <a:t>Catabolism</a:t>
            </a:r>
            <a:r>
              <a:rPr b="1" lang="en-GB" sz="1600" spc="-1" strike="noStrike" u="sng">
                <a:solidFill>
                  <a:srgbClr val="ff0000"/>
                </a:solidFill>
                <a:uFillTx/>
                <a:latin typeface="Constantia"/>
              </a:rPr>
              <a:t>;</a:t>
            </a:r>
            <a:r>
              <a:rPr b="1" lang="en-GB" sz="1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ar-SA" sz="1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Constantia"/>
              </a:rPr>
              <a:t>هدم</a:t>
            </a:r>
            <a:r>
              <a:rPr b="1" lang="en-GB" sz="1600" spc="-1" strike="noStrike">
                <a:solidFill>
                  <a:srgbClr val="0000ff"/>
                </a:solidFill>
                <a:latin typeface="Constantia"/>
              </a:rPr>
              <a:t>breaks down organic matter, for example to  produce energy in cellular respiration</a:t>
            </a:r>
            <a:r>
              <a:rPr b="1" lang="en-GB" sz="16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1" lang="en-GB" sz="16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522720" indent="-522720">
              <a:lnSpc>
                <a:spcPct val="90000"/>
              </a:lnSpc>
              <a:spcBef>
                <a:spcPts val="201"/>
              </a:spcBef>
              <a:buClr>
                <a:srgbClr val="0bd0d9"/>
              </a:buClr>
              <a:buSzPct val="9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522720" indent="-522720">
              <a:lnSpc>
                <a:spcPct val="9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0000"/>
                </a:solidFill>
                <a:uFillTx/>
                <a:latin typeface="Constantia"/>
              </a:rPr>
              <a:t>Anabolism</a:t>
            </a:r>
            <a:r>
              <a:rPr b="1" lang="en-GB" sz="1600" spc="-1" strike="noStrike" u="sng">
                <a:solidFill>
                  <a:srgbClr val="ff0000"/>
                </a:solidFill>
                <a:uFillTx/>
                <a:latin typeface="Constantia"/>
              </a:rPr>
              <a:t>;</a:t>
            </a:r>
            <a:r>
              <a:rPr b="1" lang="en-GB" sz="1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ar-SA" sz="1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Constantia"/>
              </a:rPr>
              <a:t>بناء</a:t>
            </a:r>
            <a:r>
              <a:rPr b="1" lang="en-GB" sz="1600" spc="-1" strike="noStrike">
                <a:solidFill>
                  <a:srgbClr val="0000ff"/>
                </a:solidFill>
                <a:latin typeface="Constantia"/>
              </a:rPr>
              <a:t>constructing </a:t>
            </a:r>
            <a:r>
              <a:rPr b="0" lang="ar-SA" sz="1600" spc="-1" strike="noStrike">
                <a:solidFill>
                  <a:srgbClr val="0000ff"/>
                </a:solidFill>
                <a:latin typeface="Constantia"/>
              </a:rPr>
              <a:t>بناء/تكوين</a:t>
            </a:r>
            <a:r>
              <a:rPr b="1" lang="en-GB" sz="16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GB" sz="1600" spc="-1" strike="noStrike">
                <a:solidFill>
                  <a:srgbClr val="0000ff"/>
                </a:solidFill>
                <a:latin typeface="Constantia"/>
              </a:rPr>
              <a:t>components of cells such as proteins and nucleic acid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522720" indent="-5227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522720" indent="-52272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Enzymes are important to metabolism because they act as catalysts to allow chemical reactions to proceed quickly and efficiently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1785960" y="866880"/>
            <a:ext cx="5357880" cy="561960"/>
          </a:xfrm>
          <a:prstGeom prst="rect">
            <a:avLst/>
          </a:prstGeom>
          <a:solidFill>
            <a:srgbClr val="20c9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Lecture 23: Animal phys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74640" y="907560"/>
            <a:ext cx="360972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00ff"/>
                </a:solidFill>
                <a:uFillTx/>
                <a:latin typeface="Calibri"/>
              </a:rPr>
              <a:t>Metabolism</a:t>
            </a:r>
            <a:r>
              <a:rPr b="1" lang="ar-SA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500" spc="-1" strike="noStrike">
                <a:solidFill>
                  <a:srgbClr val="000000"/>
                </a:solidFill>
                <a:latin typeface="Calibri"/>
              </a:rPr>
              <a:t>الأيض</a:t>
            </a:r>
            <a:r>
              <a:rPr b="1" lang="ar-SA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Rectangle 12"/>
          <p:cNvSpPr/>
          <p:nvPr/>
        </p:nvSpPr>
        <p:spPr>
          <a:xfrm>
            <a:off x="468360" y="3981600"/>
            <a:ext cx="33224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Catabolism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هدم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3"/>
          <p:cNvSpPr/>
          <p:nvPr/>
        </p:nvSpPr>
        <p:spPr>
          <a:xfrm>
            <a:off x="4923000" y="3981600"/>
            <a:ext cx="33224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Anabolism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بناء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4"/>
          <p:cNvSpPr/>
          <p:nvPr/>
        </p:nvSpPr>
        <p:spPr>
          <a:xfrm>
            <a:off x="1547640" y="1649520"/>
            <a:ext cx="51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Metabolism is the chemical reactions that occur in living organisms to maintain their life, to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grow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nd to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reproduc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22"/>
          <p:cNvGrpSpPr/>
          <p:nvPr/>
        </p:nvGrpSpPr>
        <p:grpSpPr>
          <a:xfrm>
            <a:off x="2124000" y="2778120"/>
            <a:ext cx="4537080" cy="1225440"/>
            <a:chOff x="2124000" y="2778120"/>
            <a:chExt cx="4537080" cy="1225440"/>
          </a:xfrm>
        </p:grpSpPr>
        <p:sp>
          <p:nvSpPr>
            <p:cNvPr id="213" name="Line 15"/>
            <p:cNvSpPr/>
            <p:nvPr/>
          </p:nvSpPr>
          <p:spPr>
            <a:xfrm>
              <a:off x="4140000" y="2778120"/>
              <a:ext cx="0" cy="865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6"/>
            <p:cNvSpPr/>
            <p:nvPr/>
          </p:nvSpPr>
          <p:spPr>
            <a:xfrm flipH="1">
              <a:off x="2125080" y="3643200"/>
              <a:ext cx="453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7"/>
            <p:cNvSpPr/>
            <p:nvPr/>
          </p:nvSpPr>
          <p:spPr>
            <a:xfrm>
              <a:off x="2124000" y="3643200"/>
              <a:ext cx="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8"/>
            <p:cNvSpPr/>
            <p:nvPr/>
          </p:nvSpPr>
          <p:spPr>
            <a:xfrm>
              <a:off x="6661080" y="3643200"/>
              <a:ext cx="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Text Box 19"/>
          <p:cNvSpPr/>
          <p:nvPr/>
        </p:nvSpPr>
        <p:spPr>
          <a:xfrm>
            <a:off x="468360" y="4686480"/>
            <a:ext cx="34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Is the </a:t>
            </a:r>
            <a:r>
              <a:rPr b="1" lang="ar-SA" sz="1800" spc="-1" strike="noStrike" u="sng">
                <a:solidFill>
                  <a:srgbClr val="ff0000"/>
                </a:solidFill>
                <a:uFillTx/>
                <a:latin typeface="Arial"/>
              </a:rPr>
              <a:t>break down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large molecules to provide energy and components needed for anabolic reac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0"/>
          <p:cNvSpPr/>
          <p:nvPr/>
        </p:nvSpPr>
        <p:spPr>
          <a:xfrm>
            <a:off x="4716360" y="4686480"/>
            <a:ext cx="39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Is the </a:t>
            </a:r>
            <a:r>
              <a:rPr b="1" lang="ar-SA" sz="1800" spc="-1" strike="noStrike" u="sng">
                <a:solidFill>
                  <a:srgbClr val="ff0000"/>
                </a:solidFill>
                <a:uFillTx/>
                <a:latin typeface="Arial"/>
              </a:rPr>
              <a:t>constructive processes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that uses energy formed by catabolism to synthesize complex molecules for make up cellular structu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457200" y="1123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nstantia"/>
              </a:rPr>
              <a:t>Key Biomolecules In Metabolism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</a:rPr>
              <a:t>الجزيئات الحيوية الأساسية في الأيض</a:t>
            </a:r>
            <a:r>
              <a:rPr b="1" lang="en-GB" sz="24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Most of the structures that make up animals, plants and microbes are made from three basic types of molecule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proteins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carbohydrates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and lipids (often called fats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Constanti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As these molecules are important for life, metabolism focuses on utilizing these molecules in two way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Constantia"/>
              </a:rPr>
              <a:t>in the construction of cells and tissues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</a:rPr>
              <a:t>تكوين الخلايا والأنسجة</a:t>
            </a:r>
            <a:r>
              <a:rPr b="1" lang="en-GB" sz="1600" spc="-1" strike="noStrike">
                <a:solidFill>
                  <a:srgbClr val="0000ff"/>
                </a:solidFill>
                <a:latin typeface="Constantia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Constantia"/>
              </a:rPr>
              <a:t>or breaking them down and using them as a source of energy</a:t>
            </a:r>
            <a:r>
              <a:rPr b="1" lang="ar-SA" sz="16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</a:rPr>
              <a:t>كمصدر للطاقة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1600" spc="-1" strike="noStrike">
                <a:solidFill>
                  <a:srgbClr val="0000ff"/>
                </a:solidFill>
                <a:latin typeface="Constanti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These macromolecules are essential parts of all living organisms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1912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Important biochemical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Constantia"/>
              </a:rPr>
              <a:t>1- Proteins: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Proteins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are made of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amino acids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arranged in a linear chain and joined together by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peptide bonds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Many proteins are the enzymes that catalyze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</a:rPr>
              <a:t>تُسهِّـل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the chemical reactions in metabolism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Other proteins have structural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</a:rPr>
              <a:t>تركيبية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or mechanical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</a:rPr>
              <a:t>ميكانيكية</a:t>
            </a: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functions, such as the proteins that form the cytoskeleto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Proteins are also important in cell signalling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</a:rPr>
              <a:t>الإشارات الخلوية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, immune responses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</a:rPr>
              <a:t>الإستجابات المناعية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, active transport across membranes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</a:rPr>
              <a:t>النقل النشط خلال الأغشية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Rectangle 217"/>
          <p:cNvSpPr/>
          <p:nvPr/>
        </p:nvSpPr>
        <p:spPr>
          <a:xfrm>
            <a:off x="0" y="2819520"/>
            <a:ext cx="914400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457200" y="148572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Constantia"/>
              </a:rPr>
              <a:t>2- Lipid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Lipid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composed of </a:t>
            </a: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three fatty acid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glycerol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molecul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They construct 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</a:rPr>
              <a:t>تكوِّن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part of the cell membran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They are a source of energ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Steroids such as cholesterol are another major class of lipids that are made in cel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57200" y="981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nstantia"/>
              </a:rPr>
              <a:t>3- Carbohydrat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Carbohydrate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are straight-chain </a:t>
            </a: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aldehydes or ketone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with many </a:t>
            </a: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hydroxyl group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that can exist as straight chains or ring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Carbohydrate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are the most abundant 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</a:rPr>
              <a:t>الأكثر توفرا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biological molecules, and found as storage for producing energy (e.g. glycogen) and structural components (cellulose in plants, chitin in animals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The basic carbohydrate units are called </a:t>
            </a: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monosaccharide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and include galactose, fructose, and glucos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Monosaccharide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can be linked together to form </a:t>
            </a: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polysaccharide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250920" y="980640"/>
            <a:ext cx="87487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0000"/>
                </a:solidFill>
                <a:latin typeface="Constantia"/>
              </a:rPr>
              <a:t>4- Coenzymes 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</a:rPr>
              <a:t>إنزيمات مساعدة/مُعِينة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Metabolism involves chemical reactions, most involve metabolic intermediates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</a:rPr>
              <a:t>وسطاء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called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coenzymes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Coenzymes are therefore continuously being made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</a:rPr>
              <a:t>تتكون باستمرار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, consumed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</a:rPr>
              <a:t>وتستهلك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and then recycled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</a:rPr>
              <a:t>ويعاد تكوينها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One central coenzyme is adenosine triphosphate (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ATP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), the energy source of cells. and used to transfer chemical energy between different chemical reaction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ATP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acts as a bridge between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catabolism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anabolism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, with catabolic reactions generating ATP and anabolic reactions consuming i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It also serves as a carrier of phosphate groups in phosphorylation 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</a:rPr>
              <a:t>تفاعلات الفسفرة</a:t>
            </a: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reaction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9528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nstantia"/>
              </a:rPr>
              <a:t>5- Vitamin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Vitamin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is an organic compound needed in small quantities that cannot be made in the cell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In human nutrition,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most vitamins function as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coenzymes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after modificatio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Nicotinamide adenine dinucleotide (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NADH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), a derivative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</a:rPr>
              <a:t>مشتق من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of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vitamin B3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(niacin), is an important coenzyme that acts as a hydrogen acceptor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</a:rPr>
              <a:t>مستقبل للهيدروجين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NAD</a:t>
            </a:r>
            <a:r>
              <a:rPr b="1" lang="en-GB" sz="2000" spc="-1" strike="noStrike" baseline="30000">
                <a:solidFill>
                  <a:srgbClr val="0000ff"/>
                </a:solidFill>
                <a:latin typeface="Constantia"/>
              </a:rPr>
              <a:t>+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exists in two related forms in the cell,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NADH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NADPH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NAD</a:t>
            </a:r>
            <a:r>
              <a:rPr b="1" lang="en-GB" sz="2000" spc="-1" strike="noStrike" baseline="30000">
                <a:solidFill>
                  <a:srgbClr val="0000ff"/>
                </a:solidFill>
                <a:latin typeface="Constantia"/>
              </a:rPr>
              <a:t>+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/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NADH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form is more important in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catabolic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reactions, while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NADP+/NADPH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is used in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anabolic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reaction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95280" y="980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onstantia"/>
              </a:rPr>
              <a:t>6- Minerals &amp; Cofactor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onstantia"/>
              </a:rPr>
              <a:t>a)- element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They are inorganic elements play important roles in metabolism; (e.g. sodium and potassium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nstantia"/>
              </a:rPr>
              <a:t>About 99%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of mammals' mass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</a:rPr>
              <a:t>وزن الجسم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are the elements carbon, nitrogen, calcium, sodium, chlorine, potassium, hydrogen, phosphorus, oxygen and sulfu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The organic compounds (proteins, lipids and carbohydrates) contain the majority of the carbon and nitrogen and most of the oxygen and hydrogen is present as wate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onstantia"/>
              </a:rPr>
              <a:t>b)- ion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The most important </a:t>
            </a:r>
            <a:r>
              <a:rPr b="1" lang="en-GB" sz="1800" spc="-1" strike="noStrike">
                <a:solidFill>
                  <a:srgbClr val="0000ff"/>
                </a:solidFill>
                <a:latin typeface="Constantia"/>
              </a:rPr>
              <a:t>inorganic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ions are sodium, potassium, calcium, magnesium, chloride, phosphate, and the organic ion bicarbonat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These Ions are also critical for </a:t>
            </a:r>
            <a:r>
              <a:rPr b="1" lang="en-GB" sz="1800" spc="-1" strike="noStrike">
                <a:solidFill>
                  <a:srgbClr val="0000ff"/>
                </a:solidFill>
                <a:latin typeface="Constantia"/>
              </a:rPr>
              <a:t>nerves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Constantia"/>
              </a:rPr>
              <a:t>muscles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618920" y="580680"/>
            <a:ext cx="55436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Catabolism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الهدم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ff"/>
                </a:solidFill>
                <a:latin typeface="Calibri"/>
              </a:rPr>
              <a:t>&amp; Anabolism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البناء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83760" y="1496880"/>
            <a:ext cx="843588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</a:rPr>
              <a:t>a)- Catabolism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It is the metabolic processes that break down large molecules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The purpose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الهدف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of the catabolic reactions is to provide the energy and components needed by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cell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In animals these reactions involve complex organic molecules being broken down to simpler molecules, such as carbon dioxide and water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</a:rPr>
              <a:t>b)- Anabolism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It is the constructive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البنائية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metabolic processes where the energy released by catabolism is used to synthesize 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لتكوين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complex molecules from small and simple components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Anabolism involves three basic stages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ff"/>
                </a:solidFill>
                <a:latin typeface="Constantia"/>
              </a:rPr>
              <a:t>the production of components such as amino acids, monosaccharides, and fatty acids,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ff"/>
                </a:solidFill>
                <a:latin typeface="Constantia"/>
              </a:rPr>
              <a:t>their activation into reactive forms using energy from ATP,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ff"/>
                </a:solidFill>
                <a:latin typeface="Constantia"/>
              </a:rPr>
              <a:t>the assembly </a:t>
            </a:r>
            <a:r>
              <a:rPr b="1" lang="ar-SA" sz="1600" spc="-1" strike="noStrike">
                <a:solidFill>
                  <a:srgbClr val="000000"/>
                </a:solidFill>
                <a:latin typeface="Constantia"/>
              </a:rPr>
              <a:t>تركيب/تشكيل</a:t>
            </a:r>
            <a:r>
              <a:rPr b="1" lang="ar-SA" sz="16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ar-SA" sz="1600" spc="-1" strike="noStrike">
                <a:solidFill>
                  <a:srgbClr val="0000ff"/>
                </a:solidFill>
                <a:latin typeface="Constantia"/>
              </a:rPr>
              <a:t>of these </a:t>
            </a:r>
            <a:r>
              <a:rPr b="1" lang="en-GB" sz="1600" spc="-1" strike="noStrike">
                <a:solidFill>
                  <a:srgbClr val="0000ff"/>
                </a:solidFill>
                <a:latin typeface="Constantia"/>
              </a:rPr>
              <a:t>components</a:t>
            </a:r>
            <a:r>
              <a:rPr b="1" lang="ar-SA" sz="1600" spc="-1" strike="noStrike">
                <a:solidFill>
                  <a:srgbClr val="0000ff"/>
                </a:solidFill>
                <a:latin typeface="Constantia"/>
              </a:rPr>
              <a:t> into complex molecules such as proteins, polysaccharides and lipid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7T18:35:35Z</dcterms:created>
  <dc:creator>aalii</dc:creator>
  <dc:description/>
  <dc:language>en-US</dc:language>
  <cp:lastModifiedBy>د أشرف مشالي</cp:lastModifiedBy>
  <dcterms:modified xsi:type="dcterms:W3CDTF">2013-09-02T10:28:07Z</dcterms:modified>
  <cp:revision>61</cp:revision>
  <dc:subject/>
  <dc:title>Principals of General Zoology (Zoo-103) </dc:title>
</cp:coreProperties>
</file>