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68F7-26C3-4357-A553-3CFE910A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645-1CFF-4CA6-B8F7-D7E6760D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95DE-686F-481D-B3A1-6124738E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7C6-1A0B-4739-A773-88BE4DC7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6265-0A77-4AD6-A0A4-7452C964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0573-FF39-4A6D-A8FD-3386F1A4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5F31-BA9B-4F02-8F63-95AA511A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744C-DB39-4735-891F-4A4AF81E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F42F-ACD6-48F7-B19A-74FEA9E5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6A1D-A139-4AA7-805B-0937C0CD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3B6B-B860-443D-8629-F772239F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6D8F-06CA-4BB9-97CD-DCFB72A0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5BEB-B668-4574-93D9-0061CD2F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EFD2-8D8B-45D8-BE1A-4A6DD309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E400-8A42-43CA-83A8-121D9CAA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1A62-3BC9-48DC-B677-06E4440E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ABA5-28C3-4701-AAB3-A88C5A2E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E6213-DB82-4934-9F76-92EE7D04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205E0-5E5B-42A2-ADC6-76FCB55A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C5E8A-DEB0-473B-A1BD-AEC873A1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0BD7D-F337-41E1-B4B7-FEB1F79C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39120-B6FD-449B-AA8F-81255863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B94-C56C-4172-A94A-140D0FA5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F1B5E-51DC-4CA7-B0AF-089ABB38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43283-88B1-4C2A-B2A7-1BDF3CAF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B6D82-B110-4923-9F12-524C7C85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18D0-B35B-4A10-8BEA-185B2670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80387-109A-434E-BFBE-758D6CE5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7DF64-3B80-4DFE-A5AD-5D764FB8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4B615-BD85-46F8-8909-ED1B4978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4FDC1-DC27-4646-9BFD-4A3CE55D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84541-BDEC-4947-8AE9-94594323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6F744-C72C-4D6B-830B-6BDD3343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38A-F2F1-4B89-B4BD-7FF93D84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23334-7C8A-4742-B10B-A8A01867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9FFB3-C40E-492A-978B-2D8E3361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0550E-3AF9-4E2C-9F28-73ECE6FF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BD27F-3392-4A16-A8D4-BA074AD3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B20F3-4075-47E8-B76D-FDCC6CFD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B02FF-C549-43AD-90A1-0D1CACC2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97FDA-0649-4E2A-B1AB-22265ED9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E16E0-EDE9-4663-ADBE-B1FA9157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46FCC-E10F-4839-96A2-77B094A8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2511-6C9E-486F-B209-BE69482B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8FF7-7F7D-445D-9C04-68DD952E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4DEB-C08D-4B3A-B3CD-1170B32E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5D4-5734-4E84-98F6-DB3154D5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B2F6-9B5C-4C62-939F-0D61CB10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11BC-245D-479F-A79A-73CCC2324DA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30C8-EE5D-4EFD-BFC0-D3D6A5ED3F4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4CD9-D933-4D23-8988-20700051327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A72F-AE68-4128-84C9-B1D13E99C54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85680" y="1795320"/>
            <a:ext cx="374508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أيْض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8360" y="255096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etabolism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e set of chemical reactions that occur in living organisms to maintain lif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حافظ على الحيا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 These processes allow organisms to grow and reproduc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تناسل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, maintain their structures, and respond to their environm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Metabolism is usually divided into two categori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Cat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هدم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breaks down organic matter, for example to  produce energy in cellular respiration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An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بناء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nstructing </a:t>
            </a:r>
            <a:r>
              <a:rPr b="0" lang="ar-SA" sz="1600" spc="-1" strike="noStrike">
                <a:solidFill>
                  <a:srgbClr val="0000ff"/>
                </a:solidFill>
                <a:latin typeface="Constantia"/>
              </a:rPr>
              <a:t>بناء/تكوين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 of cells such as proteins and nucleic ac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Enzymes are important to metabolism because they act as catalysts to allow chemical reactions to proceed quickly and efficiently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785960" y="866880"/>
            <a:ext cx="5357880" cy="56196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3: Animal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74640" y="907560"/>
            <a:ext cx="360972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الأيض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46836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Cat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هد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492300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An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بناء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1547640" y="164952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Metabolism is the chemical reactions that occur in living organisms to maintain their life,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ow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eprodu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2"/>
          <p:cNvGrpSpPr/>
          <p:nvPr/>
        </p:nvGrpSpPr>
        <p:grpSpPr>
          <a:xfrm>
            <a:off x="2124000" y="2778120"/>
            <a:ext cx="4537080" cy="1225440"/>
            <a:chOff x="2124000" y="2778120"/>
            <a:chExt cx="4537080" cy="1225440"/>
          </a:xfrm>
        </p:grpSpPr>
        <p:sp>
          <p:nvSpPr>
            <p:cNvPr id="213" name="Line 15"/>
            <p:cNvSpPr/>
            <p:nvPr/>
          </p:nvSpPr>
          <p:spPr>
            <a:xfrm>
              <a:off x="4140000" y="2778120"/>
              <a:ext cx="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 flipH="1">
              <a:off x="2125080" y="3643200"/>
              <a:ext cx="453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7"/>
            <p:cNvSpPr/>
            <p:nvPr/>
          </p:nvSpPr>
          <p:spPr>
            <a:xfrm>
              <a:off x="212400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8"/>
            <p:cNvSpPr/>
            <p:nvPr/>
          </p:nvSpPr>
          <p:spPr>
            <a:xfrm>
              <a:off x="666108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9"/>
          <p:cNvSpPr/>
          <p:nvPr/>
        </p:nvSpPr>
        <p:spPr>
          <a:xfrm>
            <a:off x="468360" y="46864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break down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large molecules to provide energy and components needed for anabol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4716360" y="468648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constructive processe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that uses energy formed by catabolism to synthesize complex molecules for make up cellular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123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Key Biomolecules In Metabolism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جزيئات الحيوية الأساسية في الأيض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ost of the structures that make up animals, plants and microbes are made from three basic types of molecul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d lipids (often called fats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s these molecules are important for life, metabolism focuses on utilizing these molecules in two way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in the construction of cells and tissue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تكوين الخلايا والأنسجة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or breaking them down and using them as a source of energy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كمصدر للطاق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se macromolecules are essential parts of all living organism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1912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Important biochemical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nstantia"/>
              </a:rPr>
              <a:t>1- Proteins: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e made 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mino aci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ranged in a linear chain and joined together by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eptide bon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any proteins are the enzymes that catalyz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ُسهِّـل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chemical reactions in metabol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ther proteins have structur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ركيب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 mechanic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يكانيكي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functions, such as the proteins that form the cytoskelet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teins are also important in cell signall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شارات الخلو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immune respons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ستجابات المناع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ctive transport across membran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نقل النشط خلال الأغش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Rectangle 21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4857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Constantia"/>
              </a:rPr>
              <a:t>2- Lip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omposed of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three fatty ac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glycerol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construc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كوِّن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art of the cell membra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are a source of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teroids such as cholesterol are another major class of lipids that are made in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3- Carbohydrat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straight-chain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aldehydes or keton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with many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hydroxyl group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that can exist as straight chains or rin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the most abundan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الأكثر توفرا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biological molecules, and found as storage for producing energy (e.g. glycogen) and structural components (cellulose in plants, chitin in animal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 basic carbohydrate units are calle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include galactose, fructose, and gluco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an be linked together to form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poly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50920" y="980640"/>
            <a:ext cx="874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4- Coenzymes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إنزيمات مساعدة/مُعِين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etabolism involves chemical reactions, most involve metabolic intermediat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سطاء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oenzymes are therefore continuously being mad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تكون باستمرار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consumed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تستهلك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then recycle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يعاد تكوين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ne central coenzyme is adenosine triphosphat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the energy source of cells. and used to transfer chemical energy between different chemical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cts as a bridge betwee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with catabolic reactions generating ATP and anabolic reactions consuming i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 also serves as a carrier of phosphate groups in phosphorylation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فاعلات الفسفر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5- Vitami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Vitamin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an organic compound needed in small quantities that cannot be made in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n human nutrition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ost vitamins function a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fter modific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Nicotinamide adenine dinucleotid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a derivativ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شتق م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vitamin B3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(niacin), is an important coenzyme that acts as a hydrogen acceptor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ستقبل للهيدروجي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exists in two related forms in the cell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form is more important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, whil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+/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used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6- Minerals &amp; Cofacto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)- elem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y are inorganic elements play important roles in metabolism; (e.g. sodium and potassium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About 99%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of mammals' mas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وزن الجسم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re the elements carbon, nitrogen, calcium, sodium, chlorine, potassium, hydrogen, phosphorus, oxygen and sulfu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organic compounds (proteins, lipids and carbohydrates) contain the majority of the carbon and nitrogen and most of the oxygen and hydrogen is present as wat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)- io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most important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inorganic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ons are sodium, potassium, calcium, magnesium, chloride, phosphate, and the organic ion bicarbonat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se Ions are also critical for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nerv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muscl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18920" y="580680"/>
            <a:ext cx="55436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Catabolism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هدم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&amp; Anabolism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بناء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3760" y="1496880"/>
            <a:ext cx="8435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a)- Cat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metabolic processes that break down large molecul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The purpos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هدف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of the catabolic reactions is to provide the energy and components needed by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ell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n animals these reactions involve complex organic molecules being broken down to simpler molecules, such as carbon dioxide and wat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b)- An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constructiv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بنائي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metabolic processes where the energy released by catabolism is used to synthesize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لتكوين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complex molecules from small and simple component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Anabolism involves three basic stag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production of components such as amino acids, monosaccharides, and fatty acids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ir activation into reactive forms using energy from ATP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assembly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تركيب/تشكيل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of these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into complex molecules such as proteins, polysaccharides and lip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35:35Z</dcterms:created>
  <dc:creator>aalii</dc:creator>
  <dc:description/>
  <dc:language>en-US</dc:language>
  <cp:lastModifiedBy>د أشرف مشالي</cp:lastModifiedBy>
  <dcterms:modified xsi:type="dcterms:W3CDTF">2013-09-02T10:28:07Z</dcterms:modified>
  <cp:revision>61</cp:revision>
  <dc:subject/>
  <dc:title>Principals of General Zoology (Zoo-103) </dc:title>
</cp:coreProperties>
</file>