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367-7819-4F79-A11E-9E892ECD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5FB-9A8F-4E54-9C67-880D9DF2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CF1-7215-4D19-92CF-3E57EB67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C4A-7C8B-418C-B558-AF6D82CC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FF85-976A-4521-AD33-1D3CBC2C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5079-50E6-42F6-BDFE-E3CE9593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5588-822E-4A95-AA5C-1732808C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4AD6-0F51-49EC-9D4F-79A3217A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9105-432D-407F-9ED2-4CE972A2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B700-4CB2-4FD6-B377-23EABC8E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3818-3265-4B36-8C17-EDC851C9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1A6-2906-4FA7-B448-3CC7B722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F208-7976-40CA-A1F9-476CA274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C795-E6EE-4408-B2F8-3591C723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A665-F35C-46FE-88C3-BCB0B417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4973-6436-4381-B9D4-1FCAF415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F555-A4F3-4D34-BC76-DDE9CB1F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78958-F528-49ED-AF5E-22A3116A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4AFB-9DE5-40E1-BAF6-20C03D4D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B45D2-D8EB-4C35-A543-8671CAC0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12E7-3B25-4555-A2E3-AE30C19F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7578E-CC7F-45A5-96D0-08DA2788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61B-1F13-436A-83FE-5A89EC27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EE4AE-62A8-4B69-8BA7-309438F2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85939-778A-4CE3-BB51-83B40A81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E742A-6D98-4106-AC63-2BE7CE94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2DC4-0EE4-4F4B-A14B-52451A03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701F0-591A-4C2B-A246-874E1C49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39226-43A6-4885-B956-39734443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68039-2831-428E-9A9E-C58C17E5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C8EAF-55DA-4158-9160-C49D0973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2C05E-3CE3-4263-9353-CAF5BA85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6A153-D985-4924-8475-452CD73D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CC4-2920-4DF9-B7F3-B340B7D2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DB84D-4743-445F-800C-DE1C9F7B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47221-3599-4D16-8FC8-A6FAE251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5DA45-39C7-4EA0-A18F-D638641A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E032D-E2D5-432D-9112-B355636A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C0907-8A50-49E4-9A4E-B95809B5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C2917-164F-42D8-8356-BE0A2A50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DDEC7-0489-4A21-B621-5AA59173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30CC0-84CE-4ADB-94AB-1EC9362C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8AA09-5981-413D-B143-F6F14926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C6C-4F15-418D-8373-C24DC55F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909-804B-4E7F-86D3-01360A25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06E-480B-4185-9A2F-6596FEEF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F74-A2EF-4441-A826-DFF96506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52C-04F8-4759-95FE-0EBB9839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8D8F-4023-415F-B46D-7C8E037E1FD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1F63-400D-4133-A200-D2C161C17E7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F86D-C012-469E-A321-AA98DA9BBBF3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7E93-A9DA-40AB-AF49-3A329318A8B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85680" y="1795320"/>
            <a:ext cx="37450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أيْض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255096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etabolism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e set of chemical reactions that occur in living organisms to maintain lif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حافظ على الحيا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 These processes allow organisms to grow and reproduce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يتناسل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, maintain their structures, and respond to their environm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Metabolism is usually divided into two categori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Cat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هدم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breaks down organic matter, for example to  produce energy in cellular respiration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onstantia"/>
              </a:rPr>
              <a:t>Anabolism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Constantia"/>
              </a:rPr>
              <a:t>;</a:t>
            </a:r>
            <a:r>
              <a:rPr b="1" lang="en-GB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بناء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nstructing </a:t>
            </a:r>
            <a:r>
              <a:rPr b="0" lang="ar-SA" sz="1600" spc="-1" strike="noStrike">
                <a:solidFill>
                  <a:srgbClr val="0000ff"/>
                </a:solidFill>
                <a:latin typeface="Constantia"/>
              </a:rPr>
              <a:t>بناء/تكوين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 of cells such as proteins and nucleic ac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Enzymes are important to metabolism because they act as catalysts to allow chemical reactions to proceed quickly and efficiently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785960" y="866880"/>
            <a:ext cx="535788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3: Animal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74640" y="907560"/>
            <a:ext cx="360972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</a:rPr>
              <a:t>Metabolism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الأيض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46836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Cat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هد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4923000" y="3981600"/>
            <a:ext cx="3322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Anabolism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بناء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547640" y="164952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Metabolism is the chemical reactions that occur in living organisms to maintain their life,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ow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eprodu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2"/>
          <p:cNvGrpSpPr/>
          <p:nvPr/>
        </p:nvGrpSpPr>
        <p:grpSpPr>
          <a:xfrm>
            <a:off x="2124000" y="2778120"/>
            <a:ext cx="4537080" cy="1225440"/>
            <a:chOff x="2124000" y="2778120"/>
            <a:chExt cx="4537080" cy="1225440"/>
          </a:xfrm>
        </p:grpSpPr>
        <p:sp>
          <p:nvSpPr>
            <p:cNvPr id="213" name="Line 15"/>
            <p:cNvSpPr/>
            <p:nvPr/>
          </p:nvSpPr>
          <p:spPr>
            <a:xfrm>
              <a:off x="4140000" y="2778120"/>
              <a:ext cx="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 flipH="1">
              <a:off x="2125080" y="3643200"/>
              <a:ext cx="453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7"/>
            <p:cNvSpPr/>
            <p:nvPr/>
          </p:nvSpPr>
          <p:spPr>
            <a:xfrm>
              <a:off x="212400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>
              <a:off x="6661080" y="364320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9"/>
          <p:cNvSpPr/>
          <p:nvPr/>
        </p:nvSpPr>
        <p:spPr>
          <a:xfrm>
            <a:off x="468360" y="46864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break down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large molecules to provide energy and components needed for anabol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4716360" y="468648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Arial"/>
              </a:rPr>
              <a:t>constructive processe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that uses energy formed by catabolism to synthesize complex molecules for make up cellular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123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Key Biomolecules In Metabolism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جزيئات الحيوية الأساسية في الأيض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ost of the structures that make up animals, plants and microbes are made from three basic types of molecul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d lipids (often called fats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s these molecules are important for life, metabolism focuses on utilizing these molecules in two way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in the construction of cells and tissue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تكوين الخلايا والأنسجة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or breaking them down and using them as a source of energy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كمصدر للطاقة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se macromolecules are essential parts of all living organism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1912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nstantia"/>
              </a:rPr>
              <a:t>1- Proteins: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e made 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mino aci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rranged in a linear chain and joined together by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eptide bond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any proteins are the enzymes that catalyz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ُسهِّـل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chemical reactions in metabol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ther proteins have structur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ركيب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mechanical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يكانيكي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unctions, such as the proteins that form the cytoskelet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eins are also important in cell signall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شارات الخلو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immune respons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إستجابات المناع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ctive transport across membran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النقل النشط خلال الأغش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4857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Constantia"/>
              </a:rPr>
              <a:t>2- Lip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omposed of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three fatty acid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lycerol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construc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كوِّن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teroids such as cholesterol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3- Carbohydrat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straight-chain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aldehydes or keton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with many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hydroxyl group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Carbohydrat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re the most abundant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الأكثر توفرا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biological molecules, and found as storage for producing energy (e.g. glycogen) and structural components (cellulose in plants, chitin in animal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The basic carbohydrate units are called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and include galactose, fructose, and gluco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Mono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can be linked together to form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polysaccharid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50920" y="980640"/>
            <a:ext cx="874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4- Coenzymes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إنزيمات مساعدة/مُعِين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etabolism involves chemical reactions, most involve metabolic intermediat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سطاء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oenzymes are therefore continuously being mad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تتكون باستمرار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consumed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تستهلك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then recycle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ويعاد تكوين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ne central coenzyme is adenosine triphosphat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the energy source of cells. and used to transfer chemical energy between different chemical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cts as a bridge betwee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sm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with catabolic reactions generating ATP and anabolic reactions consuming i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 also serves as a carrier of phosphate groups in phosphorylation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تفاعلات الفسفرة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5- Vitami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Vitamin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an organic compound needed in small quantities that cannot be made in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n human nutrition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most vitamins function a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oenzyme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fter modific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Nicotinamide adenine dinucleotide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, a derivativ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شتق م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vitamin B3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(niacin), is an important coenzyme that acts as a hydrogen acceptor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</a:rPr>
              <a:t>مستقبل للهيدروجين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exists in two related forms in the cell,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</a:t>
            </a:r>
            <a:r>
              <a:rPr b="1" lang="en-GB" sz="2000" spc="-1" strike="noStrike" baseline="30000">
                <a:solidFill>
                  <a:srgbClr val="0000ff"/>
                </a:solidFill>
                <a:latin typeface="Constantia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form is more important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at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, while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NADP+/NAD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s used in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anabol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6- Minerals &amp; Cofacto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)- elem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y are inorganic elements play important roles in metabolism; (e.g. sodium and potassium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About 99%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of mammals' mas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</a:rPr>
              <a:t>وزن الجسم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re the elements carbon, nitrogen, calcium, sodium, chlorine, potassium, hydrogen, phosphorus, oxygen and sulfu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organic compounds (proteins, lipids and carbohydrates) contain the majority of the carbon and nitrogen and most of the oxygen and hydrogen is present as wat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)- io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most important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inorganic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ons are sodium, potassium, calcium, magnesium, chloride, phosphate, and the organic ion bicarbonat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se Ions are also critical for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nerv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muscle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18920" y="580680"/>
            <a:ext cx="5543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Catabolism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هدم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&amp; Anabolism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بناء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3760" y="1496880"/>
            <a:ext cx="8435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a)- Cat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metabolic processes that break down large molecul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The purpos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هدف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of the catabolic reactions is to provide the energy and components needed by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n animals these reactions involve complex organic molecules being broken down to simpler molecules, such as carbon dioxide and wat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nstantia"/>
              </a:rPr>
              <a:t>b)- Anabolism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It is the constructiv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البنائي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metabolic processes where the energy released by catabolism is used to synthesize 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لتكوين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complex molecules from small and simple component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</a:rPr>
              <a:t>Anabolism involves three basic stag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production of components such as amino acids, monosaccharides, and fatty acids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ir activation into reactive forms using energy from ATP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the assembly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</a:rPr>
              <a:t>تركيب/تشكيل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of these </a:t>
            </a:r>
            <a:r>
              <a:rPr b="1" lang="en-GB" sz="1600" spc="-1" strike="noStrike">
                <a:solidFill>
                  <a:srgbClr val="0000ff"/>
                </a:solidFill>
                <a:latin typeface="Constantia"/>
              </a:rPr>
              <a:t>components</a:t>
            </a:r>
            <a:r>
              <a:rPr b="1" lang="ar-SA" sz="1600" spc="-1" strike="noStrike">
                <a:solidFill>
                  <a:srgbClr val="0000ff"/>
                </a:solidFill>
                <a:latin typeface="Constantia"/>
              </a:rPr>
              <a:t> into complex molecules such as proteins, polysaccharides and lip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35:35Z</dcterms:created>
  <dc:creator>aalii</dc:creator>
  <dc:description/>
  <dc:language>en-US</dc:language>
  <cp:lastModifiedBy>User</cp:lastModifiedBy>
  <dcterms:modified xsi:type="dcterms:W3CDTF">2015-03-10T17:59:01Z</dcterms:modified>
  <cp:revision>62</cp:revision>
  <dc:subject/>
  <dc:title>Principals of General Zoology (Zoo-103)</dc:title>
</cp:coreProperties>
</file>