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D7E-A8E3-42C2-81A6-23620C34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5D1-5125-455E-8459-FB97D472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F0E-8457-4057-A998-969C6A17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33B-0D13-4C92-944F-2BBD516E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A5CF-6F63-4173-A031-36CC3514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AE28-1D99-4C43-AA4F-08B228AD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CCF7-1A82-4A49-9EF6-267A1BCA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F154-1DF3-414A-92A2-BE13C1CD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763C-EC22-4858-AA26-E9D3BBEA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462F-8AD8-4024-8A2B-1BEB2110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770B-0C52-4239-89A7-F0F65520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999-C909-4A29-9E08-E628E178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6BE4-81FF-4646-AE44-0B674D4E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D8B6-2353-46C9-8142-CEBF0F6C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9859-EE92-47A9-9939-8E07D7F8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7B6A-0B06-4EA5-A041-DC52342C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232E-E8AE-4A96-99C0-33AE161B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15DC3-6422-48DE-A929-61C5756B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E450-A03F-4D6F-B16E-17787785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3D58E-BCD1-414F-BD91-69C10E1B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5FB5E-A70C-4151-8813-E781C7C6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5A44F-EB2E-491A-8611-9A7270CF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286-F4ED-4978-BE04-1D3765BF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7BBB5-99FC-43A6-A029-3784DC40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FAF8F-3828-4CE9-BEA2-2AE1F485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460D4-DC3B-4D07-A280-9A5482CC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7173F-4C6D-491A-9113-0DCB9053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74FA1-8A6B-4AAB-9EBE-DA07911F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23FCB-A9E5-4E8C-B866-C5C5E4ED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206CC-A14D-41B6-9702-17708009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8E545-CE04-48AB-986E-9704A811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171BC-F8EA-4E9F-A63E-4E0252D3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C18A7-24D4-44C7-9FA5-A8747157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B6C-DB66-4BA6-AD91-D3754D58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9F785-A235-43A8-AF27-4074C9F2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46FDB-9783-4715-A3C1-F163E44D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3D1F5-19B2-48DF-9685-54271977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071D4-69A1-4DA0-B53B-B2B81E00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30F06-8E2D-4184-8E78-E919ECA4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24370-DC6D-427F-A82F-DE24759A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D91CC-43E6-4F11-8F06-3CC4C7D1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7FF35-74CF-4491-8248-0781E0BF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FD58B-5598-4187-8AEB-4856A4DD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46C3-6CA3-4642-B4F2-5E8AF33F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94D-BEEE-46ED-8BA9-C872CC46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3FE-CAAA-4FDC-9677-D022D8B8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D22-19CD-456C-9FC9-B50F61F3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F902-4010-4F87-93C5-5FDC9710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EB67-0F3F-4065-BAC4-3F0FDBEA788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1B38-7E8F-45FA-9EB6-7E066D442B4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33BB-1EBF-4E2C-9799-8FF5D3430BE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3107-D64A-4657-B707-582749E23A7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85680" y="1795320"/>
            <a:ext cx="374508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أيْض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360" y="255096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etabolism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e set of chemical reactions that occur in living organisms to maintain lif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حافظ على الحيا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 These processes allow organisms to grow and reproduc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تناسل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, maintain their structures, and respond to their environm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Metabolism is usually divided into two categori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Cat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هدم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breaks down organic matter, for example to  produce energy in cellular respiration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An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بناء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nstructing </a:t>
            </a:r>
            <a:r>
              <a:rPr b="0" lang="ar-SA" sz="1600" spc="-1" strike="noStrike">
                <a:solidFill>
                  <a:srgbClr val="0000ff"/>
                </a:solidFill>
                <a:latin typeface="Constantia"/>
              </a:rPr>
              <a:t>بناء/تكوين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 of cells such as proteins and nucleic ac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Enzymes are important to metabolism because they act as catalysts to allow chemical reactions to proceed quickly and efficiently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785960" y="866880"/>
            <a:ext cx="535788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3: Animal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74640" y="907560"/>
            <a:ext cx="360972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الأيض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46836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Cat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هد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492300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An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بناء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1547640" y="164952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Metabolism is the chemical reactions that occur in living organisms to maintain their life,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ow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eprodu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2"/>
          <p:cNvGrpSpPr/>
          <p:nvPr/>
        </p:nvGrpSpPr>
        <p:grpSpPr>
          <a:xfrm>
            <a:off x="2124000" y="2778120"/>
            <a:ext cx="4537080" cy="1225440"/>
            <a:chOff x="2124000" y="2778120"/>
            <a:chExt cx="4537080" cy="1225440"/>
          </a:xfrm>
        </p:grpSpPr>
        <p:sp>
          <p:nvSpPr>
            <p:cNvPr id="213" name="Line 15"/>
            <p:cNvSpPr/>
            <p:nvPr/>
          </p:nvSpPr>
          <p:spPr>
            <a:xfrm>
              <a:off x="4140000" y="2778120"/>
              <a:ext cx="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 flipH="1">
              <a:off x="2125080" y="3643200"/>
              <a:ext cx="453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7"/>
            <p:cNvSpPr/>
            <p:nvPr/>
          </p:nvSpPr>
          <p:spPr>
            <a:xfrm>
              <a:off x="212400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8"/>
            <p:cNvSpPr/>
            <p:nvPr/>
          </p:nvSpPr>
          <p:spPr>
            <a:xfrm>
              <a:off x="666108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9"/>
          <p:cNvSpPr/>
          <p:nvPr/>
        </p:nvSpPr>
        <p:spPr>
          <a:xfrm>
            <a:off x="468360" y="46864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break down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large molecules to provide energy and components needed for anabol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4716360" y="468648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constructive processe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that uses energy formed by catabolism to synthesize complex molecules for make up cellular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123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Key Biomolecules In Metabolism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جزيئات الحيوية الأساسية في الأيض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ost of the structures that make up animals, plants and microbes are made from three basic types of molecul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d lipids (often called fats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s these molecules are important for life, metabolism focuses on utilizing these molecules in two way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in the construction of cells and tissue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تكوين الخلايا والأنسجة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or breaking them down and using them as a source of energy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كمصدر للطاق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se macromolecules are essential parts of all living organism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1912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Important biochemic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nstantia"/>
              </a:rPr>
              <a:t>1- Proteins: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e made 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mino aci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ranged in a linear chain and joined together by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eptide bon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any proteins are the enzymes that catalyz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ُسهِّـل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chemical reactions in metabol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ther proteins have structur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ركيب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mechanic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يكانيكي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unctions, such as the proteins that form the cytoskelet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eins are also important in cell signall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شارات الخلو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immune respons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ستجابات المناع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ctive transport across membran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نقل النشط خلال الأغش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Rectangle 2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4857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Constantia"/>
              </a:rPr>
              <a:t>2- Lip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omposed of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three fatty ac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lycerol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construc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كوِّن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art of the cell membra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are a source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teroids such as cholesterol are another major class of lipids that are made in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3- Carbohydrat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straight-chain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aldehydes or keton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with many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hydroxyl group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that can exist as straight chains or rin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the most abundan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الأكثر توفرا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biological molecules, and found as storage for producing energy (e.g. glycogen) and structural components (cellulose in plants, chitin in animal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 basic carbohydrate units are calle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include galactose, fructose, and gluco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an be linked together to form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poly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50920" y="980640"/>
            <a:ext cx="874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4- Coenzymes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إنزيمات مساعدة/مُعِين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etabolism involves chemical reactions, most involve metabolic intermediat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سطاء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oenzymes are therefore continuously being mad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تكون باستمرار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consumed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تستهلك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then recycle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يعاد تكوين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ne central coenzyme is adenosine triphosphat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the energy source of cells. and used to transfer chemical energy between different chemical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cts as a bridge betwee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with catabolic reactions generating ATP and anabolic reactions consuming i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 also serves as a carrier of phosphate groups in phosphorylation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فاعلات الفسفر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5- Vitami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Vitamin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an organic compound needed in small quantities that cannot be made in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n human nutrition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ost vitamins function a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fter modific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Nicotinamide adenine dinucleotid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a derivativ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شتق م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vitamin B3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(niacin), is an important coenzyme that acts as a hydrogen acceptor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ستقبل للهيدروجي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exists in two related forms in the cell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form is more important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, whil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+/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used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6- Minerals &amp; Cofacto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)- elem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y are inorganic elements play important roles in metabolism; (e.g. sodium and potassium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About 99%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of mammals' mas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وزن الجسم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re the elements carbon, nitrogen, calcium, sodium, chlorine, potassium, hydrogen, phosphorus, oxygen and sulfu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organic compounds (proteins, lipids and carbohydrates) contain the majority of the carbon and nitrogen and most of the oxygen and hydrogen is present as wat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)- io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most important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inorganic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ons are sodium, potassium, calcium, magnesium, chloride, phosphate, and the organic ion bicarbonat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se Ions are also critical for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nerv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muscl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18920" y="580680"/>
            <a:ext cx="5543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Catabolism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هدم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&amp; Anabolism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بناء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3760" y="1496880"/>
            <a:ext cx="8435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a)- Cat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metabolic processes that break down large molecul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The purpos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هدف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of the catabolic reactions is to provide the energy and components needed by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n animals these reactions involve complex organic molecules being broken down to simpler molecules, such as carbon dioxide and wat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b)- An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constructiv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بنائي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metabolic processes where the energy released by catabolism is used to synthesize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لتكوين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complex molecules from small and simple component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Anabolism involves three basic stag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production of components such as amino acids, monosaccharides, and fatty acids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ir activation into reactive forms using energy from ATP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assembly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تركيب/تشكيل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of these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into complex molecules such as proteins, polysaccharides and lip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35:35Z</dcterms:created>
  <dc:creator>aalii</dc:creator>
  <dc:description/>
  <dc:language>en-US</dc:language>
  <cp:lastModifiedBy>User</cp:lastModifiedBy>
  <dcterms:modified xsi:type="dcterms:W3CDTF">2015-03-10T17:59:01Z</dcterms:modified>
  <cp:revision>62</cp:revision>
  <dc:subject/>
  <dc:title>Principals of General Zoology (Zoo-103)</dc:title>
</cp:coreProperties>
</file>