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407-B3C8-4D0D-BC72-04D7F121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212-60CB-4A53-9209-5C7DB21F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B61-879A-4275-B45D-D7AC3B24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94B-72B0-4E14-A868-42612CF3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25D5-5746-48C2-9854-91D3EF4C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4BF3-C52B-4A56-AA8C-139A736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75F4-FEA6-4F5F-BFD5-4B178BB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36EC-BBA1-46F7-9F89-5D8347E9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FB17-8857-4D06-A80D-EACDDAC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C841-2DB2-400C-8C99-10B268C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6AFC-5990-4AED-A09D-7EB55369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2F7-5C6E-474A-9BDB-A30026D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E673-2BB7-4FAE-A095-AE34E5C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BBD4-A0AC-408B-9495-E408294B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6F9-7FD2-492F-A709-4E9EEB1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8F1A-1C06-4CCC-ADB3-E1FA1DC8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29C2-AF0C-4EB6-8526-061D652D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E796-0858-4171-981D-C6CD9FF5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FE06-8807-41B7-A6E6-5523D8E9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39FA-C548-4FD1-9916-1386017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45C1-8DB0-4FD4-AC87-03AA931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0214-D89C-4930-8F3E-7702CDB7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030-2A07-4C8D-83FD-55240E6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50DE-8B47-4164-8AEE-0E8A748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5EF2-92F7-41AF-9139-4A49A46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B86C-43F6-4661-A6B2-18C7B65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8C65-957F-41EC-8B78-FD7EC5C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9592-0FAF-4506-8D48-ABABBB42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A78D-497D-4E8A-8C09-2805F93A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8F0A-ACF0-4E4E-B603-F0D84DA5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3CCB-E4D6-4482-A2B5-66058DB5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42C6-7B59-45DF-99BB-1819E3F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8DB7-E3CA-43B8-BAF1-7A15DE9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A04-D5F0-4585-B8C6-2165ABE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6FB9-F388-41F5-A3D9-52AD19DF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EAED-776F-4389-9AFD-4E448BDD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C4DF-5EC6-40B6-9841-A9BC4B25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B070-E177-4E86-BF8C-C996706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7482-D9AD-405F-912A-81D6A68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656A-D428-4B81-A0C9-2106D5E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D03F-2DD2-447C-8F6D-3FEBF30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9FC5-3D1C-4583-9E16-9588BB20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1EBD-7E76-4DDE-97AD-63F59550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123-6959-4C97-B0E5-AD5A4EBB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8F9-BD70-4372-AA04-2D2C4730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18E-7E39-428D-A3BD-90EDE0F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FE8-175F-466D-9056-71A9C20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99B-85B4-46EC-B8CF-57447B9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021-81A6-4AAA-9304-FF28A7D7174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9E4-E422-4AAD-B61A-F74E141466C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1DC8-D364-4418-AC2C-DB3A2B0029A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5F84-712B-46FF-83DC-CE0666BC94C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543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Lectu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23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Constantia"/>
              </a:rPr>
              <a:t>Metabolism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الأيْض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gro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and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reproduc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Cat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large to small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An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بناء/تكوين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small to large)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1- Proteins: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made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mino acid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y proteins are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تركيب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ميكانيكية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nctions, such as the proteins that form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also important i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 signalling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immune respons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ctive transport across membran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30040" y="40464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2- Lipi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ero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such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olest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- Carbohydr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straight-chain with man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orag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for producing energy (e.g. glycogen)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nent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ul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plants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it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includ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ala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fru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uc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40464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4- Coenzym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9680" y="404280"/>
            <a:ext cx="87346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5-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Vitam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3357720"/>
            <a:ext cx="8785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6- Miner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en-GB" sz="1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bout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99%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زن الجسم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6:08Z</dcterms:modified>
  <cp:revision>88</cp:revision>
  <dc:subject/>
  <dc:title>Principals of General Zoology (Zoo-103)</dc:title>
</cp:coreProperties>
</file>