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64C-7EE7-4E7B-910B-015996BE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E52-BBD8-4AE9-9678-B5F23FB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04E-3D6F-4F10-A930-9343E848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52F-6071-4FDC-A596-F50CB798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A283-529B-4581-9A83-1226614E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B2D2-2D0F-49F7-B46B-A0297A34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321-3759-461C-AA5B-59AB8F18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D013-3207-4462-AF23-B4B7FAE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070-AE01-4610-9702-0B9639B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6B70-4CC9-45AF-A5AD-C5C1DDB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4C0D-C05D-4BE8-8AAE-B9596BF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F4C-774A-46EE-AD11-51E89DF5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0CFD-77D5-442F-9FA3-95B4E85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EA4-0AE3-4B69-8454-4E19EF27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AE9A-7393-4ECE-BB62-CEDE4543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EF72-1DF8-4D2C-8A80-790E1A84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3458-A96C-431C-B71F-AFFE7778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B46F-1949-49ED-B62E-3E497BB4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0387-1B9E-4535-88F4-ECE15C36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0563-8266-47F3-8995-B08E3167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6DC1-7272-4BCC-8859-6B25447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B581-6EE0-43D4-A9EB-56123A21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D63-5969-4AFD-B945-2FE4E4B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A60B-10CA-43D4-8F45-F01E3A54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28E5-9690-4952-B698-B4F5D6A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9FC6-171B-4CC8-AF20-3A9FDB96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92F0-E4DD-47C3-A94E-67571D40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5580-9386-4EF8-A683-6BF279C0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6C26-1BD7-4218-A009-87EA4BA4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29D5-D476-4076-93C6-A3325636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AE89-7B98-4B26-954D-D57A6F27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8F97-3650-42FB-8865-29D857D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BEF1-5D12-4D72-BF4C-074CB96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EC9-5633-49BC-8E5C-3CA4DF0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F64D-BEEA-4471-8B27-1916E45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4FF7-7C00-4B27-A961-AC575B63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CCCD-D011-45B8-AC3A-A6406B3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E4A7-41FC-45D5-BF61-BC118AE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C231-AA0E-4550-B946-A919A2F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2FDA-3020-4756-BAA2-0E11549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D449-90B6-477A-9236-25ADAC78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31B5-35DA-441D-8129-189FF4FA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0E42-81AD-4218-AB4A-807D0BC9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CAC-CA6B-489F-A49C-AA1EAD4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E89-7CD2-436D-9CC3-53425E9C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B20-0C1B-481E-8AC5-CA36DB6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EB0-D4B8-4A67-959A-2B2AEE7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092-5DBE-46DF-B2F2-F7D2B36D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C9DE-B85B-462D-9960-BCEDE185A3C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2724-CA7E-4B34-8D11-23DBD6E9697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5F8-4C74-48AF-A436-75870FB3EE4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D279-D85F-4EDD-9C54-595C374066C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5543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Lectur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23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ar-SA" sz="3200" spc="-1" strike="noStrike" u="sng">
                <a:solidFill>
                  <a:srgbClr val="0000ff"/>
                </a:solidFill>
                <a:uFillTx/>
                <a:latin typeface="Constantia"/>
              </a:rPr>
              <a:t>Metabolism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الأيْض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gro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and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reproduc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Cat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large to small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An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بناء/تكوين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small to large)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1- Proteins: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made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mino acid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ny proteins are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تركيب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ميكانيكية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nctions, such as the proteins that form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also important i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 signalling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immune respons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ctive transport across membran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30040" y="40464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2- Lipi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ero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such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olest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- Carbohydr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straight-chain with man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orag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for producing energy (e.g. glycogen)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ruc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nent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ul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plants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it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includ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ala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fru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uc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40464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4- Coenzym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9680" y="404280"/>
            <a:ext cx="87346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5-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Vitam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79280" y="3357720"/>
            <a:ext cx="8785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6- Miner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0" lang="en-GB" sz="1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bout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99%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زن الجسم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6:08Z</dcterms:modified>
  <cp:revision>88</cp:revision>
  <dc:subject/>
  <dc:title>Principals of General Zoology (Zoo-103)</dc:title>
</cp:coreProperties>
</file>