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70C4-FD24-4B07-8667-00B18560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A046-1523-41A6-8598-F9F63358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F28E-7CBE-40D1-ACD7-BBC819E7C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2C3F-D2B6-4DA8-9702-6E6DB0F39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9BC2-1B3B-42BF-8164-760CE0D1E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48A7-6409-4FBD-A4A3-58C960F6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CF6C-AE26-423F-B515-E9D4E8C9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1AEA-012F-49F6-B8F2-7BC54B74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ACC2-F3B2-49BC-8BC7-07E6AC68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EE0B-32C9-4A79-90E9-652131CA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C705-6F51-4727-98B9-C57A9EEF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4B73-E98C-4263-8BD8-C2238973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2166-6F7D-4824-854B-315D09ED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D926-57F9-4F39-9C52-62C43D33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2DB9-9E06-4868-BB4B-7D704340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DA88-28F2-4323-9781-2EFEB225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33B4-C113-4E76-8A06-A687DF79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74877-22BF-487D-82CA-21EC6F7A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5F604-426B-4EF2-9393-1DEBA30A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AB89C-8CC3-4B00-9388-4E7AED1F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967A6-BFAA-43AE-95DD-F022FC69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7D374-3AFE-4DF5-BBC7-10DA26A7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9592-CDDA-478E-ADD5-E8BEA9AA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BDB93-96BE-4084-975A-B23441F0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96C49-FF62-4F55-AD00-6E317854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F2419-EAFC-4B41-90D6-5891A23B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E5F3C-63C5-4CE0-9EFD-DDEDB7E2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567C3-6101-4C1C-A00C-4B133838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B670E-8D13-48A8-922A-1F414263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48013-9CAA-405B-8AF3-FC12FFFF6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F4AB3-D0F9-4184-8F49-82B5CE8F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24C12-AAED-4B35-A3DE-9A08C043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60671-43AB-4F36-8B6E-9F877CDB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C07A-DE1A-4486-8F34-CA707458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F5457-7DD0-45AE-BA65-D6E35728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A4716-58B3-4BC0-8098-22925A86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12566-7CE3-46FE-AFE9-4D33229B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9958D-4067-4612-96D7-FC15277B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9F7B1-47AF-4703-A40D-05C34443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BB11E-AD73-408A-B2DD-50C3CC1A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B002B-E673-4478-9BEA-9AC914E1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4E34B-966A-464D-BAC8-0DA10316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21325-ABAF-46C4-8E90-D61E6ECE4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443A-7E1F-4DD4-9D1F-78D81954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1E36-699D-4CBF-A932-7D938585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B853-EC5E-4BA7-9BF7-6B45DE90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5721-2647-44CB-96A6-C3045BF8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2EEF-7198-4C01-8782-888FB6AF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70C1-81BF-4053-8A7A-48F9127A4534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8BDC-831A-4DB5-BCB2-08A5771BA0DB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A575-AF13-4D5B-A115-7F35B08C82AC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23ED-00A6-440F-B250-0E3533D369EE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68000" y="333360"/>
            <a:ext cx="55436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onstantia"/>
              </a:rPr>
              <a:t>Lectur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23: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onstantia"/>
              </a:rPr>
              <a:t> </a:t>
            </a:r>
            <a:r>
              <a:rPr b="1" lang="ar-SA" sz="3200" spc="-1" strike="noStrike" u="sng">
                <a:solidFill>
                  <a:srgbClr val="0000ff"/>
                </a:solidFill>
                <a:uFillTx/>
                <a:latin typeface="Constantia"/>
              </a:rPr>
              <a:t>Metabolism</a:t>
            </a:r>
            <a:r>
              <a:rPr b="1" lang="ar-SA" sz="3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ar-SA" sz="3200" spc="-1" strike="noStrike">
                <a:solidFill>
                  <a:srgbClr val="000000"/>
                </a:solidFill>
                <a:latin typeface="Constantia"/>
              </a:rPr>
              <a:t>الأيْض</a:t>
            </a:r>
            <a:r>
              <a:rPr b="1" lang="ar-SA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07640" y="1196640"/>
            <a:ext cx="8785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Metabolism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is the set of chemical reactions that occur in living organisms to maintain lif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 to </a:t>
            </a:r>
            <a:r>
              <a:rPr b="0" lang="en-GB" sz="2400" spc="-1" strike="noStrike">
                <a:solidFill>
                  <a:srgbClr val="ff0000"/>
                </a:solidFill>
                <a:latin typeface="Constantia"/>
                <a:ea typeface="Arial"/>
              </a:rPr>
              <a:t>grow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 and to </a:t>
            </a:r>
            <a:r>
              <a:rPr b="0" lang="en-GB" sz="2400" spc="-1" strike="noStrike">
                <a:solidFill>
                  <a:srgbClr val="ff0000"/>
                </a:solidFill>
                <a:latin typeface="Constantia"/>
                <a:ea typeface="Arial"/>
              </a:rPr>
              <a:t>reproduc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Metabolism is usually divided into two categori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Constantia"/>
              </a:rPr>
              <a:t>Catabolism;</a:t>
            </a:r>
            <a:r>
              <a:rPr b="0" lang="en-GB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هدم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breaks down organic matter, for example to  produce energy in cellular respiration (</a:t>
            </a:r>
            <a:r>
              <a:rPr b="0" lang="en-GB" sz="2400" spc="-1" strike="noStrike">
                <a:solidFill>
                  <a:srgbClr val="ff3300"/>
                </a:solidFill>
                <a:latin typeface="Constantia"/>
              </a:rPr>
              <a:t>from large to small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GB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Constantia"/>
              </a:rPr>
              <a:t>Anabolism;</a:t>
            </a:r>
            <a:r>
              <a:rPr b="0" lang="en-GB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بناء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onstructing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بناء/تكوين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omponents of cells such as proteins and nucleic acids (</a:t>
            </a:r>
            <a:r>
              <a:rPr b="0" lang="en-GB" sz="2400" spc="-1" strike="noStrike">
                <a:solidFill>
                  <a:srgbClr val="ff3300"/>
                </a:solidFill>
                <a:latin typeface="Constantia"/>
              </a:rPr>
              <a:t>from small to large)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nzymes are important to metabolism because they act as catalysts to allow chemical reactions to proceed quickly and efficiently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50920" y="404640"/>
            <a:ext cx="86421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Important biochemical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alibri"/>
              </a:rPr>
              <a:t>1- Proteins: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4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roteins are made of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amino acids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rranged in a linear chain and joined together by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peptide bond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4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Many proteins are the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enzyme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that catalyze the chemical reactions in metabolis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4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ther proteins have structural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</a:rPr>
              <a:t>تركيبية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r mechanical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</a:rPr>
              <a:t>ميكانيكية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unctions, such as the proteins that form the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ytoskeleton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4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roteins are also important in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ell signalling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الإشارات الخلوية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immune response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الإستجابات المناعية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active transport across membrane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النقل النشط خلال الأغشية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Rectangle 217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30040" y="40464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alibri"/>
              </a:rPr>
              <a:t>2- Lipid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Lipid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composed of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three fatty acid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glycerol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molecu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y construct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تكوِّن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art of the cell membra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y are a source of energ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Steroid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such as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holesterol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are another major class of lipids that are made in cel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092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3- Carbohydrat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arbohydrate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are straight-chain with many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hydroxyl group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that can exist as straight chains or ring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arbohydrate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are the most abundant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الأكثر توفرا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biological molecules, and found as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storag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for producing energy (e.g. glycogen) and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structural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components (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ellulos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in plants,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hitin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in animal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 basic carbohydrate units are called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monosaccharide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and include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galactos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fructos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glucos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Monosaccharide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can be linked together to form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polysaccharide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250920" y="404640"/>
            <a:ext cx="8748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4- Coenzyme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إنزيمات مساعدة/مُعِين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Metabolism involves chemical reactions, most involve metabolic intermediate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وسطاء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oenzyme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ne central coenzyme is adenosine triphosphate (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), the energy source of cells. and used to transfer chemical energy between different chemical reactio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acts as a bridge between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atabolism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anabolism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, with catabolic reactions generating ATP and anabolic reactions consuming i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229680" y="404280"/>
            <a:ext cx="873468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5- </a:t>
            </a: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Vitamin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4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Vitamin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is an organic compound needed in small quantities that cannot be made in the cel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4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n human nutrition,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most vitamins function a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coenzymes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after modific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179280" y="3357720"/>
            <a:ext cx="87854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6- Miner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0000"/>
                </a:solidFill>
                <a:latin typeface="Constantia"/>
                <a:ea typeface="Majalla UI"/>
              </a:rPr>
              <a:t>  </a:t>
            </a:r>
            <a:r>
              <a:rPr b="0" lang="en-GB" sz="10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y are inorganic elements play important roles in metabolism; (e.g. sodium and potassiu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nstantia"/>
              </a:rPr>
              <a:t>About </a:t>
            </a:r>
            <a:r>
              <a:rPr b="0" lang="en-GB" sz="2400" spc="-1" strike="noStrike">
                <a:solidFill>
                  <a:srgbClr val="0000ff"/>
                </a:solidFill>
                <a:latin typeface="Calibri"/>
              </a:rPr>
              <a:t>99%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of mammals' mas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وزن الجسم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re the elements carbon, nitrogen, calcium, sodium, chlorine, potassium, hydrogen, phosphorus and oxy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8:35:35Z</dcterms:created>
  <dc:creator>aalii</dc:creator>
  <dc:description/>
  <dc:language>en-US</dc:language>
  <cp:lastModifiedBy>User</cp:lastModifiedBy>
  <dcterms:modified xsi:type="dcterms:W3CDTF">2016-04-24T05:56:08Z</dcterms:modified>
  <cp:revision>88</cp:revision>
  <dc:subject/>
  <dc:title>Principals of General Zoology (Zoo-103)</dc:title>
</cp:coreProperties>
</file>