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C2B-8D8A-4EE9-8C38-1CF7C109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963-451B-446D-9504-18027A5F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8C7-3CCE-4CC4-9983-5F413CA8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2DA-E670-4837-95B6-2C0827AD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1DFC-24C1-450E-B00E-7E74C083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370D-3C64-4A1E-96D9-475D037D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C1F6-F23C-4BFD-84B0-8CD2D06F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749D-0900-4283-8FB7-518A637B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00E8-864A-4CF3-8442-BADC34D5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6CB4-1D3B-4BCA-ABE8-9328443F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E44C-6F77-432B-AC36-35571244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8DD-CF09-4A60-B28F-C46654A6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BCA7-1F52-4FC4-8CA4-23CAB485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20D5-9D54-4E04-8AC8-40DBEBBE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92DE-281A-479F-B1BF-A51BAA9D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180D-47FE-47A4-8FBB-913690C5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C621-808D-46A4-AB72-2CC491E2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D7B3-B7C6-4156-8137-0792950D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25C4-1E0B-45D8-8147-C3D45266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4A68-E259-4113-A7EC-C1FB30A8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DA12-A1A4-4A22-BF36-A11F9672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FD7D2-8F15-456E-91C4-3DDBCFF8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8B6-6381-4493-847F-C7022A9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28417-22B1-4295-9B3D-EFC79F22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550E-5D5C-4683-8763-3022D13E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030A-F03B-4FA3-B6C2-43365E50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599E-9F93-4F36-9F71-F8955C53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022F-6408-4DD9-88A5-609D8F10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02B9-B73A-413B-B049-81749813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9DEA-48E1-4F5B-A87E-A124434B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B17B-C869-42BA-BAE9-6627D888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122CD-8EA4-4F48-A566-421E0A7F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4030F-E819-48C3-846B-7E467282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171-17CA-4492-9D75-438603F7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ACB40-2D29-42D0-8373-58C87633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69287-EA16-44A8-A021-CFAD7EDD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9531-F0CB-4955-8DDF-3E7BFEAE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2748A-BD4E-4A4B-8EAD-FF00B2A8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5FBF-AE3D-4202-A4BD-548F692F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A2CB-0317-4500-9CAA-DAE274AD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6BB39-D017-43FF-B781-837CF6DF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A3A34-6F61-4F46-98BE-D8AAC923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055F3-A054-4FD8-BDC4-5A430738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914-90AF-419D-8708-0A50011B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E96-B5FE-4F6B-9B0D-31D5C8FE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C7B-9DCC-489D-A89F-0827C9F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314-5FA4-49DC-B5BF-680A348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B31-8DEC-4A0F-994C-42C5E4F7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BDB0-3F57-49B6-A6A3-4D7951C5362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E37D-721E-448F-BE5B-EDCE4E13150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AC65-B016-4BF9-ACE8-3D35E2FFA14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DEF5-9327-4DC1-B333-EBDB263B8B9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68000" y="333360"/>
            <a:ext cx="55436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Lectur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23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1" lang="ar-SA" sz="3200" spc="-1" strike="noStrike" u="sng">
                <a:solidFill>
                  <a:srgbClr val="0000ff"/>
                </a:solidFill>
                <a:uFillTx/>
                <a:latin typeface="Constantia"/>
              </a:rPr>
              <a:t>Metabolism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الأيْض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7640" y="1196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to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gro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and to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reproduc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Catabolism;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 (</a:t>
            </a:r>
            <a:r>
              <a:rPr b="0" lang="en-GB" sz="2400" spc="-1" strike="noStrike">
                <a:solidFill>
                  <a:srgbClr val="ff3300"/>
                </a:solidFill>
                <a:latin typeface="Constantia"/>
              </a:rPr>
              <a:t>from large to small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Anabolism;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بناء/تكوين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 (</a:t>
            </a:r>
            <a:r>
              <a:rPr b="0" lang="en-GB" sz="2400" spc="-1" strike="noStrike">
                <a:solidFill>
                  <a:srgbClr val="ff3300"/>
                </a:solidFill>
                <a:latin typeface="Constantia"/>
              </a:rPr>
              <a:t>from small to large)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40464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1- Proteins: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teins are made of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mino acid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ranged in a linear chain and joined together by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ny proteins are th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hat catalyze the chemical reactions in metabol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تركيب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ميكانيكية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nctions, such as the proteins that form th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ytoskeleto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teins are also important in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ell signalling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immune respons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ctive transport across membran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30040" y="40464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2- Lipid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ero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such as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holestero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92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3- Carbohydra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straight-chain with many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orag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for producing energy (e.g. glycogen)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ructur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omponents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ellul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n plants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hiti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includ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alact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fruct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luc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920" y="404640"/>
            <a:ext cx="8748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4- Coenzym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29680" y="404280"/>
            <a:ext cx="87346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5-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Vitam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79280" y="3357720"/>
            <a:ext cx="8785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6- Miner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0" lang="en-GB" sz="1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bout </a:t>
            </a: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99%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زن الجسم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6-04-24T05:56:08Z</dcterms:modified>
  <cp:revision>88</cp:revision>
  <dc:subject/>
  <dc:title>Principals of General Zoology (Zoo-103)</dc:title>
</cp:coreProperties>
</file>