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0D5A7-C340-4FB0-9966-60782B582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17E54-9D5D-4315-95A1-A272E3404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92E5B-9BC7-4A47-AF59-CE9ADF445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07C1F-3919-48DE-A2A1-F3665EE4A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7C271-A83B-4E38-97D2-F82C3132F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75808-1448-4E82-A866-FD1972522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5FD53-F37F-4CB7-9BE2-A8E5B8F9F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91258-2AEF-423A-BC03-D6A320B55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104D3-C86C-4AB8-BBBF-11AEB52CB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6CFB4-D1CE-49DE-94B8-0632E56E6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AAD41-8094-436A-AC95-846A789D4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B5FC4-A198-4750-9574-B9B2F61A2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F504C-6C3B-4224-86A5-9614FE16E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E30BD-FD51-4D5F-A82D-439424B30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5E081-C202-4637-972D-5D36CE394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4139F-8DE2-426A-9F7C-CAA3A88A9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DA996-D838-479B-81F1-1D2CEF447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1E655F-62D5-49C9-802C-6552D9B19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B5DBDF-854C-4E07-B3A4-BCA24637E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27068A-B2E1-4124-8B3A-BF01478A0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C7F83C-5B34-472F-9AD0-C2B1ABD13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F87D1E-8B1D-49C1-9CD3-8315580BB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EEC8C-429F-42ED-B17A-6E8E953C4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37D565-F87C-49E0-9A73-2DC49B14B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AE6B1C-81D7-49AA-9B23-A74E3EA21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3914BD-FBB0-4F5A-827B-E483AA94E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04D95F-EEFB-4D19-9C7E-B3B9B2F6F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D880BF-FE05-46C8-9D36-AE9C0C8E8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D6E9DC-CD9F-431B-96B4-EFD1F06ED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FAF399-B8A2-4106-A795-04B72BF99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E9FD1E-CE63-43EE-B926-62FF37DEC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761850-5D40-4FD7-A810-CF0D61143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43643F-C3AC-4D28-B9D6-B9260C782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FA111-08EE-4195-A445-3120501AE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BD39E1-A560-4DE1-AABF-F6C297E0A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81A2C8-4624-44C0-9030-6B17BD71A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8533D6-F9E5-4CDF-83C3-E4AB1E2E1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1D771C-054B-4FF8-8A8D-A99DB2BE1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9EA732-3202-4F87-835C-DBFDE0C7A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12F747-6F0C-431F-85A8-D1DE0C43A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671148-5FFE-4A27-9B1E-7FF479D8E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749614-AE22-4BA6-93C2-39069F266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DA531F-14F9-4103-9CD6-9D317D289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B93A6-0CC5-489A-9475-DB18923BC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FB292-96A0-42D7-B0D7-7EFC89965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C8616-F8F3-45E7-B776-C4E9681E0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58A40-9308-469C-A3C9-ACFF1726D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1A3A1-EC41-463B-8EA2-1A590A362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64B76-E10C-4A37-A358-9D5BD30643F3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805A9-4818-4B67-92E0-C748DF09D89C}" type="slidenum">
              <a:rPr b="0" lang="ar-SA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A8666-B53A-427C-BF64-22B1F6D7655C}" type="slidenum">
              <a:rPr b="0" lang="ar-SA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433D6-B5A9-461F-9C06-D7B7829FFA64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785680" y="1795320"/>
            <a:ext cx="3745080" cy="6336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0000ff"/>
                </a:solidFill>
                <a:uFillTx/>
                <a:latin typeface="Calibri"/>
              </a:rPr>
              <a:t>Metabolism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</a:rPr>
              <a:t>الأيْض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68360" y="2550960"/>
            <a:ext cx="8229600" cy="40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22720" indent="-52272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Constantia"/>
              </a:rPr>
              <a:t>Metabolism</a:t>
            </a:r>
            <a:r>
              <a:rPr b="1" lang="ar-SA" sz="2000" spc="-1" strike="noStrike">
                <a:solidFill>
                  <a:srgbClr val="0000ff"/>
                </a:solidFill>
                <a:latin typeface="Constantia"/>
              </a:rPr>
              <a:t>:</a:t>
            </a:r>
            <a:r>
              <a:rPr b="1" lang="en-GB" sz="1800" spc="-1" strike="noStrike">
                <a:solidFill>
                  <a:srgbClr val="000000"/>
                </a:solidFill>
                <a:latin typeface="Constantia"/>
              </a:rPr>
              <a:t> is the set of chemical reactions that occur in living organisms to maintain life</a:t>
            </a:r>
            <a:r>
              <a:rPr b="1" lang="ar-SA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SA" sz="1600" spc="-1" strike="noStrike">
                <a:solidFill>
                  <a:srgbClr val="000000"/>
                </a:solidFill>
                <a:latin typeface="Constantia"/>
              </a:rPr>
              <a:t>يحافظ على الحياة</a:t>
            </a:r>
            <a:r>
              <a:rPr b="0" lang="ar-SA" sz="1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Constantia"/>
              </a:rPr>
              <a:t>. These processes allow organisms to grow and reproduce</a:t>
            </a:r>
            <a:r>
              <a:rPr b="1" lang="ar-SA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SA" sz="1600" spc="-1" strike="noStrike">
                <a:solidFill>
                  <a:srgbClr val="000000"/>
                </a:solidFill>
                <a:latin typeface="Constantia"/>
              </a:rPr>
              <a:t>يتناسل</a:t>
            </a:r>
            <a:r>
              <a:rPr b="0" lang="ar-SA" sz="1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Constantia"/>
              </a:rPr>
              <a:t>, maintain their structures, and respond to their environments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522720" indent="-5227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522720" indent="-52272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nstantia"/>
              </a:rPr>
              <a:t>Metabolism is usually divided into two categories: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522720" indent="-52272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nstantia"/>
            </a:endParaRPr>
          </a:p>
          <a:p>
            <a:pPr marL="522720" indent="-522720">
              <a:lnSpc>
                <a:spcPct val="9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Constanti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0000"/>
                </a:solidFill>
                <a:uFillTx/>
                <a:latin typeface="Constantia"/>
              </a:rPr>
              <a:t>Catabolism</a:t>
            </a:r>
            <a:r>
              <a:rPr b="1" lang="en-GB" sz="1600" spc="-1" strike="noStrike" u="sng">
                <a:solidFill>
                  <a:srgbClr val="ff0000"/>
                </a:solidFill>
                <a:uFillTx/>
                <a:latin typeface="Constantia"/>
              </a:rPr>
              <a:t>;</a:t>
            </a:r>
            <a:r>
              <a:rPr b="1" lang="en-GB" sz="16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1" lang="ar-SA" sz="16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1" lang="ar-SA" sz="1600" spc="-1" strike="noStrike">
                <a:solidFill>
                  <a:srgbClr val="000000"/>
                </a:solidFill>
                <a:latin typeface="Constantia"/>
              </a:rPr>
              <a:t>هدم</a:t>
            </a:r>
            <a:r>
              <a:rPr b="1" lang="en-GB" sz="1600" spc="-1" strike="noStrike">
                <a:solidFill>
                  <a:srgbClr val="0000ff"/>
                </a:solidFill>
                <a:latin typeface="Constantia"/>
              </a:rPr>
              <a:t>breaks down organic matter, for example to  produce energy in cellular respiration</a:t>
            </a:r>
            <a:r>
              <a:rPr b="1" lang="en-GB" sz="1600" spc="-1" strike="noStrike">
                <a:solidFill>
                  <a:srgbClr val="000000"/>
                </a:solidFill>
                <a:latin typeface="Constantia"/>
              </a:rPr>
              <a:t>.</a:t>
            </a:r>
            <a:r>
              <a:rPr b="1" lang="en-GB" sz="1600" spc="-1" strike="noStrike">
                <a:solidFill>
                  <a:srgbClr val="ff0000"/>
                </a:solidFill>
                <a:latin typeface="Constanti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522720" indent="-522720">
              <a:lnSpc>
                <a:spcPct val="90000"/>
              </a:lnSpc>
              <a:spcBef>
                <a:spcPts val="201"/>
              </a:spcBef>
              <a:buClr>
                <a:srgbClr val="0bd0d9"/>
              </a:buClr>
              <a:buSzPct val="95000"/>
              <a:buFont typeface="Constanti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marL="522720" indent="-522720">
              <a:lnSpc>
                <a:spcPct val="9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Constanti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0000"/>
                </a:solidFill>
                <a:uFillTx/>
                <a:latin typeface="Constantia"/>
              </a:rPr>
              <a:t>Anabolism</a:t>
            </a:r>
            <a:r>
              <a:rPr b="1" lang="en-GB" sz="1600" spc="-1" strike="noStrike" u="sng">
                <a:solidFill>
                  <a:srgbClr val="ff0000"/>
                </a:solidFill>
                <a:uFillTx/>
                <a:latin typeface="Constantia"/>
              </a:rPr>
              <a:t>;</a:t>
            </a:r>
            <a:r>
              <a:rPr b="1" lang="en-GB" sz="16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1" lang="ar-SA" sz="16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1" lang="ar-SA" sz="1600" spc="-1" strike="noStrike">
                <a:solidFill>
                  <a:srgbClr val="000000"/>
                </a:solidFill>
                <a:latin typeface="Constantia"/>
              </a:rPr>
              <a:t>بناء</a:t>
            </a:r>
            <a:r>
              <a:rPr b="1" lang="en-GB" sz="1600" spc="-1" strike="noStrike">
                <a:solidFill>
                  <a:srgbClr val="0000ff"/>
                </a:solidFill>
                <a:latin typeface="Constantia"/>
              </a:rPr>
              <a:t>constructing </a:t>
            </a:r>
            <a:r>
              <a:rPr b="0" lang="ar-SA" sz="1600" spc="-1" strike="noStrike">
                <a:solidFill>
                  <a:srgbClr val="0000ff"/>
                </a:solidFill>
                <a:latin typeface="Constantia"/>
              </a:rPr>
              <a:t>بناء/تكوين</a:t>
            </a:r>
            <a:r>
              <a:rPr b="1" lang="en-GB" sz="1600" spc="-1" strike="noStrike">
                <a:solidFill>
                  <a:srgbClr val="0000ff"/>
                </a:solidFill>
                <a:latin typeface="Constantia"/>
              </a:rPr>
              <a:t> </a:t>
            </a:r>
            <a:r>
              <a:rPr b="1" lang="en-GB" sz="1600" spc="-1" strike="noStrike">
                <a:solidFill>
                  <a:srgbClr val="0000ff"/>
                </a:solidFill>
                <a:latin typeface="Constantia"/>
              </a:rPr>
              <a:t>components of cells such as proteins and nucleic acids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522720" indent="-5227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522720" indent="-52272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nstantia"/>
              </a:rPr>
              <a:t>Enzymes are important to metabolism because they act as catalysts to allow chemical reactions to proceed quickly and efficiently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" name="Rectangle 2"/>
          <p:cNvSpPr/>
          <p:nvPr/>
        </p:nvSpPr>
        <p:spPr>
          <a:xfrm>
            <a:off x="1785960" y="866880"/>
            <a:ext cx="5357880" cy="561960"/>
          </a:xfrm>
          <a:prstGeom prst="rect">
            <a:avLst/>
          </a:prstGeom>
          <a:solidFill>
            <a:srgbClr val="20c9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Lecture 23: Animal physi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74640" y="907560"/>
            <a:ext cx="3609720" cy="490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0000ff"/>
                </a:solidFill>
                <a:uFillTx/>
                <a:latin typeface="Calibri"/>
              </a:rPr>
              <a:t>Metabolism</a:t>
            </a:r>
            <a:r>
              <a:rPr b="1" lang="ar-SA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2500" spc="-1" strike="noStrike">
                <a:solidFill>
                  <a:srgbClr val="000000"/>
                </a:solidFill>
                <a:latin typeface="Calibri"/>
              </a:rPr>
              <a:t>الأيض</a:t>
            </a:r>
            <a:r>
              <a:rPr b="1" lang="ar-SA" sz="2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Rectangle 12"/>
          <p:cNvSpPr/>
          <p:nvPr/>
        </p:nvSpPr>
        <p:spPr>
          <a:xfrm>
            <a:off x="468360" y="3981600"/>
            <a:ext cx="332244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Catabolism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الهدم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13"/>
          <p:cNvSpPr/>
          <p:nvPr/>
        </p:nvSpPr>
        <p:spPr>
          <a:xfrm>
            <a:off x="4923000" y="3981600"/>
            <a:ext cx="332244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Anabolism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البناء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14"/>
          <p:cNvSpPr/>
          <p:nvPr/>
        </p:nvSpPr>
        <p:spPr>
          <a:xfrm>
            <a:off x="1547640" y="1649520"/>
            <a:ext cx="511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(Metabolism is the chemical reactions that occur in living organisms to maintain their life, to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grow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and to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reproduce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Group 22"/>
          <p:cNvGrpSpPr/>
          <p:nvPr/>
        </p:nvGrpSpPr>
        <p:grpSpPr>
          <a:xfrm>
            <a:off x="2124000" y="2778120"/>
            <a:ext cx="4537080" cy="1225440"/>
            <a:chOff x="2124000" y="2778120"/>
            <a:chExt cx="4537080" cy="1225440"/>
          </a:xfrm>
        </p:grpSpPr>
        <p:sp>
          <p:nvSpPr>
            <p:cNvPr id="213" name="Line 15"/>
            <p:cNvSpPr/>
            <p:nvPr/>
          </p:nvSpPr>
          <p:spPr>
            <a:xfrm>
              <a:off x="4140000" y="2778120"/>
              <a:ext cx="0" cy="865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Line 16"/>
            <p:cNvSpPr/>
            <p:nvPr/>
          </p:nvSpPr>
          <p:spPr>
            <a:xfrm flipH="1">
              <a:off x="2125080" y="3643200"/>
              <a:ext cx="4535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Line 17"/>
            <p:cNvSpPr/>
            <p:nvPr/>
          </p:nvSpPr>
          <p:spPr>
            <a:xfrm>
              <a:off x="2124000" y="3643200"/>
              <a:ext cx="0" cy="360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Line 18"/>
            <p:cNvSpPr/>
            <p:nvPr/>
          </p:nvSpPr>
          <p:spPr>
            <a:xfrm>
              <a:off x="6661080" y="3643200"/>
              <a:ext cx="0" cy="360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7" name="Text Box 19"/>
          <p:cNvSpPr/>
          <p:nvPr/>
        </p:nvSpPr>
        <p:spPr>
          <a:xfrm>
            <a:off x="468360" y="4686480"/>
            <a:ext cx="345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Is the </a:t>
            </a:r>
            <a:r>
              <a:rPr b="1" lang="ar-SA" sz="1800" spc="-1" strike="noStrike" u="sng">
                <a:solidFill>
                  <a:srgbClr val="ff0000"/>
                </a:solidFill>
                <a:uFillTx/>
                <a:latin typeface="Arial"/>
              </a:rPr>
              <a:t>break down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large molecules to provide energy and components needed for anabolic reaction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20"/>
          <p:cNvSpPr/>
          <p:nvPr/>
        </p:nvSpPr>
        <p:spPr>
          <a:xfrm>
            <a:off x="4716360" y="4686480"/>
            <a:ext cx="396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Is the </a:t>
            </a:r>
            <a:r>
              <a:rPr b="1" lang="ar-SA" sz="1800" spc="-1" strike="noStrike" u="sng">
                <a:solidFill>
                  <a:srgbClr val="ff0000"/>
                </a:solidFill>
                <a:uFillTx/>
                <a:latin typeface="Arial"/>
              </a:rPr>
              <a:t>constructive processes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 that uses energy formed by catabolism to synthesize complex molecules for make up cellular structur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457200" y="11235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Constantia"/>
              </a:rPr>
              <a:t>Key Biomolecules In Metabolism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</a:rPr>
              <a:t>الجزيئات الحيوية الأساسية في الأيض</a:t>
            </a:r>
            <a:r>
              <a:rPr b="1" lang="en-GB" sz="2400" spc="-1" strike="noStrike">
                <a:solidFill>
                  <a:srgbClr val="ff0000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-3808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Most of the structures that make up animals, plants and microbes are made from three basic types of molecule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-3808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Constant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Constantia"/>
              </a:rPr>
              <a:t>proteins,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Constant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Constantia"/>
              </a:rPr>
              <a:t>carbohydrates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Constant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Constantia"/>
              </a:rPr>
              <a:t>and lipids (often called fats)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-3808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Constanti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As these molecules are important for life, metabolism focuses on utilizing these molecules in two ways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-3808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-380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Constanti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ff"/>
                </a:solidFill>
                <a:latin typeface="Constantia"/>
              </a:rPr>
              <a:t>in the construction of cells and tissues </a:t>
            </a:r>
            <a:r>
              <a:rPr b="0" lang="ar-SA" sz="1600" spc="-1" strike="noStrike">
                <a:solidFill>
                  <a:srgbClr val="000000"/>
                </a:solidFill>
                <a:latin typeface="Constantia"/>
              </a:rPr>
              <a:t>تكوين الخلايا والأنسجة</a:t>
            </a:r>
            <a:r>
              <a:rPr b="1" lang="en-GB" sz="1600" spc="-1" strike="noStrike">
                <a:solidFill>
                  <a:srgbClr val="0000ff"/>
                </a:solidFill>
                <a:latin typeface="Constantia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-380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Constanti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ff"/>
                </a:solidFill>
                <a:latin typeface="Constantia"/>
              </a:rPr>
              <a:t>or breaking them down and using them as a source of energy</a:t>
            </a:r>
            <a:r>
              <a:rPr b="1" lang="ar-SA" sz="1600" spc="-1" strike="noStrike">
                <a:solidFill>
                  <a:srgbClr val="0000ff"/>
                </a:solidFill>
                <a:latin typeface="Constantia"/>
              </a:rPr>
              <a:t> </a:t>
            </a:r>
            <a:r>
              <a:rPr b="0" lang="ar-SA" sz="1600" spc="-1" strike="noStrike">
                <a:solidFill>
                  <a:srgbClr val="000000"/>
                </a:solidFill>
                <a:latin typeface="Constantia"/>
              </a:rPr>
              <a:t>كمصدر للطاقة</a:t>
            </a:r>
            <a:r>
              <a:rPr b="0" lang="ar-SA" sz="1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GB" sz="1600" spc="-1" strike="noStrike">
                <a:solidFill>
                  <a:srgbClr val="0000ff"/>
                </a:solidFill>
                <a:latin typeface="Constanti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-3808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-3808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These macromolecules are essential parts of all living organisms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519120" y="1197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Constantia"/>
              </a:rPr>
              <a:t>Important biochemicals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0000"/>
                </a:solidFill>
                <a:uFillTx/>
                <a:latin typeface="Constantia"/>
              </a:rPr>
              <a:t>1- Proteins: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Constantia"/>
              </a:rPr>
              <a:t>Proteins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 are made of </a:t>
            </a:r>
            <a:r>
              <a:rPr b="1" lang="en-GB" sz="2000" spc="-1" strike="noStrike">
                <a:solidFill>
                  <a:srgbClr val="0000ff"/>
                </a:solidFill>
                <a:latin typeface="Constantia"/>
              </a:rPr>
              <a:t>amino acids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 arranged in a linear chain and joined together by </a:t>
            </a:r>
            <a:r>
              <a:rPr b="1" lang="en-GB" sz="2000" spc="-1" strike="noStrike">
                <a:solidFill>
                  <a:srgbClr val="0000ff"/>
                </a:solidFill>
                <a:latin typeface="Constantia"/>
              </a:rPr>
              <a:t>peptide bonds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Many proteins are the enzymes that catalyze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</a:rPr>
              <a:t>تُسهِّـل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the chemical reactions in metabolism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Other proteins have structural 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</a:rPr>
              <a:t>تركيبية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or mechanical 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</a:rPr>
              <a:t>ميكانيكية</a:t>
            </a:r>
            <a:r>
              <a:rPr b="0" lang="en-GB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functions, such as the proteins that form the cytoskeleton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Proteins are also important in cell signalling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</a:rPr>
              <a:t>الإشارات الخلوية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, immune responses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</a:rPr>
              <a:t>الإستجابات المناعية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, active transport across membranes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</a:rPr>
              <a:t>النقل النشط خلال الأغشية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0" name="Rectangle 217"/>
          <p:cNvSpPr/>
          <p:nvPr/>
        </p:nvSpPr>
        <p:spPr>
          <a:xfrm>
            <a:off x="0" y="2819520"/>
            <a:ext cx="9144000" cy="360"/>
          </a:xfrm>
          <a:prstGeom prst="rect">
            <a:avLst/>
          </a:pr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457200" y="1485720"/>
            <a:ext cx="822960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ff0000"/>
                </a:solidFill>
                <a:uFillTx/>
                <a:latin typeface="Constantia"/>
              </a:rPr>
              <a:t>2- Lipid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Constantia"/>
              </a:rPr>
              <a:t>Lipids</a:t>
            </a:r>
            <a:r>
              <a:rPr b="1" lang="en-GB" sz="2400" spc="-1" strike="noStrike">
                <a:solidFill>
                  <a:srgbClr val="000000"/>
                </a:solidFill>
                <a:latin typeface="Constantia"/>
              </a:rPr>
              <a:t> composed of </a:t>
            </a:r>
            <a:r>
              <a:rPr b="1" lang="en-GB" sz="2400" spc="-1" strike="noStrike">
                <a:solidFill>
                  <a:srgbClr val="0000ff"/>
                </a:solidFill>
                <a:latin typeface="Constantia"/>
              </a:rPr>
              <a:t>three fatty acids</a:t>
            </a:r>
            <a:r>
              <a:rPr b="1" lang="en-GB" sz="2400" spc="-1" strike="noStrike">
                <a:solidFill>
                  <a:srgbClr val="000000"/>
                </a:solidFill>
                <a:latin typeface="Constantia"/>
              </a:rPr>
              <a:t> and </a:t>
            </a:r>
            <a:r>
              <a:rPr b="1" lang="en-GB" sz="2400" spc="-1" strike="noStrike">
                <a:solidFill>
                  <a:srgbClr val="0000ff"/>
                </a:solidFill>
                <a:latin typeface="Constantia"/>
              </a:rPr>
              <a:t>glycerol</a:t>
            </a:r>
            <a:r>
              <a:rPr b="1" lang="en-GB" sz="2400" spc="-1" strike="noStrike">
                <a:solidFill>
                  <a:srgbClr val="000000"/>
                </a:solidFill>
                <a:latin typeface="Constantia"/>
              </a:rPr>
              <a:t> molecul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nstantia"/>
              </a:rPr>
              <a:t>They construct </a:t>
            </a:r>
            <a:r>
              <a:rPr b="1" lang="ar-SA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</a:rPr>
              <a:t>تكوِّن</a:t>
            </a:r>
            <a:r>
              <a:rPr b="1" lang="en-GB" sz="2400" spc="-1" strike="noStrike">
                <a:solidFill>
                  <a:srgbClr val="000000"/>
                </a:solidFill>
                <a:latin typeface="Constantia"/>
              </a:rPr>
              <a:t>part of the cell membran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nstantia"/>
              </a:rPr>
              <a:t>They are a source of energy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nstantia"/>
              </a:rPr>
              <a:t>Steroids such as cholesterol are another major class of lipids that are made in cell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457200" y="98100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Constantia"/>
              </a:rPr>
              <a:t>3- Carbohydrate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Constantia"/>
              </a:rPr>
              <a:t>Carbohydrates</a:t>
            </a:r>
            <a:r>
              <a:rPr b="1" lang="en-GB" sz="2400" spc="-1" strike="noStrike">
                <a:solidFill>
                  <a:srgbClr val="000000"/>
                </a:solidFill>
                <a:latin typeface="Constantia"/>
              </a:rPr>
              <a:t> are straight-chain </a:t>
            </a:r>
            <a:r>
              <a:rPr b="1" lang="en-GB" sz="2400" spc="-1" strike="noStrike">
                <a:solidFill>
                  <a:srgbClr val="0000ff"/>
                </a:solidFill>
                <a:latin typeface="Constantia"/>
              </a:rPr>
              <a:t>aldehydes or ketones</a:t>
            </a:r>
            <a:r>
              <a:rPr b="1" lang="en-GB" sz="2400" spc="-1" strike="noStrike">
                <a:solidFill>
                  <a:srgbClr val="000000"/>
                </a:solidFill>
                <a:latin typeface="Constantia"/>
              </a:rPr>
              <a:t> with many </a:t>
            </a:r>
            <a:r>
              <a:rPr b="1" lang="en-GB" sz="2400" spc="-1" strike="noStrike">
                <a:solidFill>
                  <a:srgbClr val="0000ff"/>
                </a:solidFill>
                <a:latin typeface="Constantia"/>
              </a:rPr>
              <a:t>hydroxyl groups</a:t>
            </a:r>
            <a:r>
              <a:rPr b="1" lang="en-GB" sz="2400" spc="-1" strike="noStrike">
                <a:solidFill>
                  <a:srgbClr val="000000"/>
                </a:solidFill>
                <a:latin typeface="Constantia"/>
              </a:rPr>
              <a:t> that can exist as straight chains or ring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Constantia"/>
              </a:rPr>
              <a:t>Carbohydrates</a:t>
            </a:r>
            <a:r>
              <a:rPr b="1" lang="en-GB" sz="2400" spc="-1" strike="noStrike">
                <a:solidFill>
                  <a:srgbClr val="000000"/>
                </a:solidFill>
                <a:latin typeface="Constantia"/>
              </a:rPr>
              <a:t> are the most abundant </a:t>
            </a:r>
            <a:r>
              <a:rPr b="1" lang="ar-SA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</a:rPr>
              <a:t>الأكثر توفرا</a:t>
            </a:r>
            <a:r>
              <a:rPr b="1" lang="en-GB" sz="2400" spc="-1" strike="noStrike">
                <a:solidFill>
                  <a:srgbClr val="000000"/>
                </a:solidFill>
                <a:latin typeface="Constantia"/>
              </a:rPr>
              <a:t>biological molecules, and found as storage for producing energy (e.g. glycogen) and structural components (cellulose in plants, chitin in animals)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nstantia"/>
              </a:rPr>
              <a:t>The basic carbohydrate units are called </a:t>
            </a:r>
            <a:r>
              <a:rPr b="1" lang="en-GB" sz="2400" spc="-1" strike="noStrike">
                <a:solidFill>
                  <a:srgbClr val="0000ff"/>
                </a:solidFill>
                <a:latin typeface="Constantia"/>
              </a:rPr>
              <a:t>monosaccharides</a:t>
            </a:r>
            <a:r>
              <a:rPr b="1" lang="en-GB" sz="2400" spc="-1" strike="noStrike">
                <a:solidFill>
                  <a:srgbClr val="000000"/>
                </a:solidFill>
                <a:latin typeface="Constantia"/>
              </a:rPr>
              <a:t> and include galactose, fructose, and glucos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Constantia"/>
              </a:rPr>
              <a:t>Monosaccharides</a:t>
            </a:r>
            <a:r>
              <a:rPr b="1" lang="en-GB" sz="2400" spc="-1" strike="noStrike">
                <a:solidFill>
                  <a:srgbClr val="000000"/>
                </a:solidFill>
                <a:latin typeface="Constantia"/>
              </a:rPr>
              <a:t> can be linked together to form </a:t>
            </a:r>
            <a:r>
              <a:rPr b="1" lang="en-GB" sz="2400" spc="-1" strike="noStrike">
                <a:solidFill>
                  <a:srgbClr val="0000ff"/>
                </a:solidFill>
                <a:latin typeface="Constantia"/>
              </a:rPr>
              <a:t>polysaccharides</a:t>
            </a:r>
            <a:r>
              <a:rPr b="1" lang="en-GB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250920" y="980640"/>
            <a:ext cx="874872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0000"/>
                </a:solidFill>
                <a:latin typeface="Constantia"/>
              </a:rPr>
              <a:t>4- Coenzymes </a:t>
            </a:r>
            <a:r>
              <a:rPr b="0" lang="ar-SA" sz="2800" spc="-1" strike="noStrike">
                <a:solidFill>
                  <a:srgbClr val="000000"/>
                </a:solidFill>
                <a:latin typeface="Constantia"/>
              </a:rPr>
              <a:t>إنزيمات مساعدة/مُعِينة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Metabolism involves chemical reactions, most involve metabolic intermediates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</a:rPr>
              <a:t>وسطاء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called </a:t>
            </a:r>
            <a:r>
              <a:rPr b="1" lang="en-GB" sz="2000" spc="-1" strike="noStrike">
                <a:solidFill>
                  <a:srgbClr val="0000ff"/>
                </a:solidFill>
                <a:latin typeface="Constantia"/>
              </a:rPr>
              <a:t>coenzymes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Coenzymes are therefore continuously being made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</a:rPr>
              <a:t>تتكون باستمرار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, consumed 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</a:rPr>
              <a:t>وتستهلك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and then recycled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</a:rPr>
              <a:t>ويعاد تكوينها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One central coenzyme is adenosine triphosphate (</a:t>
            </a:r>
            <a:r>
              <a:rPr b="1" lang="en-GB" sz="2000" spc="-1" strike="noStrike">
                <a:solidFill>
                  <a:srgbClr val="0000ff"/>
                </a:solidFill>
                <a:latin typeface="Constantia"/>
              </a:rPr>
              <a:t>ATP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), the energy source of cells. and used to transfer chemical energy between different chemical reaction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Constantia"/>
              </a:rPr>
              <a:t>ATP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 acts as a bridge between </a:t>
            </a:r>
            <a:r>
              <a:rPr b="1" lang="en-GB" sz="2000" spc="-1" strike="noStrike">
                <a:solidFill>
                  <a:srgbClr val="0000ff"/>
                </a:solidFill>
                <a:latin typeface="Constantia"/>
              </a:rPr>
              <a:t>catabolism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 and </a:t>
            </a:r>
            <a:r>
              <a:rPr b="1" lang="en-GB" sz="2000" spc="-1" strike="noStrike">
                <a:solidFill>
                  <a:srgbClr val="0000ff"/>
                </a:solidFill>
                <a:latin typeface="Constantia"/>
              </a:rPr>
              <a:t>anabolism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, with catabolic reactions generating ATP and anabolic reactions consuming it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It also serves as a carrier of phosphate groups in phosphorylation 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</a:rPr>
              <a:t>تفاعلات الفسفرة</a:t>
            </a:r>
            <a:r>
              <a:rPr b="0" lang="en-GB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reaction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395280" y="1125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Constantia"/>
              </a:rPr>
              <a:t>5- Vitamine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Constantia"/>
              </a:rPr>
              <a:t>Vitamin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 is an organic compound needed in small quantities that cannot be made in the cell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In human nutrition, </a:t>
            </a:r>
            <a:r>
              <a:rPr b="1" lang="en-GB" sz="2000" spc="-1" strike="noStrike">
                <a:solidFill>
                  <a:srgbClr val="0000ff"/>
                </a:solidFill>
                <a:latin typeface="Constantia"/>
              </a:rPr>
              <a:t>most vitamins function as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GB" sz="2000" spc="-1" strike="noStrike">
                <a:solidFill>
                  <a:srgbClr val="0000ff"/>
                </a:solidFill>
                <a:latin typeface="Constantia"/>
              </a:rPr>
              <a:t>coenzymes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 after modification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Nicotinamide adenine dinucleotide (</a:t>
            </a:r>
            <a:r>
              <a:rPr b="1" lang="en-GB" sz="2000" spc="-1" strike="noStrike">
                <a:solidFill>
                  <a:srgbClr val="0000ff"/>
                </a:solidFill>
                <a:latin typeface="Constantia"/>
              </a:rPr>
              <a:t>NADH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), a derivative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</a:rPr>
              <a:t>مشتق من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of </a:t>
            </a:r>
            <a:r>
              <a:rPr b="1" lang="en-GB" sz="2000" spc="-1" strike="noStrike">
                <a:solidFill>
                  <a:srgbClr val="0000ff"/>
                </a:solidFill>
                <a:latin typeface="Constantia"/>
              </a:rPr>
              <a:t>vitamin B3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 (niacin), is an important coenzyme that acts as a hydrogen acceptor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</a:rPr>
              <a:t>مستقبل للهيدروجين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Constantia"/>
              </a:rPr>
              <a:t>NAD</a:t>
            </a:r>
            <a:r>
              <a:rPr b="1" lang="en-GB" sz="2000" spc="-1" strike="noStrike" baseline="30000">
                <a:solidFill>
                  <a:srgbClr val="0000ff"/>
                </a:solidFill>
                <a:latin typeface="Constantia"/>
              </a:rPr>
              <a:t>+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 exists in two related forms in the cell, </a:t>
            </a:r>
            <a:r>
              <a:rPr b="1" lang="en-GB" sz="2000" spc="-1" strike="noStrike">
                <a:solidFill>
                  <a:srgbClr val="0000ff"/>
                </a:solidFill>
                <a:latin typeface="Constantia"/>
              </a:rPr>
              <a:t>NADH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 and </a:t>
            </a:r>
            <a:r>
              <a:rPr b="1" lang="en-GB" sz="2000" spc="-1" strike="noStrike">
                <a:solidFill>
                  <a:srgbClr val="0000ff"/>
                </a:solidFill>
                <a:latin typeface="Constantia"/>
              </a:rPr>
              <a:t>NADPH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The </a:t>
            </a:r>
            <a:r>
              <a:rPr b="1" lang="en-GB" sz="2000" spc="-1" strike="noStrike">
                <a:solidFill>
                  <a:srgbClr val="0000ff"/>
                </a:solidFill>
                <a:latin typeface="Constantia"/>
              </a:rPr>
              <a:t>NAD</a:t>
            </a:r>
            <a:r>
              <a:rPr b="1" lang="en-GB" sz="2000" spc="-1" strike="noStrike" baseline="30000">
                <a:solidFill>
                  <a:srgbClr val="0000ff"/>
                </a:solidFill>
                <a:latin typeface="Constantia"/>
              </a:rPr>
              <a:t>+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/</a:t>
            </a:r>
            <a:r>
              <a:rPr b="1" lang="en-GB" sz="2000" spc="-1" strike="noStrike">
                <a:solidFill>
                  <a:srgbClr val="0000ff"/>
                </a:solidFill>
                <a:latin typeface="Constantia"/>
              </a:rPr>
              <a:t>NADH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 form is more important in </a:t>
            </a:r>
            <a:r>
              <a:rPr b="1" lang="en-GB" sz="2000" spc="-1" strike="noStrike">
                <a:solidFill>
                  <a:srgbClr val="0000ff"/>
                </a:solidFill>
                <a:latin typeface="Constantia"/>
              </a:rPr>
              <a:t>catabolic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 reactions, while </a:t>
            </a:r>
            <a:r>
              <a:rPr b="1" lang="en-GB" sz="2000" spc="-1" strike="noStrike">
                <a:solidFill>
                  <a:srgbClr val="0000ff"/>
                </a:solidFill>
                <a:latin typeface="Constantia"/>
              </a:rPr>
              <a:t>NADP+/NADPH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 is used in </a:t>
            </a:r>
            <a:r>
              <a:rPr b="1" lang="en-GB" sz="2000" spc="-1" strike="noStrike">
                <a:solidFill>
                  <a:srgbClr val="0000ff"/>
                </a:solidFill>
                <a:latin typeface="Constantia"/>
              </a:rPr>
              <a:t>anabolic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 reaction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395280" y="98064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Constantia"/>
              </a:rPr>
              <a:t>6- Minerals &amp; Cofactor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Constantia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Constantia"/>
              </a:rPr>
              <a:t>a)- element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nstantia"/>
              </a:rPr>
              <a:t>They are inorganic elements play important roles in metabolism; (e.g. sodium and potassium)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Constantia"/>
              </a:rPr>
              <a:t>About 99%</a:t>
            </a:r>
            <a:r>
              <a:rPr b="1" lang="en-GB" sz="1800" spc="-1" strike="noStrike">
                <a:solidFill>
                  <a:srgbClr val="000000"/>
                </a:solidFill>
                <a:latin typeface="Constantia"/>
              </a:rPr>
              <a:t> of mammals' mass </a:t>
            </a:r>
            <a:r>
              <a:rPr b="0" lang="ar-SA" sz="1600" spc="-1" strike="noStrike">
                <a:solidFill>
                  <a:srgbClr val="000000"/>
                </a:solidFill>
                <a:latin typeface="Constantia"/>
              </a:rPr>
              <a:t>وزن الجسم</a:t>
            </a:r>
            <a:r>
              <a:rPr b="1" lang="en-GB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Constantia"/>
              </a:rPr>
              <a:t>are the elements carbon, nitrogen, calcium, sodium, chlorine, potassium, hydrogen, phosphorus, oxygen and sulfur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nstantia"/>
              </a:rPr>
              <a:t>The organic compounds (proteins, lipids and carbohydrates) contain the majority of the carbon and nitrogen and most of the oxygen and hydrogen is present as water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Constantia"/>
              </a:rPr>
              <a:t>b)- ions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nstantia"/>
              </a:rPr>
              <a:t>The most important </a:t>
            </a:r>
            <a:r>
              <a:rPr b="1" lang="en-GB" sz="1800" spc="-1" strike="noStrike">
                <a:solidFill>
                  <a:srgbClr val="0000ff"/>
                </a:solidFill>
                <a:latin typeface="Constantia"/>
              </a:rPr>
              <a:t>inorganic</a:t>
            </a:r>
            <a:r>
              <a:rPr b="1" lang="en-GB" sz="1800" spc="-1" strike="noStrike">
                <a:solidFill>
                  <a:srgbClr val="000000"/>
                </a:solidFill>
                <a:latin typeface="Constantia"/>
              </a:rPr>
              <a:t> ions are sodium, potassium, calcium, magnesium, chloride, phosphate, and the organic ion bicarbonate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nstantia"/>
              </a:rPr>
              <a:t>These Ions are also critical for </a:t>
            </a:r>
            <a:r>
              <a:rPr b="1" lang="en-GB" sz="1800" spc="-1" strike="noStrike">
                <a:solidFill>
                  <a:srgbClr val="0000ff"/>
                </a:solidFill>
                <a:latin typeface="Constantia"/>
              </a:rPr>
              <a:t>nerves</a:t>
            </a:r>
            <a:r>
              <a:rPr b="1" lang="en-GB" sz="1800" spc="-1" strike="noStrike">
                <a:solidFill>
                  <a:srgbClr val="000000"/>
                </a:solidFill>
                <a:latin typeface="Constantia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Constantia"/>
              </a:rPr>
              <a:t>muscles</a:t>
            </a:r>
            <a:r>
              <a:rPr b="1" lang="en-GB" sz="18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618920" y="580680"/>
            <a:ext cx="554364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Catabolism 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</a:rPr>
              <a:t>الهدم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ff"/>
                </a:solidFill>
                <a:latin typeface="Calibri"/>
              </a:rPr>
              <a:t>&amp; Anabolism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</a:rPr>
              <a:t>البناء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383760" y="1496880"/>
            <a:ext cx="8435880" cy="528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Constantia"/>
              </a:rPr>
              <a:t>a)- Catabolism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onstantia"/>
              </a:rPr>
              <a:t>It is the metabolic processes that break down large molecules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onstantia"/>
              </a:rPr>
              <a:t>The purpose 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</a:rPr>
              <a:t>الهدف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</a:rPr>
              <a:t>of the catabolic reactions is to provide the energy and components needed by 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cell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onstantia"/>
              </a:rPr>
              <a:t>In animals these reactions involve complex organic molecules being broken down to simpler molecules, such as carbon dioxide and water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Constantia"/>
              </a:rPr>
              <a:t>b)- Anabolism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onstantia"/>
              </a:rPr>
              <a:t>It is the constructive 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</a:rPr>
              <a:t>البنائية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</a:rPr>
              <a:t>metabolic processes where the energy released by catabolism is used to synthesize  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</a:rPr>
              <a:t>لتكوين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</a:rPr>
              <a:t>complex molecules from small and simple components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onstantia"/>
              </a:rPr>
              <a:t>Anabolism involves three basic stages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Constant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ff"/>
                </a:solidFill>
                <a:latin typeface="Constantia"/>
              </a:rPr>
              <a:t>the production of components such as amino acids, monosaccharides, and fatty acids,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Constant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ff"/>
                </a:solidFill>
                <a:latin typeface="Constantia"/>
              </a:rPr>
              <a:t>their activation into reactive forms using energy from ATP,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Constant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ff"/>
                </a:solidFill>
                <a:latin typeface="Constantia"/>
              </a:rPr>
              <a:t>the assembly </a:t>
            </a:r>
            <a:r>
              <a:rPr b="1" lang="ar-SA" sz="1600" spc="-1" strike="noStrike">
                <a:solidFill>
                  <a:srgbClr val="000000"/>
                </a:solidFill>
                <a:latin typeface="Constantia"/>
              </a:rPr>
              <a:t>تركيب/تشكيل</a:t>
            </a:r>
            <a:r>
              <a:rPr b="1" lang="ar-SA" sz="1600" spc="-1" strike="noStrike">
                <a:solidFill>
                  <a:srgbClr val="0000ff"/>
                </a:solidFill>
                <a:latin typeface="Constantia"/>
              </a:rPr>
              <a:t> </a:t>
            </a:r>
            <a:r>
              <a:rPr b="1" lang="ar-SA" sz="1600" spc="-1" strike="noStrike">
                <a:solidFill>
                  <a:srgbClr val="0000ff"/>
                </a:solidFill>
                <a:latin typeface="Constantia"/>
              </a:rPr>
              <a:t>of these </a:t>
            </a:r>
            <a:r>
              <a:rPr b="1" lang="en-GB" sz="1600" spc="-1" strike="noStrike">
                <a:solidFill>
                  <a:srgbClr val="0000ff"/>
                </a:solidFill>
                <a:latin typeface="Constantia"/>
              </a:rPr>
              <a:t>components</a:t>
            </a:r>
            <a:r>
              <a:rPr b="1" lang="ar-SA" sz="1600" spc="-1" strike="noStrike">
                <a:solidFill>
                  <a:srgbClr val="0000ff"/>
                </a:solidFill>
                <a:latin typeface="Constantia"/>
              </a:rPr>
              <a:t> into complex molecules such as proteins, polysaccharides and lipids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7T18:35:35Z</dcterms:created>
  <dc:creator>aalii</dc:creator>
  <dc:description/>
  <dc:language>en-US</dc:language>
  <cp:lastModifiedBy>د أشرف مشالي</cp:lastModifiedBy>
  <dcterms:modified xsi:type="dcterms:W3CDTF">2013-09-02T10:28:07Z</dcterms:modified>
  <cp:revision>61</cp:revision>
  <dc:subject/>
  <dc:title>Principals of General Zoology (Zoo-103) </dc:title>
</cp:coreProperties>
</file>