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DAE-EC40-45A2-B258-4BD63B6D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164-537F-461A-8E36-311ADC67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536-F173-4410-BD4A-A76E6DD4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5D7-5092-44D3-B292-597B99ED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8556-9F88-4ADD-8F43-614FE76A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D11F-FD1D-4B88-AF01-CC1FB890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C96A-B4CF-4BE4-8B0E-6E59A626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853F-D6BD-41EE-B9A9-582DD2B6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FA61-3FFD-4C15-96BA-24444F63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B20B-8A8C-4E85-94F0-94B4D076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BD12-7579-4D48-A66D-4DB84837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EEA-3F04-48FC-B900-FCCF5A6B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BF62-06A2-46C6-A996-1B84A2EC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D519-E952-4B59-BF06-6F13CA44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23CD-4F89-43E2-B540-E9F4D2AE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BC7B-BD6C-4BD0-8C8F-EE940C17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F94F-D599-4D94-9EA1-B4CE28A5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71307-19AA-4764-A72E-98E58BC1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3E4B-0126-4273-B72E-745FD9BF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D1DE0-92B5-463F-B5DF-78248AFE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3D13A-5FB4-4BC9-ACA5-5A445CF0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26ED7-427F-49E2-95B3-78C22E93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805-6389-4A2C-BCD9-A305219C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40A7F-2DE6-413F-9DE6-E493CDA4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53DE-7C46-438C-80BA-9058DE4F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70146-76BD-44E3-953B-3A36723B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85220-5779-4776-84BE-0A11B047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3B4CB-1916-4027-9BB9-A60EF289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C335B-0A36-4B47-AC00-677B8254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1383F-A49D-46AE-AD79-C32AA259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10291-5228-4674-AFE2-3CECB63E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5E40E-997C-4DBB-9286-3132C59D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56337-7532-4351-B492-57D675DB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154-E103-432D-AB45-6FE007ED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73B0E-67B0-410C-AA5C-BA99BF78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B92F-B61A-49DE-B752-F603F6A9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1B23A-A6C2-40B8-A724-FD47A686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42B3F-E4EF-4B23-9209-63FDAF1B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55149-51A6-494B-B352-EC124595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CA7A1-326D-4980-8DC8-9CF25BE5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86654-59DF-4FA4-8200-442C4A29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E999D-960E-4A8F-B423-57E4C13B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35DC1-D476-4D54-AD3C-0DFA21F9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AD2-67F1-48C6-8795-A4B64C2E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709-A23C-4258-B5D6-5DC714E1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B0F-8379-497A-ABD6-6FEABFBF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3C0-DB7A-40DF-9380-859DD72E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9E8-F271-4444-BBC7-8E2E009B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E06F-F795-46C4-B091-A64CD8FC82C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9301-B6ED-4DB6-98A2-58A0FAB354F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86F6-26B4-4B9C-AAF2-B6499160352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73EE-497A-40AC-9A23-B06F1D57F3B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85680" y="1795320"/>
            <a:ext cx="37450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أيْض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25509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etabolism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e set of chemical reactions that occur in living organisms to maintain lif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حافظ على الحيا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These processes allow organisms to grow and reproduc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تناسل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, maintain their structures, and respond to their environm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Metabolism is usually divided into two categori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Cat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هدم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breaks down organic matter, for example to  produce energy in cellular respiration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An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بناء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nstructing </a:t>
            </a:r>
            <a:r>
              <a:rPr b="0" lang="ar-SA" sz="1600" spc="-1" strike="noStrike">
                <a:solidFill>
                  <a:srgbClr val="0000ff"/>
                </a:solidFill>
                <a:latin typeface="Constantia"/>
              </a:rPr>
              <a:t>بناء/تكوين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 of cells such as proteins and nucleic ac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Enzymes are important to metabolism because they act as catalysts to allow chemical reactions to proceed quickly and efficiently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785960" y="866880"/>
            <a:ext cx="535788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3: Animal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74640" y="907560"/>
            <a:ext cx="36097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الأيض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6836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Cat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هد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492300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An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ناء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547640" y="164952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Metabolism is the chemical reactions that occur in living organisms to maintain their life,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ow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produ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2"/>
          <p:cNvGrpSpPr/>
          <p:nvPr/>
        </p:nvGrpSpPr>
        <p:grpSpPr>
          <a:xfrm>
            <a:off x="2124000" y="2778120"/>
            <a:ext cx="4537080" cy="1225440"/>
            <a:chOff x="2124000" y="2778120"/>
            <a:chExt cx="4537080" cy="1225440"/>
          </a:xfrm>
        </p:grpSpPr>
        <p:sp>
          <p:nvSpPr>
            <p:cNvPr id="213" name="Line 15"/>
            <p:cNvSpPr/>
            <p:nvPr/>
          </p:nvSpPr>
          <p:spPr>
            <a:xfrm>
              <a:off x="4140000" y="2778120"/>
              <a:ext cx="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 flipH="1">
              <a:off x="2125080" y="3643200"/>
              <a:ext cx="453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7"/>
            <p:cNvSpPr/>
            <p:nvPr/>
          </p:nvSpPr>
          <p:spPr>
            <a:xfrm>
              <a:off x="212400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666108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9"/>
          <p:cNvSpPr/>
          <p:nvPr/>
        </p:nvSpPr>
        <p:spPr>
          <a:xfrm>
            <a:off x="468360" y="46864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break down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large molecules to provide energy and components needed for anabol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4716360" y="468648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constructive process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that uses energy formed by catabolism to synthesize complex molecules for make up cellular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23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Key Biomolecules In Metabolism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جزيئات الحيوية الأساسية في الأيض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ost of the structures that make up animals, plants and microbes are made from three basic types of molecul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d lipids (often called fat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s these molecules are important for life, metabolism focuses on utilizing these molecules in two way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in the construction of cells and tissue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تكوين الخلايا والأنسجة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or breaking them down and using them as a source of energy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كمصدر للطاق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se macromolecules are essential parts of all living organism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1912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1- Proteins: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e made 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mino aci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ranged in a linear chain and joined together by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eptide bon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any proteins are the enzymes that catalyz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ُسهِّـل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chemical reactions in metabol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ther proteins have structur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ركيب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mechanic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يكانيكي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unctions, such as the proteins that form the cytoskelet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eins are also important in cell signall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شارات الخلو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immune respons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ستجابات المناع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ctive transport across membran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نقل النشط خلال الأغش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485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onstantia"/>
              </a:rPr>
              <a:t>2- Lip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omposed of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three fatty ac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lycerol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construc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كوِّن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teroids such as cholesterol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3- Carbohydra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straight-chain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aldehydes or keton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with many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hydroxyl group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the most abundan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الأكثر توفرا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biological molecules, and found as storage for producing energy (e.g. glycogen) and structural components (cellulose in plants, chitin in anima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 basic carbohydrate units are calle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include galactose, fructose, and gluco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an be linked together to form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50920" y="98064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4- Coenzymes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إنزيمات مساعدة/مُعِين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etabolism involves chemical reactions, most involve metabolic intermediat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سطاء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oenzymes are therefore continuously being mad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تكون باستمرار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consumed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تستهلك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then recycle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يعاد تكوين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ne central coenzyme is adenosine triphosphat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the energy source of cells. and used to transfer chemical energy between different chemical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cts as a bridge betwee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with catabolic reactions generating ATP and anabolic reactions consuming 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 also serves as a carrier of phosphate groups in phosphorylation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فاعلات الفسفر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5- Vitam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Vitamin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an organic compound needed in small quantities that cannot be made in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n human nutrition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ost vitamins function a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fter modific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Nicotinamide adenine dinucleotid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a derivativ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شتق م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vitamin B3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(niacin), is an important coenzyme that acts as a hydrogen acceptor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ستقبل للهيدروجي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exists in two related forms in the cell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form is more important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, whil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+/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used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6- Minerals &amp; Cofact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)- elem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are inorganic elements play important roles in metabolism; (e.g. sodium and potassium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About 99%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of mammals' mas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وزن الجسم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re the elements carbon, nitrogen, calcium, sodium, chlorine, potassium, hydrogen, phosphorus, oxygen and sulfu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organic compounds (proteins, lipids and carbohydrates) contain the majority of the carbon and nitrogen and most of the oxygen and hydrogen is present as wa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)- 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most important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inorganic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ons are sodium, potassium, calcium, magnesium, chloride, phosphate, and the organic ion bicarbona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se Ions are also critical for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nerv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muscl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18920" y="580680"/>
            <a:ext cx="5543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Catabolism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هدم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&amp; Anabolism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ناء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3760" y="1496880"/>
            <a:ext cx="8435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a)- Cat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metabolic processes that break down large molecul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The purpos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هدف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of the catabolic reactions is to provide the energy and components needed by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n animals these reactions involve complex organic molecules being broken down to simpler molecules, such as carbon dioxide and wat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b)- An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constructiv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بنائي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metabolic processes where the energy released by catabolism is used to synthesize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لتكوين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complex molecules from small and simple component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Anabolism involves three basic stag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production of components such as amino acids, monosaccharides, and fatty acids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ir activation into reactive forms using energy from ATP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assembly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تركيب/تشكيل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of these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into complex molecules such as proteins, polysaccharides and lip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د أشرف مشالي</cp:lastModifiedBy>
  <dcterms:modified xsi:type="dcterms:W3CDTF">2013-09-02T10:28:07Z</dcterms:modified>
  <cp:revision>61</cp:revision>
  <dc:subject/>
  <dc:title>Principals of General Zoology (Zoo-103) </dc:title>
</cp:coreProperties>
</file>