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0AB7-3DF7-4DC9-9A42-FCD29032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1981-7D6E-4034-950A-BE3AB04F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F832-1C6D-4F42-BE75-8BB5622F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B746-EDE2-4888-8B60-5AEEA522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9CD6-99A3-4AB2-AC74-66F8B904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D499-4300-4991-9B7D-D691D02D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9482-8123-4EB3-A71E-785BA84F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B3F8-ABAC-42F4-9C74-76793A07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401B-DF67-4931-98DC-F86E748B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32A8-E5B0-4EB5-BE2A-6259C8DC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4CB1-3D29-4C7B-BF1C-69B6C94C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E607-7618-40C2-99F4-08B04FF3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1342-87CC-4CFB-AB64-986432F7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ABD8-7CED-4B37-9C32-EB2D4FCE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0335-81BE-42B1-BEEE-3E2A7BF8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0967-7621-4A64-AD8B-639FEADA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92D7-88D4-4115-A1D1-2E67143E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1D249-9E9C-49C8-834B-B3A483E4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98C04-F5C4-4D2C-9A20-C3E63590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B8939-21EF-447D-8782-05DFAFFF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0CE31-63E0-4BFE-804D-DB9386B9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86ABA-0965-443D-BFB9-1820E9F3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9BEF-E79D-4CCF-AD1E-B389A7E3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F51DB-8AC8-4ECE-B781-47310331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0AF38-29E6-40EE-A1FA-C785498F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46AB8-5F1E-41AB-80A8-BCBB1CB6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B376A-09F5-4B05-8262-F3EACC47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A0494-3955-4341-8AD1-B59EA2B7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D3D05-A1AD-4A7B-B4DB-7759D37B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15CD7-EA55-485B-AD56-F482BB52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339E8-520D-48CE-A6A6-67FE63C9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4C776-B383-4331-BA9F-36DE184D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35F88-3C65-4A09-BEA5-EBE43DF4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6E71-1778-4D07-8D49-57067BF9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D5C77-5985-4AAA-AE2D-EAE81BA1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E04A2-7F87-4263-B3FF-D505B464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2CFA5-9102-40C9-8FE6-94A1181E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D617D-75D3-4328-AF41-375976B4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5757B-B58F-4639-97DD-1C5D5554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C3525-FF2F-4F05-823F-49F1BFC0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ACD90-D8F2-4253-9EF6-E23AF132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C64D3-CF2F-4BF8-B602-D7A2F737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19527-6806-4416-BA57-59C05E41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E5AA-ED5A-48F5-B460-9D569AB8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9788-10E0-4AE5-858E-DC4E1469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BBDE-5BE1-4B38-A245-2AB6711B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29AF-A35A-4CED-9F32-8F233843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F614-4487-4D66-9D17-6F87820B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9B2A-A016-40EB-9686-1A6A44F284B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9DBE-0B69-4ED8-ABFC-4B323137FD13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C23C-6DAB-4268-BF37-51445739261D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E222-8B7B-4455-8A72-0A9DBD26B7A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85680" y="1795320"/>
            <a:ext cx="374508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ff"/>
                </a:solidFill>
                <a:uFillTx/>
                <a:latin typeface="Calibri"/>
              </a:rPr>
              <a:t>Metabolism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أيْض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8360" y="2550960"/>
            <a:ext cx="82296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Metabolism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s the set of chemical reactions that occur in living organisms to maintain life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يحافظ على الحياة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. These processes allow organisms to grow and reproduce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يتناسل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, maintain their structures, and respond to their environm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Metabolism is usually divided into two categori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Constantia"/>
              </a:rPr>
              <a:t>Catabolism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Constantia"/>
              </a:rPr>
              <a:t>;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هدم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breaks down organic matter, for example to  produce energy in cellular respiration</a:t>
            </a: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Constantia"/>
              </a:rPr>
              <a:t>Anabolism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Constantia"/>
              </a:rPr>
              <a:t>;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بناء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nstructing </a:t>
            </a:r>
            <a:r>
              <a:rPr b="0" lang="ar-SA" sz="1600" spc="-1" strike="noStrike">
                <a:solidFill>
                  <a:srgbClr val="0000ff"/>
                </a:solidFill>
                <a:latin typeface="Constantia"/>
              </a:rPr>
              <a:t>بناء/تكوين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mponents of cells such as proteins and nucleic ac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Enzymes are important to metabolism because they act as catalysts to allow chemical reactions to proceed quickly and efficiently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785960" y="866880"/>
            <a:ext cx="5357880" cy="56196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23: Animal phys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74640" y="907560"/>
            <a:ext cx="360972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Calibri"/>
              </a:rPr>
              <a:t>Metabolism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الأيض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468360" y="3981600"/>
            <a:ext cx="3322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Catabolis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هد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4923000" y="3981600"/>
            <a:ext cx="3322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Anabolis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بناء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1547640" y="1649520"/>
            <a:ext cx="51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Metabolism is the chemical reactions that occur in living organisms to maintain their life,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ow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reprodu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2"/>
          <p:cNvGrpSpPr/>
          <p:nvPr/>
        </p:nvGrpSpPr>
        <p:grpSpPr>
          <a:xfrm>
            <a:off x="2124000" y="2778120"/>
            <a:ext cx="4537080" cy="1225440"/>
            <a:chOff x="2124000" y="2778120"/>
            <a:chExt cx="4537080" cy="1225440"/>
          </a:xfrm>
        </p:grpSpPr>
        <p:sp>
          <p:nvSpPr>
            <p:cNvPr id="213" name="Line 15"/>
            <p:cNvSpPr/>
            <p:nvPr/>
          </p:nvSpPr>
          <p:spPr>
            <a:xfrm>
              <a:off x="4140000" y="2778120"/>
              <a:ext cx="0" cy="86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6"/>
            <p:cNvSpPr/>
            <p:nvPr/>
          </p:nvSpPr>
          <p:spPr>
            <a:xfrm flipH="1">
              <a:off x="2125080" y="3643200"/>
              <a:ext cx="453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7"/>
            <p:cNvSpPr/>
            <p:nvPr/>
          </p:nvSpPr>
          <p:spPr>
            <a:xfrm>
              <a:off x="2124000" y="364320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8"/>
            <p:cNvSpPr/>
            <p:nvPr/>
          </p:nvSpPr>
          <p:spPr>
            <a:xfrm>
              <a:off x="6661080" y="364320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9"/>
          <p:cNvSpPr/>
          <p:nvPr/>
        </p:nvSpPr>
        <p:spPr>
          <a:xfrm>
            <a:off x="468360" y="46864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Arial"/>
              </a:rPr>
              <a:t>break down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large molecules to provide energy and components needed for anabol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4716360" y="468648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Arial"/>
              </a:rPr>
              <a:t>constructive processe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that uses energy formed by catabolism to synthesize complex molecules for make up cellular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123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Key Biomolecules In Metabolism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جزيئات الحيوية الأساسية في الأيض</a:t>
            </a: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ost of the structures that make up animals, plants and microbes are made from three basic types of molecul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rotein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rbohydrat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d lipids (often called fats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s these molecules are important for life, metabolism focuses on utilizing these molecules in two way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in the construction of cells and tissue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تكوين الخلايا والأنسجة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or breaking them down and using them as a source of energy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كمصدر للطاقة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se macromolecules are essential parts of all living organism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1912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Important biochemical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nstantia"/>
              </a:rPr>
              <a:t>1- Proteins: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rotein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re made of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mino acid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rranged in a linear chain and joined together by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eptide bond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any proteins are the enzymes that catalyz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ُسهِّـل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chemical reactions in metabolis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ther proteins have structural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ركيب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 mechanical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يكانيكية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functions, such as the proteins that form the cytoskelet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teins are also important in cell signalling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إشارات الخلو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immune respons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إستجابات المناع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active transport across membran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نقل النشط خلال الأغش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Rectangle 217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48572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Constantia"/>
              </a:rPr>
              <a:t>2- Lip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Lipid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composed of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three fatty acid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glycerol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molecu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y construct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تكوِّن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art of the cell membra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y are a source of energ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Steroids such as cholesterol are another major class of lipids that are made in ce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3- Carbohydrat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Carbohydrat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re straight-chain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aldehydes or keton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with many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hydroxyl group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that can exist as straight chains or rin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Carbohydrat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re the most abundant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الأكثر توفرا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biological molecules, and found as storage for producing energy (e.g. glycogen) and structural components (cellulose in plants, chitin in animal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 basic carbohydrate units are called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mono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nd include galactose, fructose, and gluco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Mono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can be linked together to form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poly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250920" y="980640"/>
            <a:ext cx="8748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Constantia"/>
              </a:rPr>
              <a:t>4- Coenzymes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إنزيمات مساعدة/مُعِينة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etabolism involves chemical reactions, most involve metabolic intermediat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سطاء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oenzyme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oenzymes are therefore continuously being mad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تتكون باستمرار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consumed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تستهلك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nd then recycle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يعاد تكوينه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ne central coenzyme is adenosine triphosphate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, the energy source of cells. and used to transfer chemical energy between different chemical 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cts as a bridge betwee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tabolism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abolism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with catabolic reactions generating ATP and anabolic reactions consuming i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t also serves as a carrier of phosphate groups in phosphorylation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فاعلات الفسفرة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528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5- Vitami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Vitamin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s an organic compound needed in small quantities that cannot be made in the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n human nutrition,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most vitamins function a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oenzyme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fter modifica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Nicotinamide adenine dinucleotide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, a derivativ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شتق من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f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vitamin B3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(niacin), is an important coenzyme that acts as a hydrogen acceptor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ستقبل للهيدروجين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</a:t>
            </a:r>
            <a:r>
              <a:rPr b="1" lang="en-GB" sz="2000" spc="-1" strike="noStrike" baseline="30000">
                <a:solidFill>
                  <a:srgbClr val="0000ff"/>
                </a:solidFill>
                <a:latin typeface="Constantia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exists in two related forms in the cell,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</a:t>
            </a:r>
            <a:r>
              <a:rPr b="1" lang="en-GB" sz="2000" spc="-1" strike="noStrike" baseline="30000">
                <a:solidFill>
                  <a:srgbClr val="0000ff"/>
                </a:solidFill>
                <a:latin typeface="Constantia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form is more important i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tabol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reactions, while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P+/NAD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s used i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abol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9528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6- Minerals &amp; Cofacto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a)- elemen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y are inorganic elements play important roles in metabolism; (e.g. sodium and potassium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About 99%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of mammals' mas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وزن الجسم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are the elements carbon, nitrogen, calcium, sodium, chlorine, potassium, hydrogen, phosphorus, oxygen and sulfu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organic compounds (proteins, lipids and carbohydrates) contain the majority of the carbon and nitrogen and most of the oxygen and hydrogen is present as wat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b)- ion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most important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inorganic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ons are sodium, potassium, calcium, magnesium, chloride, phosphate, and the organic ion bicarbonat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se Ions are also critical for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nerve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muscle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18920" y="580680"/>
            <a:ext cx="55436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Catabolism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هدم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Calibri"/>
              </a:rPr>
              <a:t>&amp; Anabolism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بناء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3760" y="1496880"/>
            <a:ext cx="8435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a)- Catabolism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t is the metabolic processes that break down large molecul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The purpos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الهدف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of the catabolic reactions is to provide the energy and components needed by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ell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n animals these reactions involve complex organic molecules being broken down to simpler molecules, such as carbon dioxide and water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b)- Anabolism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t is the constructiv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البنائي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metabolic processes where the energy released by catabolism is used to synthesize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لتكوين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complex molecules from small and simple component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Anabolism involves three basic stag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 production of components such as amino acids, monosaccharides, and fatty acids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ir activation into reactive forms using energy from ATP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 assembly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تركيب/تشكيل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of these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mponents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into complex molecules such as proteins, polysaccharides and lip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8:35:35Z</dcterms:created>
  <dc:creator>aalii</dc:creator>
  <dc:description/>
  <dc:language>en-US</dc:language>
  <cp:lastModifiedBy>User</cp:lastModifiedBy>
  <dcterms:modified xsi:type="dcterms:W3CDTF">2014-08-27T10:36:43Z</dcterms:modified>
  <cp:revision>61</cp:revision>
  <dc:subject/>
  <dc:title>Principals of General Zoology (Zoo-103)</dc:title>
</cp:coreProperties>
</file>