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AFE-0574-4869-872B-6D3BA68F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44A-96B7-4E00-ADAC-8740577E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9D4-F38D-4EF9-9F8E-FC7CE4A1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8B1-E44A-4337-BD1E-C83D67FF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3A5D-E127-4EC3-B1E5-C2F12C8D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29C9-2ADC-43B1-A866-474FD9C4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6A3A-8FA7-4B6D-B886-214A8E69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D83A-BD87-45B1-A502-E946AF2D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AE5-E3E7-45AE-A837-37A835EF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B814-F0ED-4979-BC7D-F37CA97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2D45-B019-493B-839D-8A227BE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35D-2F7D-44A8-9E50-5C97660C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0877-24F3-447B-99B4-66F1BC05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5E72-E987-43F9-AED0-ABFFFB0E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3D85-575F-4D28-BA31-6137F6D9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BAAD-2F0B-48AD-BA2B-4DBCA1C4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FA29-FCDD-472D-93FE-44CA71E9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27B8-BA38-4DB4-B589-FB07F5E2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03F5F-F1E1-4D79-B09D-7524151C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A1F7-5B22-4D6A-9255-5873A74B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C5EA-DD72-4E5F-9CCC-E853AC4D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4941C-2C28-45E8-A31D-6A26FAED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832-BE8A-45CB-8575-D50B9173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092B-36D7-4604-8482-44AEC2F3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11BD-22CA-4830-B6AF-E9B29CFE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15A22-1763-4ADF-ADF3-1D766F8E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2EDAB-D436-455A-8BC2-69790935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90F8-333C-4555-A4FB-A4F973EF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DBF3-8B91-4FB0-85B1-93FE0912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CB8F9-C841-440D-81E9-4C1E1130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CB754-D38F-4059-BD38-9257C045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FC4EB-91FB-4B8A-87B0-EA16307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D3D00-7765-415D-930E-3FB16AA5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695-6A54-4A8D-8DFF-8AE74BE9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3155F-6546-4EDF-AA0F-10C999F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A3C2-B37C-4303-BB07-EF078595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C6432-F769-4402-933A-0EA9455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C4C7-BF7E-4BE5-B0BE-ACB9C94C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EAD2-D56E-47CE-B637-0F7CFC15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7F1E3-14A4-45CA-89F8-33FD9250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F7AA-4099-4568-9387-EAFFBFA5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9638-C459-43A6-82DA-4E9BFD03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2A29F-1CE5-4C5A-8784-4CB1A9EE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77A-D35E-4228-A992-4077E7E8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D42-6E55-4EBE-838B-9EE7E39A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767-20C9-4437-B3DC-159BE8D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73B-E93A-40F1-95DC-60E78DB3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84D-E553-4545-9CF7-26B3C38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87ED-6E4C-4BD0-9516-3812433D71E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0A32-5EF7-4551-A850-FD067C7896A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7E82-B08C-46E8-A58D-9D63B7BDB8B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5B34-348D-4EA3-AFEA-8CB26A3C762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4-08-27T10:36:43Z</dcterms:modified>
  <cp:revision>61</cp:revision>
  <dc:subject/>
  <dc:title>Principals of General Zoology (Zoo-103)</dc:title>
</cp:coreProperties>
</file>