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34F-6F03-4129-A8C6-618F3927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7F5-DEA2-4221-BAF9-19134F39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E0F-E9F5-4E5D-898B-12998DFD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2D2-2416-4D14-A572-13755901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5435-4ED1-4BD4-ACC6-62805706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DD1F-D3E7-4350-A7E6-78FA3EB4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61F6-F41F-42E2-90D8-19347EC9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7A84-9826-4DB8-B87D-6EB9CE6A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360-735D-46F2-8EDA-7E8EE7C3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99AA-FD20-4AA0-9A81-ABE67850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6E37-97D8-4939-9581-23FB6C1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DF6-4464-4330-81F7-E46D8141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46AA-5C80-43A5-8A0E-B3AC8A04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5015-4990-40F9-83C7-4930CE6A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2AED-FC09-4AFB-A5C7-668AC7F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384E-F524-4C35-90A5-B47CC4CF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D8D5-50DC-4DEF-9218-902B3BB9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27BB-33FC-49CB-9BF7-155FA9FA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273F-EC0F-46CC-A8BA-5C1B6293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4944-36A1-43AD-84A0-A593D3BD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4218-AADB-4E5D-BE7C-F1FE4D91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589F-4D39-4E4F-A744-4723DC2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A21-0B60-4AE1-A17C-1CC93B9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FDB9-B0A8-473F-A17B-DAAB6BC7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6762-FB34-4129-8CBE-B9671E6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C1CA-6C65-4104-93B7-4D09C91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013CE-69F0-4AFD-A6C9-6EC635D1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1D56-8CED-4D42-92C8-395B03F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1212-D7F1-4C76-A0F0-D205D91D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AE88E-BCAF-4A8A-8426-4140ECE0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17E5-2843-4098-97FD-9D94700B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3033-0531-4691-AB62-AA04EC63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820AB-6888-4391-829B-7E2874E3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B46-2EBE-497F-9F48-F63960D8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C359-17C0-4650-85E9-1AE7A8C3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A5B2B-2249-47B3-A281-B9DB525D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A77A-E758-4DF0-83ED-8B36FD16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BA4C2-5A28-4262-B910-493C76A0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18FD-64C0-4196-8C75-9D48EA7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4295-338B-455D-8905-F8F7C43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81B97-B8D4-4ACB-AFE7-1A716DB7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D6A2-4CF4-44FC-8475-1B36FFCC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E43B3-C5AD-471F-A17E-1B092D86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9B6-F617-49E7-882F-01144D2C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040-3BF1-49D5-8BA7-C50C505C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1AE-2A3F-4F86-919C-4382FCBD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2C2-AC68-411E-9AEC-B7E5B862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1ED-1AEE-4DD3-A915-07E70C8B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4F32-D8B2-403E-B00A-0ECCDE411F1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9F60-80FD-406F-B918-050EE4025DB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66FF-262F-47FE-A81B-B2FFBEE3E4A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03C4-CC57-4601-BED2-ABAF602CBFB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د أشرف مشالي</cp:lastModifiedBy>
  <dcterms:modified xsi:type="dcterms:W3CDTF">2013-09-02T10:28:07Z</dcterms:modified>
  <cp:revision>61</cp:revision>
  <dc:subject/>
  <dc:title>Principals of General Zoology (Zoo-103) </dc:title>
</cp:coreProperties>
</file>