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F3B-7615-4A10-B89D-B163B9F9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AAA5-30A8-442C-B6A4-C4EED7AD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E6E-11D1-4C47-A51F-15F5844A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4171-CE8A-470F-BA03-ADFD24C7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E6FB-BABC-4C29-92E3-2AC5F560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3CAE-3617-4491-95BE-9736D26E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FCCF-2710-4838-8F6A-53EFD1F8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4745-DE96-4AB9-84DD-F83CCC99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15D3-85D6-4694-8617-A2B7C52D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3065-F698-4DD7-9828-079B6F1F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70C7-08FD-4540-A9D8-CEDB77FC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F571-E271-4A17-90B0-C5619610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D394-3D2A-4098-AAD1-F7CFEDDF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B706-1679-4F9B-8743-98987BBD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63EC-7954-4201-926D-10AABC78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2EAA-03D3-4FAB-B80F-6C99F31A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C8B2-99A4-47E2-84A5-CF6D8C7C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3FC51-AF90-4D5F-A9DA-8D0A563E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449F6-4E63-4185-AEEC-60CF4EAA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5A661-175C-4348-92A8-5BB7BDBD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81614-1A43-4B45-94D7-98F569F6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9D76C-C7C7-419F-85A0-19A12FE7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A4A9-ABA4-46D1-8444-D10F47E8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34B4C-1865-4B1E-908A-82F5A3A2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FA5F4-ABB4-4C04-9097-ABB2C741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65283-09FC-4F4B-BC5D-C228F542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1E0A8-0B5E-4DF3-A0F7-3EA99154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9E31B-3EFB-4E28-A525-F7BE32FD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480EB-CD78-4B4A-93E9-C1184CF4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6359A-B982-44FB-90EB-EEFC8FB1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A5584-6CCC-493A-960C-3B55C5B1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047D6-ABC9-4477-868C-C2E307F5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BC5BE-E530-41EC-B218-14FBDADC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D9B-FEFD-4D69-B049-6A43F2F2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AA25B-CAAA-4F8F-A064-6E913127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1BC97-840C-475C-8A7A-B43AC18D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27CA2-1CD2-4AF2-908C-A41ECBA5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4651F-54C7-477C-B351-8D97B8D6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BEA12-8905-44C1-AD8A-3C3BDCD3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7E4C8-3FAA-4220-B0C3-353528C0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434BB-7137-40F7-A1B0-0326C698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A73CD-7DED-4374-82F9-D15ADE50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461AF-EFAD-4BB0-A76E-01EFF971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8A0-2D07-4234-B5AF-A04882BB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F091-19F2-4168-9517-069F7FC2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F6FE-BE76-45AC-BEE0-004DB7DD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1DE-CCC1-4A42-BB3C-56D8757C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2F3-3495-4C9D-B5A8-D3219405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9DBC-9CF9-436D-B230-96DC78F8418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F3C7-1520-469D-BF20-23B2A35F3E44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9846-69FA-47D8-ACA5-33E0B45E522B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5534-F9EA-4124-8BC9-461CF49A5B3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85680" y="1795320"/>
            <a:ext cx="374508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أيْض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8360" y="255096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etabolism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e set of chemical reactions that occur in living organisms to maintain lif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حافظ على الحيا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 These processes allow organisms to grow and reproduc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تناسل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, maintain their structures, and respond to their environm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Metabolism is usually divided into two categori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Cat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هدم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breaks down organic matter, for example to  produce energy in cellular respiration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An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بناء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nstructing </a:t>
            </a:r>
            <a:r>
              <a:rPr b="0" lang="ar-SA" sz="1600" spc="-1" strike="noStrike">
                <a:solidFill>
                  <a:srgbClr val="0000ff"/>
                </a:solidFill>
                <a:latin typeface="Constantia"/>
              </a:rPr>
              <a:t>بناء/تكوين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 of cells such as proteins and nucleic ac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Enzymes are important to metabolism because they act as catalysts to allow chemical reactions to proceed quickly and efficiently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785960" y="866880"/>
            <a:ext cx="5357880" cy="56196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3: Animal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74640" y="907560"/>
            <a:ext cx="360972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الأيض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46836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Cat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هد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492300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An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بناء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1547640" y="1649520"/>
            <a:ext cx="51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Metabolism is the chemical reactions that occur in living organisms to maintain their life,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ow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eprodu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2"/>
          <p:cNvGrpSpPr/>
          <p:nvPr/>
        </p:nvGrpSpPr>
        <p:grpSpPr>
          <a:xfrm>
            <a:off x="2124000" y="2778120"/>
            <a:ext cx="4537080" cy="1225440"/>
            <a:chOff x="2124000" y="2778120"/>
            <a:chExt cx="4537080" cy="1225440"/>
          </a:xfrm>
        </p:grpSpPr>
        <p:sp>
          <p:nvSpPr>
            <p:cNvPr id="213" name="Line 15"/>
            <p:cNvSpPr/>
            <p:nvPr/>
          </p:nvSpPr>
          <p:spPr>
            <a:xfrm>
              <a:off x="4140000" y="2778120"/>
              <a:ext cx="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 flipH="1">
              <a:off x="2125080" y="3643200"/>
              <a:ext cx="453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7"/>
            <p:cNvSpPr/>
            <p:nvPr/>
          </p:nvSpPr>
          <p:spPr>
            <a:xfrm>
              <a:off x="212400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8"/>
            <p:cNvSpPr/>
            <p:nvPr/>
          </p:nvSpPr>
          <p:spPr>
            <a:xfrm>
              <a:off x="666108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9"/>
          <p:cNvSpPr/>
          <p:nvPr/>
        </p:nvSpPr>
        <p:spPr>
          <a:xfrm>
            <a:off x="468360" y="46864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break down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large molecules to provide energy and components needed for anabol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4716360" y="468648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constructive processe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that uses energy formed by catabolism to synthesize complex molecules for make up cellular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123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Key Biomolecules In Metabolism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جزيئات الحيوية الأساسية في الأيض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ost of the structures that make up animals, plants and microbes are made from three basic types of molecul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d lipids (often called fats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s these molecules are important for life, metabolism focuses on utilizing these molecules in two way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in the construction of cells and tissue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تكوين الخلايا والأنسجة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or breaking them down and using them as a source of energy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كمصدر للطاق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se macromolecules are essential parts of all living organism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1912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Important biochemical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nstantia"/>
              </a:rPr>
              <a:t>1- Proteins: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e made 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mino aci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ranged in a linear chain and joined together by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eptide bon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any proteins are the enzymes that catalyz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ُسهِّـل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chemical reactions in metabol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ther proteins have structur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ركيب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 mechanic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يكانيكي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functions, such as the proteins that form the cytoskelet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teins are also important in cell signall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شارات الخلو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immune respons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ستجابات المناع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ctive transport across membran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نقل النشط خلال الأغش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Rectangle 21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48572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Constantia"/>
              </a:rPr>
              <a:t>2- Lip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omposed of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three fatty ac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glycerol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construc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كوِّن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art of the cell membra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are a source of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teroids such as cholesterol are another major class of lipids that are made in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3- Carbohydrat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straight-chain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aldehydes or keton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with many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hydroxyl group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that can exist as straight chains or rin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the most abundan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الأكثر توفرا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biological molecules, and found as storage for producing energy (e.g. glycogen) and structural components (cellulose in plants, chitin in animal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 basic carbohydrate units are calle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include galactose, fructose, and gluco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an be linked together to form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poly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50920" y="980640"/>
            <a:ext cx="874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4- Coenzymes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إنزيمات مساعدة/مُعِينة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etabolism involves chemical reactions, most involve metabolic intermediat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سطاء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oenzymes are therefore continuously being mad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تكون باستمرار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consumed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تستهلك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then recycle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يعاد تكوينه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ne central coenzyme is adenosine triphosphat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the energy source of cells. and used to transfer chemical energy between different chemical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cts as a bridge betwee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with catabolic reactions generating ATP and anabolic reactions consuming i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 also serves as a carrier of phosphate groups in phosphorylation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فاعلات الفسفر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5- Vitami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Vitamin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an organic compound needed in small quantities that cannot be made in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n human nutrition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ost vitamins function a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fter modific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Nicotinamide adenine dinucleotid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a derivativ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شتق م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vitamin B3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(niacin), is an important coenzyme that acts as a hydrogen acceptor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ستقبل للهيدروجي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exists in two related forms in the cell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form is more important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, whil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+/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used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6- Minerals &amp; Cofacto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)- elem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y are inorganic elements play important roles in metabolism; (e.g. sodium and potassium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About 99%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of mammals' mas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وزن الجسم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re the elements carbon, nitrogen, calcium, sodium, chlorine, potassium, hydrogen, phosphorus, oxygen and sulfu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organic compounds (proteins, lipids and carbohydrates) contain the majority of the carbon and nitrogen and most of the oxygen and hydrogen is present as wat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)- io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most important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inorganic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ons are sodium, potassium, calcium, magnesium, chloride, phosphate, and the organic ion bicarbonat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se Ions are also critical for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nerv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muscl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18920" y="580680"/>
            <a:ext cx="55436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Catabolism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هدم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&amp; Anabolism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بناء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3760" y="1496880"/>
            <a:ext cx="8435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a)- Cat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metabolic processes that break down large molecul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The purpos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هدف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of the catabolic reactions is to provide the energy and components needed by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ell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n animals these reactions involve complex organic molecules being broken down to simpler molecules, such as carbon dioxide and wat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b)- An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constructiv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بنائي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metabolic processes where the energy released by catabolism is used to synthesize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لتكوين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complex molecules from small and simple component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Anabolism involves three basic stag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production of components such as amino acids, monosaccharides, and fatty acids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ir activation into reactive forms using energy from ATP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assembly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تركيب/تشكيل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of these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into complex molecules such as proteins, polysaccharides and lip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35:35Z</dcterms:created>
  <dc:creator>aalii</dc:creator>
  <dc:description/>
  <dc:language>en-US</dc:language>
  <cp:lastModifiedBy>د أشرف مشالي</cp:lastModifiedBy>
  <dcterms:modified xsi:type="dcterms:W3CDTF">2013-09-02T10:28:07Z</dcterms:modified>
  <cp:revision>61</cp:revision>
  <dc:subject/>
  <dc:title>Principals of General Zoology (Zoo-103) </dc:title>
</cp:coreProperties>
</file>